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610-E8F2-4263-AA9C-6B198250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BEF-F972-4F90-846B-1AE29BF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B2D-368D-4E78-9080-FB97E37A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299-4713-43C2-A7F4-59E631D5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724-598A-40C1-9884-A5E30410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82F-FD7B-4212-BDEF-41E617C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4A4-65CA-4247-8564-32A4968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F3A-7FE7-4AEA-A53E-23DEF06A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C4B-2F58-454A-B695-0A26ECD6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4E0-6371-4EA9-8357-86736EF7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AD8-878E-4676-8807-6437B1F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F40-CF2B-4D83-9947-F40EB5D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FDD3-046A-40FE-ADDD-37F907FC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4: 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swine flu virus tripled in the number of infected patients every week.  If there were only 7 people infected on May 1st, how many people in the US had the virus by June 1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nt: Assume there are 4 weeks in a 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the eq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 growth or dec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581280" y="4495680"/>
                <a:ext cx="2667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Ink 5"/>
          <p:cNvSpPr/>
          <p:nvPr/>
        </p:nvSpPr>
        <p:spPr>
          <a:xfrm>
            <a:off x="2035080" y="2982960"/>
            <a:ext cx="1393920" cy="743040"/>
          </a:xfrm>
          <a:custGeom>
            <a:avLst/>
            <a:gdLst/>
            <a:ahLst/>
            <a:rect l="l" t="t" r="r" b="b"/>
            <a:pathLst>
              <a:path w="3874" h="2064">
                <a:moveTo>
                  <a:pt x="5747" y="8572"/>
                </a:moveTo>
                <a:cubicBezTo>
                  <a:pt x="5747" y="8615"/>
                  <a:pt x="5747" y="8593"/>
                  <a:pt x="5747" y="8636"/>
                </a:cubicBezTo>
                <a:cubicBezTo>
                  <a:pt x="5747" y="8715"/>
                  <a:pt x="5719" y="8777"/>
                  <a:pt x="5715" y="8858"/>
                </a:cubicBezTo>
                <a:cubicBezTo>
                  <a:pt x="5711" y="8928"/>
                  <a:pt x="5688" y="8979"/>
                  <a:pt x="5683" y="9049"/>
                </a:cubicBezTo>
                <a:cubicBezTo>
                  <a:pt x="5683" y="9059"/>
                  <a:pt x="5683" y="9070"/>
                  <a:pt x="5683" y="9080"/>
                </a:cubicBezTo>
                <a:cubicBezTo>
                  <a:pt x="5683" y="8906"/>
                  <a:pt x="5676" y="8737"/>
                  <a:pt x="5652" y="8572"/>
                </a:cubicBezTo>
                <a:cubicBezTo>
                  <a:pt x="5646" y="8534"/>
                  <a:pt x="5652" y="8486"/>
                  <a:pt x="5652" y="8446"/>
                </a:cubicBezTo>
                <a:cubicBezTo>
                  <a:pt x="5701" y="8452"/>
                  <a:pt x="5740" y="8470"/>
                  <a:pt x="5778" y="8477"/>
                </a:cubicBezTo>
                <a:cubicBezTo>
                  <a:pt x="5913" y="8503"/>
                  <a:pt x="6096" y="8485"/>
                  <a:pt x="6223" y="8446"/>
                </a:cubicBezTo>
                <a:cubicBezTo>
                  <a:pt x="6334" y="8412"/>
                  <a:pt x="6457" y="8388"/>
                  <a:pt x="6572" y="8382"/>
                </a:cubicBezTo>
                <a:cubicBezTo>
                  <a:pt x="6625" y="8379"/>
                  <a:pt x="6678" y="8382"/>
                  <a:pt x="6731" y="8382"/>
                </a:cubicBezTo>
                <a:cubicBezTo>
                  <a:pt x="6731" y="8515"/>
                  <a:pt x="6737" y="8635"/>
                  <a:pt x="6699" y="8763"/>
                </a:cubicBezTo>
                <a:cubicBezTo>
                  <a:pt x="6656" y="8911"/>
                  <a:pt x="6659" y="9057"/>
                  <a:pt x="6636" y="9208"/>
                </a:cubicBezTo>
                <a:cubicBezTo>
                  <a:pt x="6609" y="9385"/>
                  <a:pt x="6606" y="9573"/>
                  <a:pt x="6572" y="9747"/>
                </a:cubicBezTo>
                <a:cubicBezTo>
                  <a:pt x="6552" y="9851"/>
                  <a:pt x="6499" y="10029"/>
                  <a:pt x="6509" y="10128"/>
                </a:cubicBezTo>
                <a:cubicBezTo>
                  <a:pt x="6534" y="10180"/>
                  <a:pt x="6545" y="10189"/>
                  <a:pt x="6540" y="10224"/>
                </a:cubicBezTo>
              </a:path>
              <a:path w="3874" h="2064">
                <a:moveTo>
                  <a:pt x="7239" y="9366"/>
                </a:moveTo>
                <a:cubicBezTo>
                  <a:pt x="7222" y="9314"/>
                  <a:pt x="7208" y="9341"/>
                  <a:pt x="7176" y="9366"/>
                </a:cubicBezTo>
                <a:cubicBezTo>
                  <a:pt x="7145" y="9390"/>
                  <a:pt x="7078" y="9524"/>
                  <a:pt x="7080" y="9525"/>
                </a:cubicBezTo>
                <a:cubicBezTo>
                  <a:pt x="7107" y="9545"/>
                  <a:pt x="7168" y="9421"/>
                  <a:pt x="7176" y="9398"/>
                </a:cubicBezTo>
                <a:cubicBezTo>
                  <a:pt x="7176" y="9366"/>
                  <a:pt x="7176" y="9355"/>
                  <a:pt x="7176" y="9334"/>
                </a:cubicBezTo>
                <a:cubicBezTo>
                  <a:pt x="7157" y="9392"/>
                  <a:pt x="7125" y="9370"/>
                  <a:pt x="7112" y="9462"/>
                </a:cubicBezTo>
                <a:cubicBezTo>
                  <a:pt x="7159" y="9438"/>
                  <a:pt x="7182" y="9385"/>
                  <a:pt x="7239" y="9366"/>
                </a:cubicBezTo>
                <a:cubicBezTo>
                  <a:pt x="7271" y="9355"/>
                  <a:pt x="7217" y="9390"/>
                  <a:pt x="7207" y="9462"/>
                </a:cubicBezTo>
                <a:cubicBezTo>
                  <a:pt x="7166" y="9462"/>
                  <a:pt x="7220" y="9395"/>
                  <a:pt x="7271" y="9366"/>
                </a:cubicBezTo>
                <a:cubicBezTo>
                  <a:pt x="7310" y="9344"/>
                  <a:pt x="7302" y="9362"/>
                  <a:pt x="7302" y="9303"/>
                </a:cubicBezTo>
                <a:cubicBezTo>
                  <a:pt x="7253" y="9315"/>
                  <a:pt x="7234" y="9345"/>
                  <a:pt x="7207" y="9366"/>
                </a:cubicBezTo>
                <a:cubicBezTo>
                  <a:pt x="7192" y="9377"/>
                  <a:pt x="7148" y="9500"/>
                  <a:pt x="7239" y="9398"/>
                </a:cubicBezTo>
                <a:cubicBezTo>
                  <a:pt x="7276" y="9356"/>
                  <a:pt x="7332" y="9354"/>
                  <a:pt x="7302" y="9366"/>
                </a:cubicBezTo>
                <a:cubicBezTo>
                  <a:pt x="7231" y="9395"/>
                  <a:pt x="7239" y="9409"/>
                  <a:pt x="7239" y="9493"/>
                </a:cubicBezTo>
              </a:path>
              <a:path w="3874" h="2064">
                <a:moveTo>
                  <a:pt x="7779" y="8572"/>
                </a:moveTo>
                <a:cubicBezTo>
                  <a:pt x="7817" y="8496"/>
                  <a:pt x="7751" y="8515"/>
                  <a:pt x="7874" y="8509"/>
                </a:cubicBezTo>
                <a:cubicBezTo>
                  <a:pt x="8017" y="8502"/>
                  <a:pt x="8152" y="8495"/>
                  <a:pt x="8287" y="8477"/>
                </a:cubicBezTo>
                <a:cubicBezTo>
                  <a:pt x="8333" y="8471"/>
                  <a:pt x="8493" y="8488"/>
                  <a:pt x="8541" y="8509"/>
                </a:cubicBezTo>
                <a:cubicBezTo>
                  <a:pt x="8551" y="8520"/>
                  <a:pt x="8562" y="8530"/>
                  <a:pt x="8572" y="8541"/>
                </a:cubicBezTo>
                <a:cubicBezTo>
                  <a:pt x="8548" y="8584"/>
                  <a:pt x="8507" y="8622"/>
                  <a:pt x="8477" y="8668"/>
                </a:cubicBezTo>
                <a:cubicBezTo>
                  <a:pt x="8431" y="8740"/>
                  <a:pt x="8389" y="8812"/>
                  <a:pt x="8350" y="8890"/>
                </a:cubicBezTo>
                <a:cubicBezTo>
                  <a:pt x="8321" y="8947"/>
                  <a:pt x="8238" y="9024"/>
                  <a:pt x="8223" y="9080"/>
                </a:cubicBezTo>
                <a:cubicBezTo>
                  <a:pt x="8205" y="9146"/>
                  <a:pt x="8209" y="9235"/>
                  <a:pt x="8128" y="9271"/>
                </a:cubicBezTo>
                <a:cubicBezTo>
                  <a:pt x="8117" y="9271"/>
                  <a:pt x="8107" y="9271"/>
                  <a:pt x="8096" y="9271"/>
                </a:cubicBezTo>
                <a:cubicBezTo>
                  <a:pt x="8114" y="9257"/>
                  <a:pt x="8156" y="9218"/>
                  <a:pt x="8192" y="9208"/>
                </a:cubicBezTo>
                <a:cubicBezTo>
                  <a:pt x="8228" y="9198"/>
                  <a:pt x="8352" y="9169"/>
                  <a:pt x="8382" y="9176"/>
                </a:cubicBezTo>
                <a:cubicBezTo>
                  <a:pt x="8439" y="9189"/>
                  <a:pt x="8494" y="9228"/>
                  <a:pt x="8541" y="9271"/>
                </a:cubicBezTo>
                <a:cubicBezTo>
                  <a:pt x="8602" y="9327"/>
                  <a:pt x="8656" y="9374"/>
                  <a:pt x="8668" y="9462"/>
                </a:cubicBezTo>
                <a:cubicBezTo>
                  <a:pt x="8680" y="9555"/>
                  <a:pt x="8689" y="9656"/>
                  <a:pt x="8700" y="9747"/>
                </a:cubicBezTo>
                <a:cubicBezTo>
                  <a:pt x="8711" y="9841"/>
                  <a:pt x="8679" y="10010"/>
                  <a:pt x="8636" y="10096"/>
                </a:cubicBezTo>
                <a:cubicBezTo>
                  <a:pt x="8595" y="10177"/>
                  <a:pt x="8542" y="10232"/>
                  <a:pt x="8477" y="10287"/>
                </a:cubicBezTo>
                <a:cubicBezTo>
                  <a:pt x="8376" y="10372"/>
                  <a:pt x="8249" y="10353"/>
                  <a:pt x="8128" y="10319"/>
                </a:cubicBezTo>
                <a:cubicBezTo>
                  <a:pt x="8039" y="10294"/>
                  <a:pt x="7833" y="10203"/>
                  <a:pt x="7779" y="10128"/>
                </a:cubicBezTo>
                <a:cubicBezTo>
                  <a:pt x="7737" y="10069"/>
                  <a:pt x="7752" y="10034"/>
                  <a:pt x="7747" y="9970"/>
                </a:cubicBezTo>
                <a:cubicBezTo>
                  <a:pt x="7747" y="9959"/>
                  <a:pt x="7747" y="9949"/>
                  <a:pt x="7747" y="9938"/>
                </a:cubicBezTo>
                <a:cubicBezTo>
                  <a:pt x="7768" y="9959"/>
                  <a:pt x="7805" y="9996"/>
                  <a:pt x="7842" y="10033"/>
                </a:cubicBezTo>
                <a:cubicBezTo>
                  <a:pt x="7902" y="10092"/>
                  <a:pt x="7920" y="10107"/>
                  <a:pt x="7938" y="10160"/>
                </a:cubicBezTo>
              </a:path>
              <a:path w="3874" h="2064">
                <a:moveTo>
                  <a:pt x="9176" y="8382"/>
                </a:moveTo>
                <a:cubicBezTo>
                  <a:pt x="9196" y="8460"/>
                  <a:pt x="9191" y="8466"/>
                  <a:pt x="9176" y="8541"/>
                </a:cubicBezTo>
                <a:cubicBezTo>
                  <a:pt x="9161" y="8613"/>
                  <a:pt x="9170" y="8728"/>
                  <a:pt x="9144" y="8795"/>
                </a:cubicBezTo>
                <a:cubicBezTo>
                  <a:pt x="9120" y="8856"/>
                  <a:pt x="9100" y="8901"/>
                  <a:pt x="9049" y="8954"/>
                </a:cubicBezTo>
                <a:cubicBezTo>
                  <a:pt x="9061" y="8917"/>
                  <a:pt x="9092" y="8896"/>
                  <a:pt x="9144" y="8890"/>
                </a:cubicBezTo>
                <a:cubicBezTo>
                  <a:pt x="9214" y="8882"/>
                  <a:pt x="9455" y="8935"/>
                  <a:pt x="9493" y="8858"/>
                </a:cubicBezTo>
                <a:cubicBezTo>
                  <a:pt x="9515" y="8813"/>
                  <a:pt x="9517" y="8786"/>
                  <a:pt x="9525" y="8731"/>
                </a:cubicBezTo>
              </a:path>
              <a:path w="3874" h="2064">
                <a:moveTo>
                  <a:pt x="9398" y="8287"/>
                </a:moveTo>
                <a:cubicBezTo>
                  <a:pt x="9398" y="8389"/>
                  <a:pt x="9377" y="8475"/>
                  <a:pt x="9366" y="8572"/>
                </a:cubicBezTo>
                <a:cubicBezTo>
                  <a:pt x="9329" y="8902"/>
                  <a:pt x="9366" y="9256"/>
                  <a:pt x="9366" y="9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6"/>
          <p:cNvSpPr/>
          <p:nvPr/>
        </p:nvSpPr>
        <p:spPr>
          <a:xfrm>
            <a:off x="3646440" y="3325680"/>
            <a:ext cx="320760" cy="241560"/>
          </a:xfrm>
          <a:custGeom>
            <a:avLst/>
            <a:gdLst/>
            <a:ahLst/>
            <a:rect l="l" t="t" r="r" b="b"/>
            <a:pathLst>
              <a:path w="890" h="668">
                <a:moveTo>
                  <a:pt x="10192" y="9366"/>
                </a:moveTo>
                <a:cubicBezTo>
                  <a:pt x="10252" y="9261"/>
                  <a:pt x="10321" y="9251"/>
                  <a:pt x="10446" y="9239"/>
                </a:cubicBezTo>
                <a:cubicBezTo>
                  <a:pt x="10609" y="9224"/>
                  <a:pt x="10801" y="9238"/>
                  <a:pt x="10954" y="9303"/>
                </a:cubicBezTo>
                <a:cubicBezTo>
                  <a:pt x="10983" y="9331"/>
                  <a:pt x="10989" y="9341"/>
                  <a:pt x="11017" y="9334"/>
                </a:cubicBezTo>
              </a:path>
              <a:path w="890" h="668">
                <a:moveTo>
                  <a:pt x="10128" y="9906"/>
                </a:moveTo>
                <a:cubicBezTo>
                  <a:pt x="10204" y="9887"/>
                  <a:pt x="10214" y="9848"/>
                  <a:pt x="10287" y="9811"/>
                </a:cubicBezTo>
                <a:cubicBezTo>
                  <a:pt x="10427" y="9741"/>
                  <a:pt x="10640" y="9700"/>
                  <a:pt x="10795" y="9716"/>
                </a:cubicBezTo>
                <a:cubicBezTo>
                  <a:pt x="10881" y="9725"/>
                  <a:pt x="10943" y="9747"/>
                  <a:pt x="11017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7"/>
          <p:cNvSpPr/>
          <p:nvPr/>
        </p:nvSpPr>
        <p:spPr>
          <a:xfrm>
            <a:off x="4286160" y="3097080"/>
            <a:ext cx="2971800" cy="1086120"/>
          </a:xfrm>
          <a:custGeom>
            <a:avLst/>
            <a:gdLst/>
            <a:ahLst/>
            <a:rect l="l" t="t" r="r" b="b"/>
            <a:pathLst>
              <a:path w="8256" h="3017">
                <a:moveTo>
                  <a:pt x="12922" y="8604"/>
                </a:moveTo>
                <a:cubicBezTo>
                  <a:pt x="12877" y="8627"/>
                  <a:pt x="12813" y="8647"/>
                  <a:pt x="12764" y="8668"/>
                </a:cubicBezTo>
                <a:cubicBezTo>
                  <a:pt x="12682" y="8703"/>
                  <a:pt x="12623" y="8735"/>
                  <a:pt x="12541" y="8763"/>
                </a:cubicBezTo>
                <a:cubicBezTo>
                  <a:pt x="12453" y="8793"/>
                  <a:pt x="12283" y="8846"/>
                  <a:pt x="12192" y="8826"/>
                </a:cubicBezTo>
                <a:cubicBezTo>
                  <a:pt x="12129" y="8812"/>
                  <a:pt x="12026" y="8791"/>
                  <a:pt x="11970" y="8763"/>
                </a:cubicBezTo>
                <a:cubicBezTo>
                  <a:pt x="11965" y="8760"/>
                  <a:pt x="11945" y="8706"/>
                  <a:pt x="11938" y="8700"/>
                </a:cubicBezTo>
                <a:cubicBezTo>
                  <a:pt x="11938" y="8773"/>
                  <a:pt x="11959" y="8823"/>
                  <a:pt x="11970" y="8890"/>
                </a:cubicBezTo>
                <a:cubicBezTo>
                  <a:pt x="11998" y="9060"/>
                  <a:pt x="11970" y="9463"/>
                  <a:pt x="11970" y="9525"/>
                </a:cubicBezTo>
                <a:cubicBezTo>
                  <a:pt x="12019" y="9462"/>
                  <a:pt x="12045" y="9389"/>
                  <a:pt x="12097" y="9334"/>
                </a:cubicBezTo>
                <a:cubicBezTo>
                  <a:pt x="12160" y="9268"/>
                  <a:pt x="12359" y="9192"/>
                  <a:pt x="12446" y="9208"/>
                </a:cubicBezTo>
                <a:cubicBezTo>
                  <a:pt x="12540" y="9225"/>
                  <a:pt x="12637" y="9310"/>
                  <a:pt x="12668" y="9398"/>
                </a:cubicBezTo>
                <a:cubicBezTo>
                  <a:pt x="12725" y="9556"/>
                  <a:pt x="12753" y="9739"/>
                  <a:pt x="12732" y="9906"/>
                </a:cubicBezTo>
                <a:cubicBezTo>
                  <a:pt x="12713" y="10059"/>
                  <a:pt x="12675" y="10274"/>
                  <a:pt x="12605" y="10414"/>
                </a:cubicBezTo>
                <a:cubicBezTo>
                  <a:pt x="12560" y="10504"/>
                  <a:pt x="12488" y="10639"/>
                  <a:pt x="12382" y="10668"/>
                </a:cubicBezTo>
                <a:cubicBezTo>
                  <a:pt x="12301" y="10691"/>
                  <a:pt x="12192" y="10654"/>
                  <a:pt x="12128" y="10604"/>
                </a:cubicBezTo>
                <a:cubicBezTo>
                  <a:pt x="12016" y="10517"/>
                  <a:pt x="11994" y="10479"/>
                  <a:pt x="11938" y="10350"/>
                </a:cubicBezTo>
                <a:cubicBezTo>
                  <a:pt x="11900" y="10261"/>
                  <a:pt x="11906" y="10194"/>
                  <a:pt x="11906" y="10096"/>
                </a:cubicBezTo>
              </a:path>
              <a:path w="8256" h="3017">
                <a:moveTo>
                  <a:pt x="13144" y="8890"/>
                </a:moveTo>
                <a:cubicBezTo>
                  <a:pt x="13118" y="8995"/>
                  <a:pt x="13083" y="9075"/>
                  <a:pt x="13049" y="9176"/>
                </a:cubicBezTo>
                <a:cubicBezTo>
                  <a:pt x="12997" y="9329"/>
                  <a:pt x="13015" y="9497"/>
                  <a:pt x="12986" y="9652"/>
                </a:cubicBezTo>
                <a:cubicBezTo>
                  <a:pt x="12957" y="9804"/>
                  <a:pt x="12953" y="9941"/>
                  <a:pt x="12986" y="10096"/>
                </a:cubicBezTo>
                <a:cubicBezTo>
                  <a:pt x="13005" y="10185"/>
                  <a:pt x="13048" y="10380"/>
                  <a:pt x="13113" y="10446"/>
                </a:cubicBezTo>
                <a:cubicBezTo>
                  <a:pt x="13165" y="10499"/>
                  <a:pt x="13262" y="10529"/>
                  <a:pt x="13335" y="10509"/>
                </a:cubicBezTo>
                <a:cubicBezTo>
                  <a:pt x="13423" y="10485"/>
                  <a:pt x="13537" y="10359"/>
                  <a:pt x="13589" y="10287"/>
                </a:cubicBezTo>
                <a:cubicBezTo>
                  <a:pt x="13658" y="10192"/>
                  <a:pt x="13710" y="10123"/>
                  <a:pt x="13716" y="10001"/>
                </a:cubicBezTo>
                <a:cubicBezTo>
                  <a:pt x="13721" y="9899"/>
                  <a:pt x="13725" y="9808"/>
                  <a:pt x="13684" y="9716"/>
                </a:cubicBezTo>
                <a:cubicBezTo>
                  <a:pt x="13653" y="9646"/>
                  <a:pt x="13595" y="9603"/>
                  <a:pt x="13526" y="9588"/>
                </a:cubicBezTo>
                <a:cubicBezTo>
                  <a:pt x="13423" y="9565"/>
                  <a:pt x="13403" y="9675"/>
                  <a:pt x="13367" y="9747"/>
                </a:cubicBezTo>
                <a:cubicBezTo>
                  <a:pt x="13316" y="9849"/>
                  <a:pt x="13257" y="9983"/>
                  <a:pt x="13240" y="10096"/>
                </a:cubicBezTo>
                <a:cubicBezTo>
                  <a:pt x="13222" y="10216"/>
                  <a:pt x="13218" y="10473"/>
                  <a:pt x="13272" y="10541"/>
                </a:cubicBezTo>
                <a:cubicBezTo>
                  <a:pt x="13282" y="10541"/>
                  <a:pt x="13293" y="10541"/>
                  <a:pt x="13303" y="10541"/>
                </a:cubicBezTo>
              </a:path>
              <a:path w="8256" h="3017">
                <a:moveTo>
                  <a:pt x="13938" y="9049"/>
                </a:moveTo>
                <a:cubicBezTo>
                  <a:pt x="13938" y="9123"/>
                  <a:pt x="13922" y="9135"/>
                  <a:pt x="13938" y="9208"/>
                </a:cubicBezTo>
                <a:cubicBezTo>
                  <a:pt x="13961" y="9313"/>
                  <a:pt x="13970" y="9383"/>
                  <a:pt x="13970" y="9493"/>
                </a:cubicBezTo>
                <a:cubicBezTo>
                  <a:pt x="13970" y="9525"/>
                  <a:pt x="13970" y="9536"/>
                  <a:pt x="13970" y="9557"/>
                </a:cubicBezTo>
                <a:cubicBezTo>
                  <a:pt x="13970" y="9391"/>
                  <a:pt x="13958" y="9243"/>
                  <a:pt x="13938" y="9080"/>
                </a:cubicBezTo>
                <a:cubicBezTo>
                  <a:pt x="13928" y="9001"/>
                  <a:pt x="13954" y="8926"/>
                  <a:pt x="13970" y="8890"/>
                </a:cubicBezTo>
                <a:cubicBezTo>
                  <a:pt x="13997" y="8829"/>
                  <a:pt x="14011" y="8827"/>
                  <a:pt x="14065" y="8795"/>
                </a:cubicBezTo>
                <a:cubicBezTo>
                  <a:pt x="14125" y="8760"/>
                  <a:pt x="14250" y="8715"/>
                  <a:pt x="14319" y="8700"/>
                </a:cubicBezTo>
                <a:cubicBezTo>
                  <a:pt x="14434" y="8675"/>
                  <a:pt x="14595" y="8695"/>
                  <a:pt x="14700" y="8731"/>
                </a:cubicBezTo>
                <a:cubicBezTo>
                  <a:pt x="14802" y="8766"/>
                  <a:pt x="14809" y="8790"/>
                  <a:pt x="14859" y="8890"/>
                </a:cubicBezTo>
                <a:cubicBezTo>
                  <a:pt x="14924" y="9020"/>
                  <a:pt x="14877" y="9194"/>
                  <a:pt x="14859" y="9334"/>
                </a:cubicBezTo>
                <a:cubicBezTo>
                  <a:pt x="14827" y="9585"/>
                  <a:pt x="14760" y="9822"/>
                  <a:pt x="14700" y="10065"/>
                </a:cubicBezTo>
                <a:cubicBezTo>
                  <a:pt x="14645" y="10287"/>
                  <a:pt x="14650" y="10510"/>
                  <a:pt x="14605" y="10732"/>
                </a:cubicBezTo>
                <a:cubicBezTo>
                  <a:pt x="14580" y="10858"/>
                  <a:pt x="14550" y="10954"/>
                  <a:pt x="14542" y="11081"/>
                </a:cubicBezTo>
              </a:path>
              <a:path w="8256" h="3017">
                <a:moveTo>
                  <a:pt x="14954" y="11176"/>
                </a:moveTo>
                <a:cubicBezTo>
                  <a:pt x="15005" y="11162"/>
                  <a:pt x="15063" y="11165"/>
                  <a:pt x="15113" y="11144"/>
                </a:cubicBezTo>
                <a:cubicBezTo>
                  <a:pt x="15220" y="11099"/>
                  <a:pt x="15286" y="11036"/>
                  <a:pt x="15367" y="10954"/>
                </a:cubicBezTo>
                <a:cubicBezTo>
                  <a:pt x="15466" y="10854"/>
                  <a:pt x="15552" y="10727"/>
                  <a:pt x="15621" y="10604"/>
                </a:cubicBezTo>
                <a:cubicBezTo>
                  <a:pt x="15707" y="10451"/>
                  <a:pt x="15765" y="10265"/>
                  <a:pt x="15812" y="10096"/>
                </a:cubicBezTo>
                <a:cubicBezTo>
                  <a:pt x="15856" y="9938"/>
                  <a:pt x="15874" y="9776"/>
                  <a:pt x="15907" y="9620"/>
                </a:cubicBezTo>
                <a:cubicBezTo>
                  <a:pt x="15924" y="9540"/>
                  <a:pt x="15950" y="9473"/>
                  <a:pt x="15970" y="9398"/>
                </a:cubicBezTo>
                <a:cubicBezTo>
                  <a:pt x="15970" y="9551"/>
                  <a:pt x="15950" y="9693"/>
                  <a:pt x="15938" y="9842"/>
                </a:cubicBezTo>
                <a:cubicBezTo>
                  <a:pt x="15911" y="10166"/>
                  <a:pt x="15926" y="10503"/>
                  <a:pt x="15907" y="10827"/>
                </a:cubicBezTo>
                <a:cubicBezTo>
                  <a:pt x="15895" y="11029"/>
                  <a:pt x="15882" y="11230"/>
                  <a:pt x="15875" y="11430"/>
                </a:cubicBezTo>
                <a:cubicBezTo>
                  <a:pt x="15872" y="11509"/>
                  <a:pt x="15861" y="11549"/>
                  <a:pt x="15843" y="11620"/>
                </a:cubicBezTo>
                <a:cubicBezTo>
                  <a:pt x="15832" y="11586"/>
                  <a:pt x="15786" y="11439"/>
                  <a:pt x="15780" y="11366"/>
                </a:cubicBezTo>
                <a:cubicBezTo>
                  <a:pt x="15757" y="11089"/>
                  <a:pt x="15796" y="10814"/>
                  <a:pt x="15812" y="10541"/>
                </a:cubicBezTo>
                <a:cubicBezTo>
                  <a:pt x="15828" y="10254"/>
                  <a:pt x="15849" y="9979"/>
                  <a:pt x="15970" y="9716"/>
                </a:cubicBezTo>
                <a:cubicBezTo>
                  <a:pt x="16033" y="9578"/>
                  <a:pt x="16114" y="9438"/>
                  <a:pt x="16192" y="9334"/>
                </a:cubicBezTo>
                <a:cubicBezTo>
                  <a:pt x="16262" y="9241"/>
                  <a:pt x="16288" y="9284"/>
                  <a:pt x="16383" y="9271"/>
                </a:cubicBezTo>
                <a:cubicBezTo>
                  <a:pt x="16445" y="9395"/>
                  <a:pt x="16468" y="9367"/>
                  <a:pt x="16478" y="9525"/>
                </a:cubicBezTo>
                <a:cubicBezTo>
                  <a:pt x="16489" y="9684"/>
                  <a:pt x="16460" y="9818"/>
                  <a:pt x="16415" y="9970"/>
                </a:cubicBezTo>
                <a:cubicBezTo>
                  <a:pt x="16378" y="10094"/>
                  <a:pt x="16331" y="10214"/>
                  <a:pt x="16256" y="10319"/>
                </a:cubicBezTo>
                <a:cubicBezTo>
                  <a:pt x="16205" y="10390"/>
                  <a:pt x="16115" y="10443"/>
                  <a:pt x="16034" y="10446"/>
                </a:cubicBezTo>
                <a:cubicBezTo>
                  <a:pt x="16005" y="10417"/>
                  <a:pt x="15999" y="10406"/>
                  <a:pt x="15970" y="10414"/>
                </a:cubicBezTo>
                <a:cubicBezTo>
                  <a:pt x="15945" y="10353"/>
                  <a:pt x="15904" y="10330"/>
                  <a:pt x="15907" y="10255"/>
                </a:cubicBezTo>
                <a:cubicBezTo>
                  <a:pt x="15909" y="10198"/>
                  <a:pt x="15992" y="10155"/>
                  <a:pt x="16034" y="10128"/>
                </a:cubicBezTo>
                <a:cubicBezTo>
                  <a:pt x="16085" y="10095"/>
                  <a:pt x="16129" y="10111"/>
                  <a:pt x="16192" y="10128"/>
                </a:cubicBezTo>
                <a:cubicBezTo>
                  <a:pt x="16258" y="10146"/>
                  <a:pt x="16321" y="10171"/>
                  <a:pt x="16383" y="10192"/>
                </a:cubicBezTo>
                <a:cubicBezTo>
                  <a:pt x="16452" y="10215"/>
                  <a:pt x="16526" y="10248"/>
                  <a:pt x="16605" y="10224"/>
                </a:cubicBezTo>
                <a:cubicBezTo>
                  <a:pt x="16684" y="10200"/>
                  <a:pt x="16783" y="10097"/>
                  <a:pt x="16828" y="10033"/>
                </a:cubicBezTo>
                <a:cubicBezTo>
                  <a:pt x="16896" y="9935"/>
                  <a:pt x="16968" y="9805"/>
                  <a:pt x="16986" y="9684"/>
                </a:cubicBezTo>
                <a:cubicBezTo>
                  <a:pt x="17004" y="9561"/>
                  <a:pt x="17032" y="9430"/>
                  <a:pt x="17018" y="9303"/>
                </a:cubicBezTo>
                <a:cubicBezTo>
                  <a:pt x="17012" y="9249"/>
                  <a:pt x="17002" y="9254"/>
                  <a:pt x="16986" y="9208"/>
                </a:cubicBezTo>
                <a:cubicBezTo>
                  <a:pt x="16959" y="9262"/>
                  <a:pt x="16914" y="9333"/>
                  <a:pt x="16891" y="9398"/>
                </a:cubicBezTo>
                <a:cubicBezTo>
                  <a:pt x="16831" y="9568"/>
                  <a:pt x="16828" y="9729"/>
                  <a:pt x="16828" y="9906"/>
                </a:cubicBezTo>
                <a:cubicBezTo>
                  <a:pt x="16828" y="10054"/>
                  <a:pt x="16812" y="10216"/>
                  <a:pt x="16891" y="10350"/>
                </a:cubicBezTo>
                <a:cubicBezTo>
                  <a:pt x="16942" y="10436"/>
                  <a:pt x="16977" y="10509"/>
                  <a:pt x="17082" y="10509"/>
                </a:cubicBezTo>
                <a:cubicBezTo>
                  <a:pt x="17237" y="10509"/>
                  <a:pt x="17297" y="10376"/>
                  <a:pt x="17367" y="10255"/>
                </a:cubicBezTo>
                <a:cubicBezTo>
                  <a:pt x="17388" y="10213"/>
                  <a:pt x="17410" y="10170"/>
                  <a:pt x="17431" y="10128"/>
                </a:cubicBezTo>
              </a:path>
              <a:path w="8256" h="3017">
                <a:moveTo>
                  <a:pt x="17590" y="9620"/>
                </a:moveTo>
                <a:cubicBezTo>
                  <a:pt x="17622" y="9499"/>
                  <a:pt x="17637" y="9465"/>
                  <a:pt x="17558" y="9366"/>
                </a:cubicBezTo>
                <a:cubicBezTo>
                  <a:pt x="17509" y="9425"/>
                  <a:pt x="17518" y="9367"/>
                  <a:pt x="17462" y="9493"/>
                </a:cubicBezTo>
                <a:cubicBezTo>
                  <a:pt x="17411" y="9607"/>
                  <a:pt x="17403" y="9749"/>
                  <a:pt x="17399" y="9874"/>
                </a:cubicBezTo>
                <a:cubicBezTo>
                  <a:pt x="17394" y="10040"/>
                  <a:pt x="17412" y="10188"/>
                  <a:pt x="17431" y="10350"/>
                </a:cubicBezTo>
                <a:cubicBezTo>
                  <a:pt x="17442" y="10448"/>
                  <a:pt x="17466" y="10469"/>
                  <a:pt x="17526" y="10541"/>
                </a:cubicBezTo>
                <a:cubicBezTo>
                  <a:pt x="17599" y="10468"/>
                  <a:pt x="17652" y="10422"/>
                  <a:pt x="17685" y="10319"/>
                </a:cubicBezTo>
                <a:cubicBezTo>
                  <a:pt x="17738" y="10152"/>
                  <a:pt x="17793" y="9952"/>
                  <a:pt x="17812" y="9779"/>
                </a:cubicBezTo>
                <a:cubicBezTo>
                  <a:pt x="17824" y="9669"/>
                  <a:pt x="17836" y="9496"/>
                  <a:pt x="17780" y="9398"/>
                </a:cubicBezTo>
                <a:cubicBezTo>
                  <a:pt x="17752" y="9349"/>
                  <a:pt x="17728" y="9372"/>
                  <a:pt x="17685" y="9366"/>
                </a:cubicBezTo>
                <a:cubicBezTo>
                  <a:pt x="17658" y="9411"/>
                  <a:pt x="17646" y="9412"/>
                  <a:pt x="17685" y="9493"/>
                </a:cubicBezTo>
                <a:cubicBezTo>
                  <a:pt x="17722" y="9570"/>
                  <a:pt x="17786" y="9597"/>
                  <a:pt x="17844" y="9652"/>
                </a:cubicBezTo>
                <a:cubicBezTo>
                  <a:pt x="17907" y="9712"/>
                  <a:pt x="17973" y="9750"/>
                  <a:pt x="18034" y="9811"/>
                </a:cubicBezTo>
                <a:cubicBezTo>
                  <a:pt x="18102" y="9878"/>
                  <a:pt x="18117" y="9946"/>
                  <a:pt x="18161" y="10033"/>
                </a:cubicBezTo>
                <a:cubicBezTo>
                  <a:pt x="18199" y="10108"/>
                  <a:pt x="18230" y="10300"/>
                  <a:pt x="18224" y="10382"/>
                </a:cubicBezTo>
                <a:cubicBezTo>
                  <a:pt x="18214" y="10518"/>
                  <a:pt x="18215" y="10691"/>
                  <a:pt x="18193" y="10827"/>
                </a:cubicBezTo>
                <a:cubicBezTo>
                  <a:pt x="18171" y="10964"/>
                  <a:pt x="18146" y="11102"/>
                  <a:pt x="18129" y="11240"/>
                </a:cubicBezTo>
                <a:cubicBezTo>
                  <a:pt x="18129" y="11271"/>
                  <a:pt x="18129" y="11282"/>
                  <a:pt x="18129" y="11303"/>
                </a:cubicBezTo>
                <a:cubicBezTo>
                  <a:pt x="18100" y="11215"/>
                  <a:pt x="18088" y="11114"/>
                  <a:pt x="18066" y="11017"/>
                </a:cubicBezTo>
                <a:cubicBezTo>
                  <a:pt x="18028" y="10848"/>
                  <a:pt x="18034" y="10685"/>
                  <a:pt x="18034" y="10509"/>
                </a:cubicBezTo>
                <a:cubicBezTo>
                  <a:pt x="18034" y="10309"/>
                  <a:pt x="18056" y="10101"/>
                  <a:pt x="18098" y="9906"/>
                </a:cubicBezTo>
                <a:cubicBezTo>
                  <a:pt x="18126" y="9775"/>
                  <a:pt x="18167" y="9646"/>
                  <a:pt x="18224" y="9525"/>
                </a:cubicBezTo>
                <a:cubicBezTo>
                  <a:pt x="18256" y="9462"/>
                  <a:pt x="18267" y="9440"/>
                  <a:pt x="18288" y="9398"/>
                </a:cubicBezTo>
                <a:cubicBezTo>
                  <a:pt x="18401" y="9426"/>
                  <a:pt x="18385" y="9401"/>
                  <a:pt x="18447" y="9525"/>
                </a:cubicBezTo>
                <a:cubicBezTo>
                  <a:pt x="18503" y="9637"/>
                  <a:pt x="18478" y="9782"/>
                  <a:pt x="18478" y="9906"/>
                </a:cubicBezTo>
                <a:cubicBezTo>
                  <a:pt x="18478" y="10063"/>
                  <a:pt x="18431" y="10200"/>
                  <a:pt x="18383" y="10350"/>
                </a:cubicBezTo>
                <a:cubicBezTo>
                  <a:pt x="18353" y="10444"/>
                  <a:pt x="18341" y="10481"/>
                  <a:pt x="18256" y="10509"/>
                </a:cubicBezTo>
                <a:cubicBezTo>
                  <a:pt x="18245" y="10509"/>
                  <a:pt x="18235" y="10509"/>
                  <a:pt x="18224" y="10509"/>
                </a:cubicBezTo>
                <a:cubicBezTo>
                  <a:pt x="18224" y="10377"/>
                  <a:pt x="18247" y="10259"/>
                  <a:pt x="18256" y="10128"/>
                </a:cubicBezTo>
              </a:path>
              <a:path w="8256" h="3017">
                <a:moveTo>
                  <a:pt x="18860" y="8890"/>
                </a:moveTo>
                <a:cubicBezTo>
                  <a:pt x="18875" y="9015"/>
                  <a:pt x="18912" y="9138"/>
                  <a:pt x="18891" y="9271"/>
                </a:cubicBezTo>
                <a:cubicBezTo>
                  <a:pt x="18863" y="9451"/>
                  <a:pt x="18860" y="9626"/>
                  <a:pt x="18860" y="9811"/>
                </a:cubicBezTo>
                <a:cubicBezTo>
                  <a:pt x="18860" y="9958"/>
                  <a:pt x="18865" y="10142"/>
                  <a:pt x="18891" y="10287"/>
                </a:cubicBezTo>
                <a:cubicBezTo>
                  <a:pt x="18907" y="10374"/>
                  <a:pt x="18935" y="10467"/>
                  <a:pt x="18955" y="10541"/>
                </a:cubicBezTo>
                <a:cubicBezTo>
                  <a:pt x="18976" y="10498"/>
                  <a:pt x="18998" y="10455"/>
                  <a:pt x="19018" y="10414"/>
                </a:cubicBezTo>
                <a:cubicBezTo>
                  <a:pt x="19036" y="10378"/>
                  <a:pt x="19062" y="10316"/>
                  <a:pt x="19082" y="10287"/>
                </a:cubicBezTo>
                <a:cubicBezTo>
                  <a:pt x="19099" y="10262"/>
                  <a:pt x="19133" y="10258"/>
                  <a:pt x="19177" y="10255"/>
                </a:cubicBezTo>
                <a:cubicBezTo>
                  <a:pt x="19229" y="10252"/>
                  <a:pt x="19265" y="10230"/>
                  <a:pt x="19304" y="10224"/>
                </a:cubicBezTo>
                <a:cubicBezTo>
                  <a:pt x="19374" y="10213"/>
                  <a:pt x="19391" y="10224"/>
                  <a:pt x="19463" y="10192"/>
                </a:cubicBezTo>
                <a:cubicBezTo>
                  <a:pt x="19511" y="10171"/>
                  <a:pt x="19572" y="10150"/>
                  <a:pt x="19622" y="10128"/>
                </a:cubicBezTo>
                <a:cubicBezTo>
                  <a:pt x="19653" y="10115"/>
                  <a:pt x="19685" y="10108"/>
                  <a:pt x="19717" y="10096"/>
                </a:cubicBezTo>
                <a:cubicBezTo>
                  <a:pt x="19699" y="10044"/>
                  <a:pt x="19662" y="9961"/>
                  <a:pt x="19653" y="9906"/>
                </a:cubicBezTo>
                <a:cubicBezTo>
                  <a:pt x="19635" y="9796"/>
                  <a:pt x="19627" y="9668"/>
                  <a:pt x="19622" y="9557"/>
                </a:cubicBezTo>
                <a:cubicBezTo>
                  <a:pt x="19622" y="9499"/>
                  <a:pt x="19627" y="9483"/>
                  <a:pt x="19590" y="9462"/>
                </a:cubicBezTo>
                <a:cubicBezTo>
                  <a:pt x="19525" y="9502"/>
                  <a:pt x="19469" y="9534"/>
                  <a:pt x="19431" y="9620"/>
                </a:cubicBezTo>
                <a:cubicBezTo>
                  <a:pt x="19385" y="9726"/>
                  <a:pt x="19332" y="9981"/>
                  <a:pt x="19336" y="10096"/>
                </a:cubicBezTo>
                <a:cubicBezTo>
                  <a:pt x="19340" y="10203"/>
                  <a:pt x="19363" y="10385"/>
                  <a:pt x="19431" y="10478"/>
                </a:cubicBezTo>
                <a:cubicBezTo>
                  <a:pt x="19492" y="10560"/>
                  <a:pt x="19585" y="10617"/>
                  <a:pt x="19685" y="10636"/>
                </a:cubicBezTo>
                <a:cubicBezTo>
                  <a:pt x="19761" y="10651"/>
                  <a:pt x="19910" y="10586"/>
                  <a:pt x="19971" y="10541"/>
                </a:cubicBezTo>
                <a:cubicBezTo>
                  <a:pt x="20064" y="10472"/>
                  <a:pt x="20110" y="10422"/>
                  <a:pt x="20161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8"/>
          <p:cNvSpPr/>
          <p:nvPr/>
        </p:nvSpPr>
        <p:spPr>
          <a:xfrm>
            <a:off x="4229280" y="4983120"/>
            <a:ext cx="1874520" cy="914400"/>
          </a:xfrm>
          <a:custGeom>
            <a:avLst/>
            <a:gdLst/>
            <a:ahLst/>
            <a:rect l="l" t="t" r="r" b="b"/>
            <a:pathLst>
              <a:path w="5207" h="2541">
                <a:moveTo>
                  <a:pt x="16510" y="13875"/>
                </a:moveTo>
                <a:cubicBezTo>
                  <a:pt x="16461" y="13838"/>
                  <a:pt x="16445" y="13843"/>
                  <a:pt x="16383" y="13843"/>
                </a:cubicBezTo>
                <a:cubicBezTo>
                  <a:pt x="16325" y="13843"/>
                  <a:pt x="16308" y="13869"/>
                  <a:pt x="16256" y="13875"/>
                </a:cubicBezTo>
                <a:cubicBezTo>
                  <a:pt x="16209" y="13880"/>
                  <a:pt x="16184" y="13843"/>
                  <a:pt x="16129" y="13843"/>
                </a:cubicBezTo>
                <a:cubicBezTo>
                  <a:pt x="15980" y="13843"/>
                  <a:pt x="15742" y="13891"/>
                  <a:pt x="15621" y="13875"/>
                </a:cubicBezTo>
                <a:cubicBezTo>
                  <a:pt x="15544" y="13865"/>
                  <a:pt x="15483" y="13843"/>
                  <a:pt x="15399" y="13843"/>
                </a:cubicBezTo>
                <a:cubicBezTo>
                  <a:pt x="15255" y="13843"/>
                  <a:pt x="15111" y="13833"/>
                  <a:pt x="14986" y="13875"/>
                </a:cubicBezTo>
                <a:cubicBezTo>
                  <a:pt x="14954" y="13886"/>
                  <a:pt x="14974" y="13901"/>
                  <a:pt x="15018" y="13906"/>
                </a:cubicBezTo>
                <a:cubicBezTo>
                  <a:pt x="15071" y="13912"/>
                  <a:pt x="15041" y="13938"/>
                  <a:pt x="15113" y="13938"/>
                </a:cubicBezTo>
                <a:cubicBezTo>
                  <a:pt x="15527" y="13938"/>
                  <a:pt x="16099" y="14033"/>
                  <a:pt x="16478" y="13906"/>
                </a:cubicBezTo>
                <a:cubicBezTo>
                  <a:pt x="16531" y="13888"/>
                  <a:pt x="16593" y="13901"/>
                  <a:pt x="16605" y="13938"/>
                </a:cubicBezTo>
              </a:path>
              <a:path w="5207" h="2541">
                <a:moveTo>
                  <a:pt x="12922" y="14605"/>
                </a:moveTo>
                <a:cubicBezTo>
                  <a:pt x="12907" y="14554"/>
                  <a:pt x="12926" y="14529"/>
                  <a:pt x="12859" y="14510"/>
                </a:cubicBezTo>
                <a:cubicBezTo>
                  <a:pt x="12813" y="14497"/>
                  <a:pt x="12771" y="14502"/>
                  <a:pt x="12732" y="14478"/>
                </a:cubicBezTo>
                <a:cubicBezTo>
                  <a:pt x="12668" y="14438"/>
                  <a:pt x="12620" y="14446"/>
                  <a:pt x="12541" y="14446"/>
                </a:cubicBezTo>
                <a:cubicBezTo>
                  <a:pt x="12455" y="14446"/>
                  <a:pt x="12365" y="14452"/>
                  <a:pt x="12287" y="14478"/>
                </a:cubicBezTo>
                <a:cubicBezTo>
                  <a:pt x="12198" y="14508"/>
                  <a:pt x="12100" y="14604"/>
                  <a:pt x="12033" y="14668"/>
                </a:cubicBezTo>
                <a:cubicBezTo>
                  <a:pt x="11944" y="14753"/>
                  <a:pt x="11879" y="14869"/>
                  <a:pt x="11843" y="14986"/>
                </a:cubicBezTo>
                <a:cubicBezTo>
                  <a:pt x="11794" y="15143"/>
                  <a:pt x="11753" y="15300"/>
                  <a:pt x="11748" y="15462"/>
                </a:cubicBezTo>
                <a:cubicBezTo>
                  <a:pt x="11743" y="15601"/>
                  <a:pt x="11758" y="15713"/>
                  <a:pt x="11811" y="15843"/>
                </a:cubicBezTo>
                <a:cubicBezTo>
                  <a:pt x="11854" y="15948"/>
                  <a:pt x="11886" y="15971"/>
                  <a:pt x="11970" y="16034"/>
                </a:cubicBezTo>
                <a:cubicBezTo>
                  <a:pt x="12050" y="16094"/>
                  <a:pt x="12091" y="16097"/>
                  <a:pt x="12192" y="16097"/>
                </a:cubicBezTo>
                <a:cubicBezTo>
                  <a:pt x="12277" y="16097"/>
                  <a:pt x="12369" y="16068"/>
                  <a:pt x="12446" y="16034"/>
                </a:cubicBezTo>
                <a:cubicBezTo>
                  <a:pt x="12526" y="15998"/>
                  <a:pt x="12575" y="15936"/>
                  <a:pt x="12636" y="15875"/>
                </a:cubicBezTo>
                <a:cubicBezTo>
                  <a:pt x="12690" y="15820"/>
                  <a:pt x="12705" y="15784"/>
                  <a:pt x="12732" y="15716"/>
                </a:cubicBezTo>
              </a:path>
              <a:path w="5207" h="2541">
                <a:moveTo>
                  <a:pt x="12256" y="15367"/>
                </a:moveTo>
                <a:cubicBezTo>
                  <a:pt x="12312" y="15367"/>
                  <a:pt x="12364" y="15354"/>
                  <a:pt x="12414" y="15335"/>
                </a:cubicBezTo>
                <a:cubicBezTo>
                  <a:pt x="12467" y="15314"/>
                  <a:pt x="12561" y="15267"/>
                  <a:pt x="12605" y="15240"/>
                </a:cubicBezTo>
                <a:cubicBezTo>
                  <a:pt x="12624" y="15228"/>
                  <a:pt x="12736" y="15173"/>
                  <a:pt x="12764" y="15208"/>
                </a:cubicBezTo>
                <a:cubicBezTo>
                  <a:pt x="12801" y="15255"/>
                  <a:pt x="12795" y="15337"/>
                  <a:pt x="12795" y="15399"/>
                </a:cubicBezTo>
                <a:cubicBezTo>
                  <a:pt x="12795" y="15522"/>
                  <a:pt x="12777" y="15630"/>
                  <a:pt x="12764" y="15748"/>
                </a:cubicBezTo>
                <a:cubicBezTo>
                  <a:pt x="12750" y="15877"/>
                  <a:pt x="12714" y="16002"/>
                  <a:pt x="12700" y="16129"/>
                </a:cubicBezTo>
                <a:cubicBezTo>
                  <a:pt x="12690" y="16216"/>
                  <a:pt x="12668" y="16470"/>
                  <a:pt x="12668" y="16383"/>
                </a:cubicBezTo>
                <a:cubicBezTo>
                  <a:pt x="12668" y="16362"/>
                  <a:pt x="12668" y="16341"/>
                  <a:pt x="12668" y="16320"/>
                </a:cubicBezTo>
              </a:path>
              <a:path w="5207" h="2541">
                <a:moveTo>
                  <a:pt x="12954" y="15208"/>
                </a:moveTo>
                <a:cubicBezTo>
                  <a:pt x="13046" y="15208"/>
                  <a:pt x="12997" y="15227"/>
                  <a:pt x="13049" y="15304"/>
                </a:cubicBezTo>
                <a:cubicBezTo>
                  <a:pt x="13102" y="15383"/>
                  <a:pt x="13087" y="15465"/>
                  <a:pt x="13113" y="15558"/>
                </a:cubicBezTo>
                <a:cubicBezTo>
                  <a:pt x="13132" y="15625"/>
                  <a:pt x="13169" y="15685"/>
                  <a:pt x="13176" y="15748"/>
                </a:cubicBezTo>
                <a:cubicBezTo>
                  <a:pt x="13184" y="15822"/>
                  <a:pt x="13119" y="15675"/>
                  <a:pt x="13113" y="15653"/>
                </a:cubicBezTo>
                <a:cubicBezTo>
                  <a:pt x="13081" y="15530"/>
                  <a:pt x="13049" y="15402"/>
                  <a:pt x="13049" y="15272"/>
                </a:cubicBezTo>
                <a:cubicBezTo>
                  <a:pt x="13049" y="15192"/>
                  <a:pt x="13063" y="15107"/>
                  <a:pt x="13113" y="15050"/>
                </a:cubicBezTo>
                <a:cubicBezTo>
                  <a:pt x="13166" y="14990"/>
                  <a:pt x="13179" y="15008"/>
                  <a:pt x="13240" y="14986"/>
                </a:cubicBezTo>
                <a:cubicBezTo>
                  <a:pt x="13339" y="14950"/>
                  <a:pt x="13299" y="14943"/>
                  <a:pt x="13398" y="14986"/>
                </a:cubicBezTo>
              </a:path>
              <a:path w="5207" h="2541">
                <a:moveTo>
                  <a:pt x="13748" y="14954"/>
                </a:moveTo>
                <a:cubicBezTo>
                  <a:pt x="13695" y="15007"/>
                  <a:pt x="13665" y="15055"/>
                  <a:pt x="13621" y="15113"/>
                </a:cubicBezTo>
                <a:cubicBezTo>
                  <a:pt x="13571" y="15179"/>
                  <a:pt x="13534" y="15259"/>
                  <a:pt x="13494" y="15335"/>
                </a:cubicBezTo>
                <a:cubicBezTo>
                  <a:pt x="13450" y="15418"/>
                  <a:pt x="13462" y="15497"/>
                  <a:pt x="13462" y="15589"/>
                </a:cubicBezTo>
                <a:cubicBezTo>
                  <a:pt x="13462" y="15670"/>
                  <a:pt x="13478" y="15730"/>
                  <a:pt x="13557" y="15748"/>
                </a:cubicBezTo>
                <a:cubicBezTo>
                  <a:pt x="13646" y="15768"/>
                  <a:pt x="13675" y="15722"/>
                  <a:pt x="13716" y="15653"/>
                </a:cubicBezTo>
                <a:cubicBezTo>
                  <a:pt x="13768" y="15567"/>
                  <a:pt x="13787" y="15489"/>
                  <a:pt x="13811" y="15399"/>
                </a:cubicBezTo>
                <a:cubicBezTo>
                  <a:pt x="13834" y="15311"/>
                  <a:pt x="13876" y="15173"/>
                  <a:pt x="13843" y="15081"/>
                </a:cubicBezTo>
                <a:cubicBezTo>
                  <a:pt x="13825" y="15031"/>
                  <a:pt x="13766" y="15012"/>
                  <a:pt x="13748" y="14986"/>
                </a:cubicBezTo>
                <a:cubicBezTo>
                  <a:pt x="13748" y="14975"/>
                  <a:pt x="13748" y="14965"/>
                  <a:pt x="13748" y="14954"/>
                </a:cubicBezTo>
                <a:cubicBezTo>
                  <a:pt x="13794" y="14948"/>
                  <a:pt x="13842" y="14927"/>
                  <a:pt x="13875" y="14922"/>
                </a:cubicBezTo>
                <a:cubicBezTo>
                  <a:pt x="13949" y="14911"/>
                  <a:pt x="13981" y="14944"/>
                  <a:pt x="14034" y="14954"/>
                </a:cubicBezTo>
                <a:cubicBezTo>
                  <a:pt x="14077" y="14962"/>
                  <a:pt x="14142" y="14985"/>
                  <a:pt x="14160" y="15050"/>
                </a:cubicBezTo>
                <a:cubicBezTo>
                  <a:pt x="14224" y="15278"/>
                  <a:pt x="14126" y="15560"/>
                  <a:pt x="14192" y="15780"/>
                </a:cubicBezTo>
                <a:cubicBezTo>
                  <a:pt x="14192" y="15791"/>
                  <a:pt x="14192" y="15801"/>
                  <a:pt x="14192" y="15812"/>
                </a:cubicBezTo>
                <a:cubicBezTo>
                  <a:pt x="14260" y="15792"/>
                  <a:pt x="14245" y="15817"/>
                  <a:pt x="14288" y="15748"/>
                </a:cubicBezTo>
                <a:cubicBezTo>
                  <a:pt x="14337" y="15670"/>
                  <a:pt x="14347" y="15551"/>
                  <a:pt x="14351" y="15462"/>
                </a:cubicBezTo>
                <a:cubicBezTo>
                  <a:pt x="14355" y="15372"/>
                  <a:pt x="14383" y="15302"/>
                  <a:pt x="14383" y="15208"/>
                </a:cubicBezTo>
                <a:cubicBezTo>
                  <a:pt x="14383" y="15156"/>
                  <a:pt x="14372" y="15135"/>
                  <a:pt x="14414" y="15145"/>
                </a:cubicBezTo>
                <a:cubicBezTo>
                  <a:pt x="14422" y="15201"/>
                  <a:pt x="14427" y="15279"/>
                  <a:pt x="14446" y="15335"/>
                </a:cubicBezTo>
                <a:cubicBezTo>
                  <a:pt x="14476" y="15424"/>
                  <a:pt x="14472" y="15539"/>
                  <a:pt x="14510" y="15621"/>
                </a:cubicBezTo>
                <a:cubicBezTo>
                  <a:pt x="14543" y="15693"/>
                  <a:pt x="14570" y="15705"/>
                  <a:pt x="14637" y="15716"/>
                </a:cubicBezTo>
                <a:cubicBezTo>
                  <a:pt x="14647" y="15716"/>
                  <a:pt x="14658" y="15716"/>
                  <a:pt x="14668" y="15716"/>
                </a:cubicBezTo>
                <a:cubicBezTo>
                  <a:pt x="14752" y="15633"/>
                  <a:pt x="14733" y="15602"/>
                  <a:pt x="14764" y="15494"/>
                </a:cubicBezTo>
                <a:cubicBezTo>
                  <a:pt x="14793" y="15394"/>
                  <a:pt x="14835" y="15218"/>
                  <a:pt x="14827" y="15113"/>
                </a:cubicBezTo>
                <a:cubicBezTo>
                  <a:pt x="14823" y="15063"/>
                  <a:pt x="14773" y="14968"/>
                  <a:pt x="14764" y="14954"/>
                </a:cubicBezTo>
                <a:cubicBezTo>
                  <a:pt x="14736" y="14910"/>
                  <a:pt x="14764" y="14931"/>
                  <a:pt x="14700" y="14922"/>
                </a:cubicBezTo>
              </a:path>
              <a:path w="5207" h="2541">
                <a:moveTo>
                  <a:pt x="14922" y="14510"/>
                </a:moveTo>
                <a:cubicBezTo>
                  <a:pt x="14988" y="14461"/>
                  <a:pt x="14990" y="14477"/>
                  <a:pt x="15018" y="14542"/>
                </a:cubicBezTo>
                <a:cubicBezTo>
                  <a:pt x="15058" y="14634"/>
                  <a:pt x="15057" y="14731"/>
                  <a:pt x="15081" y="14827"/>
                </a:cubicBezTo>
                <a:cubicBezTo>
                  <a:pt x="15118" y="14974"/>
                  <a:pt x="15139" y="15120"/>
                  <a:pt x="15145" y="15272"/>
                </a:cubicBezTo>
                <a:cubicBezTo>
                  <a:pt x="15148" y="15354"/>
                  <a:pt x="15169" y="15417"/>
                  <a:pt x="15176" y="15494"/>
                </a:cubicBezTo>
                <a:cubicBezTo>
                  <a:pt x="15176" y="15526"/>
                  <a:pt x="15176" y="15536"/>
                  <a:pt x="15145" y="15526"/>
                </a:cubicBezTo>
              </a:path>
              <a:path w="5207" h="2541">
                <a:moveTo>
                  <a:pt x="14922" y="15081"/>
                </a:moveTo>
                <a:cubicBezTo>
                  <a:pt x="14975" y="15055"/>
                  <a:pt x="15028" y="15042"/>
                  <a:pt x="15081" y="15018"/>
                </a:cubicBezTo>
                <a:cubicBezTo>
                  <a:pt x="15199" y="14965"/>
                  <a:pt x="15287" y="14917"/>
                  <a:pt x="15367" y="14827"/>
                </a:cubicBezTo>
                <a:cubicBezTo>
                  <a:pt x="15427" y="14759"/>
                  <a:pt x="15505" y="14700"/>
                  <a:pt x="15526" y="14605"/>
                </a:cubicBezTo>
                <a:cubicBezTo>
                  <a:pt x="15543" y="14530"/>
                  <a:pt x="15534" y="14479"/>
                  <a:pt x="15558" y="14414"/>
                </a:cubicBezTo>
                <a:cubicBezTo>
                  <a:pt x="15558" y="14502"/>
                  <a:pt x="15566" y="14555"/>
                  <a:pt x="15589" y="14637"/>
                </a:cubicBezTo>
                <a:cubicBezTo>
                  <a:pt x="15630" y="14780"/>
                  <a:pt x="15670" y="14965"/>
                  <a:pt x="15684" y="15113"/>
                </a:cubicBezTo>
                <a:cubicBezTo>
                  <a:pt x="15697" y="15253"/>
                  <a:pt x="15676" y="15453"/>
                  <a:pt x="15716" y="15589"/>
                </a:cubicBezTo>
                <a:cubicBezTo>
                  <a:pt x="15727" y="15600"/>
                  <a:pt x="15737" y="15610"/>
                  <a:pt x="15748" y="15621"/>
                </a:cubicBezTo>
                <a:cubicBezTo>
                  <a:pt x="15748" y="15503"/>
                  <a:pt x="15758" y="15386"/>
                  <a:pt x="15780" y="15272"/>
                </a:cubicBezTo>
                <a:cubicBezTo>
                  <a:pt x="15806" y="15133"/>
                  <a:pt x="15842" y="15024"/>
                  <a:pt x="15938" y="14922"/>
                </a:cubicBezTo>
                <a:cubicBezTo>
                  <a:pt x="15994" y="14863"/>
                  <a:pt x="16019" y="14833"/>
                  <a:pt x="16097" y="14891"/>
                </a:cubicBezTo>
                <a:cubicBezTo>
                  <a:pt x="16220" y="14982"/>
                  <a:pt x="16197" y="15082"/>
                  <a:pt x="16256" y="15208"/>
                </a:cubicBezTo>
                <a:cubicBezTo>
                  <a:pt x="16309" y="15322"/>
                  <a:pt x="16372" y="15449"/>
                  <a:pt x="16478" y="15526"/>
                </a:cubicBezTo>
                <a:cubicBezTo>
                  <a:pt x="16535" y="15567"/>
                  <a:pt x="16664" y="15577"/>
                  <a:pt x="16732" y="15558"/>
                </a:cubicBezTo>
                <a:cubicBezTo>
                  <a:pt x="16805" y="15538"/>
                  <a:pt x="16887" y="15429"/>
                  <a:pt x="16923" y="15367"/>
                </a:cubicBezTo>
                <a:cubicBezTo>
                  <a:pt x="16958" y="15296"/>
                  <a:pt x="16968" y="15267"/>
                  <a:pt x="16954" y="15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9"/>
          <p:cNvSpPr/>
          <p:nvPr/>
        </p:nvSpPr>
        <p:spPr>
          <a:xfrm>
            <a:off x="7029360" y="4892760"/>
            <a:ext cx="1817640" cy="514440"/>
          </a:xfrm>
          <a:custGeom>
            <a:avLst/>
            <a:gdLst/>
            <a:ahLst/>
            <a:rect l="l" t="t" r="r" b="b"/>
            <a:pathLst>
              <a:path w="5049" h="1430">
                <a:moveTo>
                  <a:pt x="19622" y="13938"/>
                </a:moveTo>
                <a:cubicBezTo>
                  <a:pt x="19622" y="14113"/>
                  <a:pt x="19614" y="14276"/>
                  <a:pt x="19590" y="14446"/>
                </a:cubicBezTo>
                <a:cubicBezTo>
                  <a:pt x="19575" y="14552"/>
                  <a:pt x="19574" y="14662"/>
                  <a:pt x="19558" y="14764"/>
                </a:cubicBezTo>
                <a:cubicBezTo>
                  <a:pt x="19547" y="14836"/>
                  <a:pt x="19591" y="14964"/>
                  <a:pt x="19526" y="14986"/>
                </a:cubicBezTo>
              </a:path>
              <a:path w="5049" h="1430">
                <a:moveTo>
                  <a:pt x="19780" y="14922"/>
                </a:moveTo>
                <a:cubicBezTo>
                  <a:pt x="19815" y="14969"/>
                  <a:pt x="19801" y="14972"/>
                  <a:pt x="19844" y="14986"/>
                </a:cubicBezTo>
              </a:path>
              <a:path w="5049" h="1430">
                <a:moveTo>
                  <a:pt x="20225" y="14351"/>
                </a:moveTo>
                <a:cubicBezTo>
                  <a:pt x="20237" y="14301"/>
                  <a:pt x="20256" y="14281"/>
                  <a:pt x="20256" y="14224"/>
                </a:cubicBezTo>
                <a:cubicBezTo>
                  <a:pt x="20256" y="14160"/>
                  <a:pt x="20242" y="14149"/>
                  <a:pt x="20225" y="14097"/>
                </a:cubicBezTo>
                <a:cubicBezTo>
                  <a:pt x="20225" y="14086"/>
                  <a:pt x="20225" y="14076"/>
                  <a:pt x="20225" y="14065"/>
                </a:cubicBezTo>
                <a:cubicBezTo>
                  <a:pt x="20155" y="14082"/>
                  <a:pt x="20133" y="14126"/>
                  <a:pt x="20098" y="14192"/>
                </a:cubicBezTo>
                <a:cubicBezTo>
                  <a:pt x="20042" y="14297"/>
                  <a:pt x="20015" y="14427"/>
                  <a:pt x="20002" y="14542"/>
                </a:cubicBezTo>
                <a:cubicBezTo>
                  <a:pt x="19990" y="14648"/>
                  <a:pt x="19976" y="14828"/>
                  <a:pt x="20034" y="14922"/>
                </a:cubicBezTo>
                <a:cubicBezTo>
                  <a:pt x="20063" y="14951"/>
                  <a:pt x="20069" y="14962"/>
                  <a:pt x="20098" y="14954"/>
                </a:cubicBezTo>
                <a:cubicBezTo>
                  <a:pt x="20162" y="14938"/>
                  <a:pt x="20217" y="14854"/>
                  <a:pt x="20256" y="14796"/>
                </a:cubicBezTo>
                <a:cubicBezTo>
                  <a:pt x="20305" y="14723"/>
                  <a:pt x="20370" y="14594"/>
                  <a:pt x="20384" y="14510"/>
                </a:cubicBezTo>
                <a:cubicBezTo>
                  <a:pt x="20397" y="14432"/>
                  <a:pt x="20400" y="14284"/>
                  <a:pt x="20352" y="14224"/>
                </a:cubicBezTo>
                <a:cubicBezTo>
                  <a:pt x="20317" y="14181"/>
                  <a:pt x="20313" y="14148"/>
                  <a:pt x="20256" y="14129"/>
                </a:cubicBezTo>
                <a:cubicBezTo>
                  <a:pt x="20225" y="14129"/>
                  <a:pt x="20214" y="14129"/>
                  <a:pt x="20225" y="14097"/>
                </a:cubicBezTo>
              </a:path>
              <a:path w="5049" h="1430">
                <a:moveTo>
                  <a:pt x="20733" y="14097"/>
                </a:moveTo>
                <a:cubicBezTo>
                  <a:pt x="20725" y="14064"/>
                  <a:pt x="20706" y="13989"/>
                  <a:pt x="20669" y="13970"/>
                </a:cubicBezTo>
                <a:cubicBezTo>
                  <a:pt x="20615" y="13942"/>
                  <a:pt x="20593" y="13924"/>
                  <a:pt x="20542" y="13970"/>
                </a:cubicBezTo>
                <a:cubicBezTo>
                  <a:pt x="20485" y="14020"/>
                  <a:pt x="20459" y="14086"/>
                  <a:pt x="20447" y="14160"/>
                </a:cubicBezTo>
                <a:cubicBezTo>
                  <a:pt x="20433" y="14243"/>
                  <a:pt x="20440" y="14349"/>
                  <a:pt x="20479" y="14414"/>
                </a:cubicBezTo>
                <a:cubicBezTo>
                  <a:pt x="20545" y="14414"/>
                  <a:pt x="20549" y="14397"/>
                  <a:pt x="20606" y="14351"/>
                </a:cubicBezTo>
                <a:cubicBezTo>
                  <a:pt x="20672" y="14297"/>
                  <a:pt x="20657" y="14225"/>
                  <a:pt x="20701" y="14160"/>
                </a:cubicBezTo>
                <a:cubicBezTo>
                  <a:pt x="20732" y="14114"/>
                  <a:pt x="20736" y="14082"/>
                  <a:pt x="20764" y="14034"/>
                </a:cubicBezTo>
                <a:cubicBezTo>
                  <a:pt x="20764" y="13948"/>
                  <a:pt x="20764" y="14083"/>
                  <a:pt x="20764" y="14097"/>
                </a:cubicBezTo>
                <a:cubicBezTo>
                  <a:pt x="20764" y="14214"/>
                  <a:pt x="20796" y="14324"/>
                  <a:pt x="20796" y="14446"/>
                </a:cubicBezTo>
                <a:cubicBezTo>
                  <a:pt x="20796" y="14610"/>
                  <a:pt x="20769" y="14760"/>
                  <a:pt x="20764" y="14922"/>
                </a:cubicBezTo>
                <a:cubicBezTo>
                  <a:pt x="20764" y="14954"/>
                  <a:pt x="20764" y="14986"/>
                  <a:pt x="20764" y="15018"/>
                </a:cubicBezTo>
              </a:path>
              <a:path w="5049" h="1430">
                <a:moveTo>
                  <a:pt x="21146" y="14446"/>
                </a:moveTo>
                <a:cubicBezTo>
                  <a:pt x="21146" y="14435"/>
                  <a:pt x="21146" y="14425"/>
                  <a:pt x="21146" y="14414"/>
                </a:cubicBezTo>
                <a:cubicBezTo>
                  <a:pt x="21226" y="14414"/>
                  <a:pt x="21270" y="14404"/>
                  <a:pt x="21336" y="14383"/>
                </a:cubicBezTo>
                <a:cubicBezTo>
                  <a:pt x="21398" y="14363"/>
                  <a:pt x="21441" y="14416"/>
                  <a:pt x="21463" y="14351"/>
                </a:cubicBezTo>
              </a:path>
              <a:path w="5049" h="1430">
                <a:moveTo>
                  <a:pt x="21780" y="13906"/>
                </a:moveTo>
                <a:cubicBezTo>
                  <a:pt x="21780" y="13823"/>
                  <a:pt x="21780" y="13956"/>
                  <a:pt x="21780" y="13970"/>
                </a:cubicBezTo>
                <a:cubicBezTo>
                  <a:pt x="21780" y="14113"/>
                  <a:pt x="21764" y="14245"/>
                  <a:pt x="21749" y="14383"/>
                </a:cubicBezTo>
                <a:cubicBezTo>
                  <a:pt x="21736" y="14502"/>
                  <a:pt x="21735" y="14619"/>
                  <a:pt x="21717" y="14732"/>
                </a:cubicBezTo>
                <a:cubicBezTo>
                  <a:pt x="21706" y="14800"/>
                  <a:pt x="21714" y="14812"/>
                  <a:pt x="21749" y="14859"/>
                </a:cubicBezTo>
              </a:path>
              <a:path w="5049" h="1430">
                <a:moveTo>
                  <a:pt x="22034" y="14256"/>
                </a:moveTo>
                <a:cubicBezTo>
                  <a:pt x="22045" y="14256"/>
                  <a:pt x="22055" y="14256"/>
                  <a:pt x="22066" y="14256"/>
                </a:cubicBezTo>
                <a:cubicBezTo>
                  <a:pt x="22076" y="14227"/>
                  <a:pt x="22121" y="14206"/>
                  <a:pt x="22162" y="14192"/>
                </a:cubicBezTo>
                <a:cubicBezTo>
                  <a:pt x="22186" y="14184"/>
                  <a:pt x="22231" y="14192"/>
                  <a:pt x="22257" y="14192"/>
                </a:cubicBezTo>
              </a:path>
              <a:path w="5049" h="1430">
                <a:moveTo>
                  <a:pt x="22098" y="14510"/>
                </a:moveTo>
                <a:cubicBezTo>
                  <a:pt x="22164" y="14510"/>
                  <a:pt x="22203" y="14494"/>
                  <a:pt x="22257" y="14478"/>
                </a:cubicBezTo>
                <a:cubicBezTo>
                  <a:pt x="22267" y="14478"/>
                  <a:pt x="22278" y="14478"/>
                  <a:pt x="22288" y="14478"/>
                </a:cubicBezTo>
              </a:path>
              <a:path w="5049" h="1430">
                <a:moveTo>
                  <a:pt x="22511" y="14700"/>
                </a:moveTo>
                <a:cubicBezTo>
                  <a:pt x="22511" y="14732"/>
                  <a:pt x="22511" y="14742"/>
                  <a:pt x="22542" y="14732"/>
                </a:cubicBezTo>
              </a:path>
              <a:path w="5049" h="1430">
                <a:moveTo>
                  <a:pt x="22987" y="13875"/>
                </a:moveTo>
                <a:cubicBezTo>
                  <a:pt x="22987" y="13843"/>
                  <a:pt x="22987" y="13832"/>
                  <a:pt x="22987" y="13811"/>
                </a:cubicBezTo>
                <a:cubicBezTo>
                  <a:pt x="22910" y="13811"/>
                  <a:pt x="22922" y="13847"/>
                  <a:pt x="22860" y="13875"/>
                </a:cubicBezTo>
                <a:cubicBezTo>
                  <a:pt x="22803" y="13900"/>
                  <a:pt x="22767" y="13970"/>
                  <a:pt x="22733" y="14034"/>
                </a:cubicBezTo>
                <a:cubicBezTo>
                  <a:pt x="22689" y="14117"/>
                  <a:pt x="22701" y="14196"/>
                  <a:pt x="22701" y="14288"/>
                </a:cubicBezTo>
                <a:cubicBezTo>
                  <a:pt x="22701" y="14375"/>
                  <a:pt x="22739" y="14446"/>
                  <a:pt x="22796" y="14510"/>
                </a:cubicBezTo>
                <a:cubicBezTo>
                  <a:pt x="22824" y="14541"/>
                  <a:pt x="22873" y="14601"/>
                  <a:pt x="22924" y="14573"/>
                </a:cubicBezTo>
                <a:cubicBezTo>
                  <a:pt x="22970" y="14548"/>
                  <a:pt x="23039" y="14464"/>
                  <a:pt x="23050" y="14414"/>
                </a:cubicBezTo>
                <a:cubicBezTo>
                  <a:pt x="23072" y="14319"/>
                  <a:pt x="23082" y="14231"/>
                  <a:pt x="23082" y="14129"/>
                </a:cubicBezTo>
                <a:cubicBezTo>
                  <a:pt x="23082" y="14060"/>
                  <a:pt x="23051" y="13999"/>
                  <a:pt x="23019" y="13970"/>
                </a:cubicBezTo>
                <a:cubicBezTo>
                  <a:pt x="23005" y="13958"/>
                  <a:pt x="22962" y="13858"/>
                  <a:pt x="22924" y="13906"/>
                </a:cubicBezTo>
                <a:cubicBezTo>
                  <a:pt x="22924" y="13938"/>
                  <a:pt x="22924" y="13949"/>
                  <a:pt x="22892" y="13938"/>
                </a:cubicBezTo>
              </a:path>
              <a:path w="5049" h="1430">
                <a:moveTo>
                  <a:pt x="23463" y="13875"/>
                </a:moveTo>
                <a:cubicBezTo>
                  <a:pt x="23463" y="13807"/>
                  <a:pt x="23449" y="13797"/>
                  <a:pt x="23400" y="13748"/>
                </a:cubicBezTo>
                <a:cubicBezTo>
                  <a:pt x="23329" y="13677"/>
                  <a:pt x="23348" y="13691"/>
                  <a:pt x="23273" y="13716"/>
                </a:cubicBezTo>
                <a:cubicBezTo>
                  <a:pt x="23212" y="13737"/>
                  <a:pt x="23232" y="13778"/>
                  <a:pt x="23209" y="13843"/>
                </a:cubicBezTo>
                <a:cubicBezTo>
                  <a:pt x="23190" y="13899"/>
                  <a:pt x="23165" y="13983"/>
                  <a:pt x="23209" y="14034"/>
                </a:cubicBezTo>
                <a:cubicBezTo>
                  <a:pt x="23239" y="14069"/>
                  <a:pt x="23263" y="14118"/>
                  <a:pt x="23304" y="14097"/>
                </a:cubicBezTo>
                <a:cubicBezTo>
                  <a:pt x="23312" y="14093"/>
                  <a:pt x="23375" y="14027"/>
                  <a:pt x="23400" y="14002"/>
                </a:cubicBezTo>
                <a:cubicBezTo>
                  <a:pt x="23432" y="13970"/>
                  <a:pt x="23458" y="13919"/>
                  <a:pt x="23463" y="13875"/>
                </a:cubicBezTo>
                <a:cubicBezTo>
                  <a:pt x="23472" y="13791"/>
                  <a:pt x="23463" y="13922"/>
                  <a:pt x="23463" y="13938"/>
                </a:cubicBezTo>
                <a:cubicBezTo>
                  <a:pt x="23463" y="14213"/>
                  <a:pt x="23463" y="14489"/>
                  <a:pt x="23463" y="14764"/>
                </a:cubicBezTo>
              </a:path>
              <a:path w="5049" h="1430">
                <a:moveTo>
                  <a:pt x="23717" y="14065"/>
                </a:moveTo>
                <a:cubicBezTo>
                  <a:pt x="23717" y="14101"/>
                  <a:pt x="23720" y="14115"/>
                  <a:pt x="23749" y="14129"/>
                </a:cubicBezTo>
              </a:path>
              <a:path w="5049" h="1430">
                <a:moveTo>
                  <a:pt x="23908" y="13589"/>
                </a:moveTo>
                <a:cubicBezTo>
                  <a:pt x="23908" y="13744"/>
                  <a:pt x="23893" y="13884"/>
                  <a:pt x="23876" y="14034"/>
                </a:cubicBezTo>
                <a:cubicBezTo>
                  <a:pt x="23862" y="14160"/>
                  <a:pt x="23850" y="14289"/>
                  <a:pt x="23844" y="14414"/>
                </a:cubicBezTo>
                <a:cubicBezTo>
                  <a:pt x="23841" y="14488"/>
                  <a:pt x="23844" y="14563"/>
                  <a:pt x="23844" y="14637"/>
                </a:cubicBezTo>
              </a:path>
              <a:path w="5049" h="1430">
                <a:moveTo>
                  <a:pt x="24098" y="13780"/>
                </a:moveTo>
                <a:cubicBezTo>
                  <a:pt x="24127" y="13751"/>
                  <a:pt x="24138" y="13745"/>
                  <a:pt x="24130" y="13716"/>
                </a:cubicBezTo>
                <a:cubicBezTo>
                  <a:pt x="24130" y="13822"/>
                  <a:pt x="24094" y="13900"/>
                  <a:pt x="24066" y="14002"/>
                </a:cubicBezTo>
                <a:cubicBezTo>
                  <a:pt x="24032" y="14123"/>
                  <a:pt x="24010" y="14261"/>
                  <a:pt x="24003" y="14383"/>
                </a:cubicBezTo>
                <a:cubicBezTo>
                  <a:pt x="24003" y="14404"/>
                  <a:pt x="24003" y="14425"/>
                  <a:pt x="24003" y="14446"/>
                </a:cubicBezTo>
                <a:cubicBezTo>
                  <a:pt x="24067" y="14446"/>
                  <a:pt x="24066" y="14439"/>
                  <a:pt x="24098" y="14383"/>
                </a:cubicBezTo>
                <a:cubicBezTo>
                  <a:pt x="24160" y="14275"/>
                  <a:pt x="24163" y="14174"/>
                  <a:pt x="24194" y="14065"/>
                </a:cubicBezTo>
                <a:cubicBezTo>
                  <a:pt x="24212" y="14000"/>
                  <a:pt x="24255" y="13884"/>
                  <a:pt x="24225" y="13811"/>
                </a:cubicBezTo>
                <a:cubicBezTo>
                  <a:pt x="24189" y="13722"/>
                  <a:pt x="24149" y="13771"/>
                  <a:pt x="24130" y="13780"/>
                </a:cubicBezTo>
                <a:cubicBezTo>
                  <a:pt x="24119" y="13780"/>
                  <a:pt x="24109" y="13780"/>
                  <a:pt x="24098" y="13780"/>
                </a:cubicBezTo>
              </a:path>
              <a:path w="5049" h="1430">
                <a:moveTo>
                  <a:pt x="24384" y="13716"/>
                </a:moveTo>
                <a:cubicBezTo>
                  <a:pt x="24370" y="13786"/>
                  <a:pt x="24342" y="13872"/>
                  <a:pt x="24320" y="13938"/>
                </a:cubicBezTo>
                <a:cubicBezTo>
                  <a:pt x="24285" y="14045"/>
                  <a:pt x="24289" y="14141"/>
                  <a:pt x="24289" y="14256"/>
                </a:cubicBezTo>
                <a:cubicBezTo>
                  <a:pt x="24289" y="14313"/>
                  <a:pt x="24285" y="14329"/>
                  <a:pt x="24320" y="14351"/>
                </a:cubicBezTo>
                <a:cubicBezTo>
                  <a:pt x="24378" y="14351"/>
                  <a:pt x="24414" y="14342"/>
                  <a:pt x="24448" y="14288"/>
                </a:cubicBezTo>
                <a:cubicBezTo>
                  <a:pt x="24511" y="14189"/>
                  <a:pt x="24514" y="14106"/>
                  <a:pt x="24543" y="14002"/>
                </a:cubicBezTo>
                <a:cubicBezTo>
                  <a:pt x="24567" y="13915"/>
                  <a:pt x="24593" y="13832"/>
                  <a:pt x="24543" y="13748"/>
                </a:cubicBezTo>
                <a:cubicBezTo>
                  <a:pt x="24507" y="13688"/>
                  <a:pt x="24485" y="13720"/>
                  <a:pt x="24448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0"/>
          <p:cNvSpPr/>
          <p:nvPr/>
        </p:nvSpPr>
        <p:spPr>
          <a:xfrm>
            <a:off x="7772400" y="5486400"/>
            <a:ext cx="720720" cy="789120"/>
          </a:xfrm>
          <a:custGeom>
            <a:avLst/>
            <a:gdLst/>
            <a:ahLst/>
            <a:rect l="l" t="t" r="r" b="b"/>
            <a:pathLst>
              <a:path w="2001" h="2192">
                <a:moveTo>
                  <a:pt x="22352" y="15526"/>
                </a:moveTo>
                <a:cubicBezTo>
                  <a:pt x="22340" y="15520"/>
                  <a:pt x="22348" y="15542"/>
                  <a:pt x="22288" y="15494"/>
                </a:cubicBezTo>
                <a:cubicBezTo>
                  <a:pt x="22263" y="15474"/>
                  <a:pt x="22237" y="15427"/>
                  <a:pt x="22193" y="15399"/>
                </a:cubicBezTo>
                <a:cubicBezTo>
                  <a:pt x="22156" y="15375"/>
                  <a:pt x="22109" y="15332"/>
                  <a:pt x="22066" y="15304"/>
                </a:cubicBezTo>
                <a:cubicBezTo>
                  <a:pt x="22001" y="15262"/>
                  <a:pt x="21939" y="15235"/>
                  <a:pt x="21876" y="15272"/>
                </a:cubicBezTo>
                <a:cubicBezTo>
                  <a:pt x="21767" y="15336"/>
                  <a:pt x="21774" y="15387"/>
                  <a:pt x="21717" y="15494"/>
                </a:cubicBezTo>
                <a:cubicBezTo>
                  <a:pt x="21639" y="15639"/>
                  <a:pt x="21654" y="15748"/>
                  <a:pt x="21622" y="15907"/>
                </a:cubicBezTo>
                <a:cubicBezTo>
                  <a:pt x="21597" y="16030"/>
                  <a:pt x="21595" y="16219"/>
                  <a:pt x="21622" y="16351"/>
                </a:cubicBezTo>
                <a:cubicBezTo>
                  <a:pt x="21641" y="16445"/>
                  <a:pt x="21697" y="16458"/>
                  <a:pt x="21749" y="16510"/>
                </a:cubicBezTo>
                <a:cubicBezTo>
                  <a:pt x="21820" y="16437"/>
                  <a:pt x="21850" y="16398"/>
                  <a:pt x="21908" y="16320"/>
                </a:cubicBezTo>
                <a:cubicBezTo>
                  <a:pt x="21993" y="16207"/>
                  <a:pt x="22044" y="16074"/>
                  <a:pt x="22098" y="15938"/>
                </a:cubicBezTo>
                <a:cubicBezTo>
                  <a:pt x="22153" y="15801"/>
                  <a:pt x="22202" y="15663"/>
                  <a:pt x="22257" y="15526"/>
                </a:cubicBezTo>
                <a:cubicBezTo>
                  <a:pt x="22284" y="15470"/>
                  <a:pt x="22288" y="15455"/>
                  <a:pt x="22320" y="15430"/>
                </a:cubicBezTo>
                <a:cubicBezTo>
                  <a:pt x="22320" y="15521"/>
                  <a:pt x="22298" y="15601"/>
                  <a:pt x="22288" y="15684"/>
                </a:cubicBezTo>
                <a:cubicBezTo>
                  <a:pt x="22270" y="15830"/>
                  <a:pt x="22238" y="15983"/>
                  <a:pt x="22225" y="16129"/>
                </a:cubicBezTo>
                <a:cubicBezTo>
                  <a:pt x="22209" y="16319"/>
                  <a:pt x="22174" y="16512"/>
                  <a:pt x="22162" y="16700"/>
                </a:cubicBezTo>
                <a:cubicBezTo>
                  <a:pt x="22147" y="16941"/>
                  <a:pt x="22162" y="17189"/>
                  <a:pt x="22162" y="17431"/>
                </a:cubicBezTo>
              </a:path>
              <a:path w="2001" h="2192">
                <a:moveTo>
                  <a:pt x="22987" y="15335"/>
                </a:moveTo>
                <a:cubicBezTo>
                  <a:pt x="22964" y="15267"/>
                  <a:pt x="23005" y="15282"/>
                  <a:pt x="22924" y="15272"/>
                </a:cubicBezTo>
                <a:cubicBezTo>
                  <a:pt x="22870" y="15265"/>
                  <a:pt x="22845" y="15248"/>
                  <a:pt x="22796" y="15240"/>
                </a:cubicBezTo>
                <a:cubicBezTo>
                  <a:pt x="22731" y="15229"/>
                  <a:pt x="22684" y="15235"/>
                  <a:pt x="22638" y="15272"/>
                </a:cubicBezTo>
                <a:cubicBezTo>
                  <a:pt x="22563" y="15332"/>
                  <a:pt x="22568" y="15381"/>
                  <a:pt x="22542" y="15462"/>
                </a:cubicBezTo>
                <a:cubicBezTo>
                  <a:pt x="22517" y="15538"/>
                  <a:pt x="22488" y="15632"/>
                  <a:pt x="22511" y="15716"/>
                </a:cubicBezTo>
                <a:cubicBezTo>
                  <a:pt x="22524" y="15765"/>
                  <a:pt x="22581" y="15875"/>
                  <a:pt x="22638" y="15875"/>
                </a:cubicBezTo>
                <a:cubicBezTo>
                  <a:pt x="22675" y="15875"/>
                  <a:pt x="22811" y="15748"/>
                  <a:pt x="22828" y="15716"/>
                </a:cubicBezTo>
                <a:cubicBezTo>
                  <a:pt x="22873" y="15633"/>
                  <a:pt x="22920" y="15520"/>
                  <a:pt x="22955" y="15430"/>
                </a:cubicBezTo>
                <a:cubicBezTo>
                  <a:pt x="22985" y="15354"/>
                  <a:pt x="23004" y="15298"/>
                  <a:pt x="23050" y="15240"/>
                </a:cubicBezTo>
                <a:cubicBezTo>
                  <a:pt x="23087" y="15262"/>
                  <a:pt x="23099" y="15249"/>
                  <a:pt x="23146" y="15272"/>
                </a:cubicBezTo>
                <a:cubicBezTo>
                  <a:pt x="23184" y="15291"/>
                  <a:pt x="23196" y="15311"/>
                  <a:pt x="23209" y="15367"/>
                </a:cubicBezTo>
                <a:cubicBezTo>
                  <a:pt x="23232" y="15464"/>
                  <a:pt x="23168" y="15653"/>
                  <a:pt x="23146" y="15748"/>
                </a:cubicBezTo>
                <a:cubicBezTo>
                  <a:pt x="23100" y="15949"/>
                  <a:pt x="23058" y="16149"/>
                  <a:pt x="23019" y="16351"/>
                </a:cubicBezTo>
                <a:cubicBezTo>
                  <a:pt x="22959" y="16666"/>
                  <a:pt x="22925" y="16993"/>
                  <a:pt x="22860" y="17304"/>
                </a:cubicBezTo>
                <a:cubicBezTo>
                  <a:pt x="22834" y="17427"/>
                  <a:pt x="22786" y="17442"/>
                  <a:pt x="22860" y="17367"/>
                </a:cubicBezTo>
              </a:path>
              <a:path w="2001" h="2192">
                <a:moveTo>
                  <a:pt x="23463" y="16415"/>
                </a:moveTo>
                <a:cubicBezTo>
                  <a:pt x="23463" y="16510"/>
                  <a:pt x="23419" y="16551"/>
                  <a:pt x="23400" y="16637"/>
                </a:cubicBezTo>
                <a:cubicBezTo>
                  <a:pt x="23383" y="16715"/>
                  <a:pt x="23336" y="16871"/>
                  <a:pt x="23368" y="16954"/>
                </a:cubicBezTo>
                <a:cubicBezTo>
                  <a:pt x="23387" y="17003"/>
                  <a:pt x="23414" y="17037"/>
                  <a:pt x="23463" y="17050"/>
                </a:cubicBezTo>
                <a:cubicBezTo>
                  <a:pt x="23526" y="16987"/>
                  <a:pt x="23549" y="16921"/>
                  <a:pt x="23558" y="16828"/>
                </a:cubicBezTo>
                <a:cubicBezTo>
                  <a:pt x="23573" y="16672"/>
                  <a:pt x="23575" y="16566"/>
                  <a:pt x="23558" y="16415"/>
                </a:cubicBezTo>
                <a:cubicBezTo>
                  <a:pt x="23555" y="16392"/>
                  <a:pt x="23553" y="16215"/>
                  <a:pt x="23463" y="16256"/>
                </a:cubicBezTo>
                <a:cubicBezTo>
                  <a:pt x="23422" y="16299"/>
                  <a:pt x="23400" y="16320"/>
                  <a:pt x="23368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 and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590920" y="2743200"/>
                <a:ext cx="3581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·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" name="Ink 4"/>
          <p:cNvSpPr/>
          <p:nvPr/>
        </p:nvSpPr>
        <p:spPr>
          <a:xfrm>
            <a:off x="3622680" y="2193840"/>
            <a:ext cx="915840" cy="480960"/>
          </a:xfrm>
          <a:custGeom>
            <a:avLst/>
            <a:gdLst/>
            <a:ahLst/>
            <a:rect l="l" t="t" r="r" b="b"/>
            <a:pathLst>
              <a:path w="2541" h="1335">
                <a:moveTo>
                  <a:pt x="10446" y="6286"/>
                </a:moveTo>
                <a:cubicBezTo>
                  <a:pt x="10507" y="6266"/>
                  <a:pt x="10479" y="6220"/>
                  <a:pt x="10446" y="6191"/>
                </a:cubicBezTo>
                <a:cubicBezTo>
                  <a:pt x="10389" y="6143"/>
                  <a:pt x="10433" y="6128"/>
                  <a:pt x="10350" y="6128"/>
                </a:cubicBezTo>
                <a:cubicBezTo>
                  <a:pt x="10290" y="6128"/>
                  <a:pt x="10236" y="6161"/>
                  <a:pt x="10192" y="6191"/>
                </a:cubicBezTo>
                <a:cubicBezTo>
                  <a:pt x="10148" y="6220"/>
                  <a:pt x="10101" y="6303"/>
                  <a:pt x="10096" y="6350"/>
                </a:cubicBezTo>
                <a:cubicBezTo>
                  <a:pt x="10089" y="6409"/>
                  <a:pt x="10163" y="6455"/>
                  <a:pt x="10192" y="6477"/>
                </a:cubicBezTo>
                <a:cubicBezTo>
                  <a:pt x="10251" y="6523"/>
                  <a:pt x="10327" y="6597"/>
                  <a:pt x="10350" y="6668"/>
                </a:cubicBezTo>
                <a:cubicBezTo>
                  <a:pt x="10370" y="6730"/>
                  <a:pt x="10382" y="6751"/>
                  <a:pt x="10382" y="6826"/>
                </a:cubicBezTo>
                <a:cubicBezTo>
                  <a:pt x="10382" y="6895"/>
                  <a:pt x="10327" y="6896"/>
                  <a:pt x="10287" y="6922"/>
                </a:cubicBezTo>
                <a:cubicBezTo>
                  <a:pt x="10237" y="6955"/>
                  <a:pt x="10223" y="6953"/>
                  <a:pt x="10160" y="6953"/>
                </a:cubicBezTo>
                <a:cubicBezTo>
                  <a:pt x="10055" y="6953"/>
                  <a:pt x="10065" y="6963"/>
                  <a:pt x="10065" y="6858"/>
                </a:cubicBezTo>
              </a:path>
              <a:path w="2541" h="1335">
                <a:moveTo>
                  <a:pt x="10573" y="6096"/>
                </a:moveTo>
                <a:cubicBezTo>
                  <a:pt x="10594" y="6183"/>
                  <a:pt x="10585" y="6192"/>
                  <a:pt x="10573" y="6286"/>
                </a:cubicBezTo>
                <a:cubicBezTo>
                  <a:pt x="10559" y="6400"/>
                  <a:pt x="10598" y="6494"/>
                  <a:pt x="10604" y="6604"/>
                </a:cubicBezTo>
                <a:cubicBezTo>
                  <a:pt x="10609" y="6703"/>
                  <a:pt x="10613" y="6767"/>
                  <a:pt x="10636" y="6858"/>
                </a:cubicBezTo>
                <a:cubicBezTo>
                  <a:pt x="10636" y="6890"/>
                  <a:pt x="10636" y="6901"/>
                  <a:pt x="10604" y="6890"/>
                </a:cubicBezTo>
              </a:path>
              <a:path w="2541" h="1335">
                <a:moveTo>
                  <a:pt x="10414" y="6572"/>
                </a:moveTo>
                <a:cubicBezTo>
                  <a:pt x="10487" y="6572"/>
                  <a:pt x="10546" y="6552"/>
                  <a:pt x="10604" y="6540"/>
                </a:cubicBezTo>
                <a:cubicBezTo>
                  <a:pt x="10646" y="6532"/>
                  <a:pt x="10720" y="6540"/>
                  <a:pt x="10763" y="6540"/>
                </a:cubicBezTo>
              </a:path>
              <a:path w="2541" h="1335">
                <a:moveTo>
                  <a:pt x="11049" y="6445"/>
                </a:moveTo>
                <a:cubicBezTo>
                  <a:pt x="11049" y="6392"/>
                  <a:pt x="11049" y="6382"/>
                  <a:pt x="11049" y="6350"/>
                </a:cubicBezTo>
                <a:cubicBezTo>
                  <a:pt x="11010" y="6360"/>
                  <a:pt x="10948" y="6377"/>
                  <a:pt x="10922" y="6414"/>
                </a:cubicBezTo>
                <a:cubicBezTo>
                  <a:pt x="10865" y="6496"/>
                  <a:pt x="10856" y="6582"/>
                  <a:pt x="10827" y="6668"/>
                </a:cubicBezTo>
                <a:cubicBezTo>
                  <a:pt x="10801" y="6746"/>
                  <a:pt x="10802" y="6795"/>
                  <a:pt x="10858" y="6858"/>
                </a:cubicBezTo>
                <a:cubicBezTo>
                  <a:pt x="10887" y="6887"/>
                  <a:pt x="10893" y="6898"/>
                  <a:pt x="10922" y="6890"/>
                </a:cubicBezTo>
                <a:cubicBezTo>
                  <a:pt x="10942" y="6863"/>
                  <a:pt x="11008" y="6794"/>
                  <a:pt x="11017" y="6763"/>
                </a:cubicBezTo>
                <a:cubicBezTo>
                  <a:pt x="11037" y="6692"/>
                  <a:pt x="11049" y="6616"/>
                  <a:pt x="11049" y="6540"/>
                </a:cubicBezTo>
                <a:cubicBezTo>
                  <a:pt x="11049" y="6509"/>
                  <a:pt x="11049" y="6499"/>
                  <a:pt x="11049" y="6540"/>
                </a:cubicBezTo>
                <a:cubicBezTo>
                  <a:pt x="11049" y="6613"/>
                  <a:pt x="11070" y="6664"/>
                  <a:pt x="11081" y="6731"/>
                </a:cubicBezTo>
                <a:cubicBezTo>
                  <a:pt x="11087" y="6768"/>
                  <a:pt x="11081" y="6819"/>
                  <a:pt x="11081" y="6858"/>
                </a:cubicBezTo>
              </a:path>
              <a:path w="2541" h="1335">
                <a:moveTo>
                  <a:pt x="11208" y="6445"/>
                </a:moveTo>
                <a:cubicBezTo>
                  <a:pt x="11208" y="6579"/>
                  <a:pt x="11205" y="6710"/>
                  <a:pt x="11240" y="6826"/>
                </a:cubicBezTo>
                <a:cubicBezTo>
                  <a:pt x="11240" y="6837"/>
                  <a:pt x="11240" y="6847"/>
                  <a:pt x="11240" y="6858"/>
                </a:cubicBezTo>
                <a:cubicBezTo>
                  <a:pt x="11205" y="6776"/>
                  <a:pt x="11208" y="6727"/>
                  <a:pt x="11208" y="6636"/>
                </a:cubicBezTo>
                <a:cubicBezTo>
                  <a:pt x="11208" y="6551"/>
                  <a:pt x="11211" y="6511"/>
                  <a:pt x="11271" y="6445"/>
                </a:cubicBezTo>
                <a:cubicBezTo>
                  <a:pt x="11317" y="6394"/>
                  <a:pt x="11317" y="6436"/>
                  <a:pt x="11335" y="6382"/>
                </a:cubicBezTo>
              </a:path>
              <a:path w="2541" h="1335">
                <a:moveTo>
                  <a:pt x="11525" y="6096"/>
                </a:moveTo>
                <a:cubicBezTo>
                  <a:pt x="11525" y="6166"/>
                  <a:pt x="11498" y="6216"/>
                  <a:pt x="11494" y="6286"/>
                </a:cubicBezTo>
                <a:cubicBezTo>
                  <a:pt x="11487" y="6407"/>
                  <a:pt x="11467" y="6517"/>
                  <a:pt x="11462" y="6636"/>
                </a:cubicBezTo>
                <a:cubicBezTo>
                  <a:pt x="11459" y="6708"/>
                  <a:pt x="11494" y="6755"/>
                  <a:pt x="11494" y="6826"/>
                </a:cubicBezTo>
                <a:cubicBezTo>
                  <a:pt x="11494" y="6837"/>
                  <a:pt x="11494" y="6847"/>
                  <a:pt x="11494" y="6858"/>
                </a:cubicBezTo>
              </a:path>
              <a:path w="2541" h="1335">
                <a:moveTo>
                  <a:pt x="11335" y="6604"/>
                </a:moveTo>
                <a:cubicBezTo>
                  <a:pt x="11335" y="6593"/>
                  <a:pt x="11335" y="6583"/>
                  <a:pt x="11335" y="6572"/>
                </a:cubicBezTo>
                <a:cubicBezTo>
                  <a:pt x="11423" y="6572"/>
                  <a:pt x="11474" y="6561"/>
                  <a:pt x="11557" y="6540"/>
                </a:cubicBezTo>
                <a:cubicBezTo>
                  <a:pt x="11568" y="6540"/>
                  <a:pt x="11578" y="6540"/>
                  <a:pt x="11589" y="6540"/>
                </a:cubicBezTo>
              </a:path>
              <a:path w="2541" h="1335">
                <a:moveTo>
                  <a:pt x="11748" y="6286"/>
                </a:moveTo>
                <a:cubicBezTo>
                  <a:pt x="11748" y="6359"/>
                  <a:pt x="11727" y="6410"/>
                  <a:pt x="11716" y="6477"/>
                </a:cubicBezTo>
                <a:cubicBezTo>
                  <a:pt x="11700" y="6574"/>
                  <a:pt x="11684" y="6663"/>
                  <a:pt x="11684" y="6763"/>
                </a:cubicBezTo>
                <a:cubicBezTo>
                  <a:pt x="11684" y="6825"/>
                  <a:pt x="11704" y="6864"/>
                  <a:pt x="11716" y="6922"/>
                </a:cubicBezTo>
              </a:path>
              <a:path w="2541" h="1335">
                <a:moveTo>
                  <a:pt x="11843" y="6445"/>
                </a:moveTo>
                <a:cubicBezTo>
                  <a:pt x="11890" y="6461"/>
                  <a:pt x="11874" y="6484"/>
                  <a:pt x="11874" y="6540"/>
                </a:cubicBezTo>
                <a:cubicBezTo>
                  <a:pt x="11874" y="6657"/>
                  <a:pt x="11874" y="6773"/>
                  <a:pt x="11874" y="6890"/>
                </a:cubicBezTo>
                <a:cubicBezTo>
                  <a:pt x="11874" y="6794"/>
                  <a:pt x="11891" y="6724"/>
                  <a:pt x="11906" y="6636"/>
                </a:cubicBezTo>
                <a:cubicBezTo>
                  <a:pt x="11921" y="6544"/>
                  <a:pt x="11935" y="6512"/>
                  <a:pt x="12002" y="6445"/>
                </a:cubicBezTo>
                <a:cubicBezTo>
                  <a:pt x="12040" y="6407"/>
                  <a:pt x="12047" y="6414"/>
                  <a:pt x="12097" y="6414"/>
                </a:cubicBezTo>
                <a:cubicBezTo>
                  <a:pt x="12132" y="6473"/>
                  <a:pt x="12157" y="6532"/>
                  <a:pt x="12160" y="6604"/>
                </a:cubicBezTo>
                <a:cubicBezTo>
                  <a:pt x="12165" y="6704"/>
                  <a:pt x="12133" y="6872"/>
                  <a:pt x="12192" y="6922"/>
                </a:cubicBezTo>
                <a:cubicBezTo>
                  <a:pt x="12203" y="6932"/>
                  <a:pt x="12213" y="6943"/>
                  <a:pt x="12224" y="6953"/>
                </a:cubicBezTo>
              </a:path>
              <a:path w="2541" h="1335">
                <a:moveTo>
                  <a:pt x="12541" y="6509"/>
                </a:moveTo>
                <a:cubicBezTo>
                  <a:pt x="12541" y="6425"/>
                  <a:pt x="12532" y="6421"/>
                  <a:pt x="12446" y="6414"/>
                </a:cubicBezTo>
                <a:cubicBezTo>
                  <a:pt x="12387" y="6409"/>
                  <a:pt x="12315" y="6530"/>
                  <a:pt x="12287" y="6572"/>
                </a:cubicBezTo>
                <a:cubicBezTo>
                  <a:pt x="12223" y="6669"/>
                  <a:pt x="12265" y="6734"/>
                  <a:pt x="12287" y="6826"/>
                </a:cubicBezTo>
                <a:cubicBezTo>
                  <a:pt x="12287" y="6862"/>
                  <a:pt x="12290" y="6876"/>
                  <a:pt x="12319" y="6890"/>
                </a:cubicBezTo>
                <a:cubicBezTo>
                  <a:pt x="12366" y="6878"/>
                  <a:pt x="12416" y="6841"/>
                  <a:pt x="12446" y="6794"/>
                </a:cubicBezTo>
                <a:cubicBezTo>
                  <a:pt x="12494" y="6721"/>
                  <a:pt x="12510" y="6691"/>
                  <a:pt x="12510" y="6604"/>
                </a:cubicBezTo>
                <a:cubicBezTo>
                  <a:pt x="12510" y="6583"/>
                  <a:pt x="12510" y="6561"/>
                  <a:pt x="12510" y="6540"/>
                </a:cubicBezTo>
                <a:cubicBezTo>
                  <a:pt x="12510" y="6465"/>
                  <a:pt x="12537" y="6622"/>
                  <a:pt x="12541" y="6636"/>
                </a:cubicBezTo>
                <a:cubicBezTo>
                  <a:pt x="12560" y="6716"/>
                  <a:pt x="12561" y="6839"/>
                  <a:pt x="12573" y="6922"/>
                </a:cubicBezTo>
                <a:cubicBezTo>
                  <a:pt x="12591" y="7044"/>
                  <a:pt x="12597" y="7082"/>
                  <a:pt x="12573" y="7207"/>
                </a:cubicBezTo>
                <a:cubicBezTo>
                  <a:pt x="12562" y="7263"/>
                  <a:pt x="12535" y="7366"/>
                  <a:pt x="12478" y="7398"/>
                </a:cubicBezTo>
                <a:cubicBezTo>
                  <a:pt x="12421" y="7430"/>
                  <a:pt x="12385" y="7442"/>
                  <a:pt x="12319" y="7398"/>
                </a:cubicBezTo>
                <a:cubicBezTo>
                  <a:pt x="12249" y="7351"/>
                  <a:pt x="12212" y="7304"/>
                  <a:pt x="12160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5"/>
          <p:cNvSpPr/>
          <p:nvPr/>
        </p:nvSpPr>
        <p:spPr>
          <a:xfrm>
            <a:off x="4686480" y="2239920"/>
            <a:ext cx="949320" cy="274680"/>
          </a:xfrm>
          <a:custGeom>
            <a:avLst/>
            <a:gdLst/>
            <a:ahLst/>
            <a:rect l="l" t="t" r="r" b="b"/>
            <a:pathLst>
              <a:path w="2636" h="763">
                <a:moveTo>
                  <a:pt x="13367" y="6509"/>
                </a:moveTo>
                <a:cubicBezTo>
                  <a:pt x="13356" y="6465"/>
                  <a:pt x="13345" y="6376"/>
                  <a:pt x="13303" y="6350"/>
                </a:cubicBezTo>
                <a:cubicBezTo>
                  <a:pt x="13260" y="6323"/>
                  <a:pt x="13204" y="6366"/>
                  <a:pt x="13176" y="6382"/>
                </a:cubicBezTo>
                <a:cubicBezTo>
                  <a:pt x="13052" y="6454"/>
                  <a:pt x="13085" y="6475"/>
                  <a:pt x="13049" y="6604"/>
                </a:cubicBezTo>
                <a:cubicBezTo>
                  <a:pt x="13017" y="6717"/>
                  <a:pt x="13024" y="6746"/>
                  <a:pt x="13049" y="6858"/>
                </a:cubicBezTo>
                <a:cubicBezTo>
                  <a:pt x="13049" y="6869"/>
                  <a:pt x="13049" y="6879"/>
                  <a:pt x="13049" y="6890"/>
                </a:cubicBezTo>
                <a:cubicBezTo>
                  <a:pt x="13112" y="6890"/>
                  <a:pt x="13167" y="6882"/>
                  <a:pt x="13208" y="6826"/>
                </a:cubicBezTo>
                <a:cubicBezTo>
                  <a:pt x="13264" y="6748"/>
                  <a:pt x="13275" y="6688"/>
                  <a:pt x="13303" y="6604"/>
                </a:cubicBezTo>
                <a:cubicBezTo>
                  <a:pt x="13311" y="6581"/>
                  <a:pt x="13335" y="6438"/>
                  <a:pt x="13335" y="6509"/>
                </a:cubicBezTo>
                <a:cubicBezTo>
                  <a:pt x="13335" y="6548"/>
                  <a:pt x="13324" y="6904"/>
                  <a:pt x="13367" y="6890"/>
                </a:cubicBezTo>
                <a:cubicBezTo>
                  <a:pt x="13367" y="6879"/>
                  <a:pt x="13367" y="6869"/>
                  <a:pt x="13367" y="6858"/>
                </a:cubicBezTo>
              </a:path>
              <a:path w="2636" h="763">
                <a:moveTo>
                  <a:pt x="13494" y="6382"/>
                </a:moveTo>
                <a:cubicBezTo>
                  <a:pt x="13494" y="6454"/>
                  <a:pt x="13466" y="6505"/>
                  <a:pt x="13462" y="6572"/>
                </a:cubicBezTo>
                <a:cubicBezTo>
                  <a:pt x="13457" y="6653"/>
                  <a:pt x="13447" y="6733"/>
                  <a:pt x="13494" y="6794"/>
                </a:cubicBezTo>
                <a:cubicBezTo>
                  <a:pt x="13494" y="6679"/>
                  <a:pt x="13508" y="6584"/>
                  <a:pt x="13526" y="6477"/>
                </a:cubicBezTo>
                <a:cubicBezTo>
                  <a:pt x="13539" y="6400"/>
                  <a:pt x="13541" y="6370"/>
                  <a:pt x="13621" y="6350"/>
                </a:cubicBezTo>
                <a:cubicBezTo>
                  <a:pt x="13671" y="6367"/>
                  <a:pt x="13661" y="6420"/>
                  <a:pt x="13684" y="6477"/>
                </a:cubicBezTo>
                <a:cubicBezTo>
                  <a:pt x="13717" y="6557"/>
                  <a:pt x="13716" y="6612"/>
                  <a:pt x="13716" y="6699"/>
                </a:cubicBezTo>
                <a:cubicBezTo>
                  <a:pt x="13716" y="6731"/>
                  <a:pt x="13716" y="6742"/>
                  <a:pt x="13716" y="6763"/>
                </a:cubicBezTo>
                <a:cubicBezTo>
                  <a:pt x="13728" y="6714"/>
                  <a:pt x="13731" y="6655"/>
                  <a:pt x="13748" y="6604"/>
                </a:cubicBezTo>
                <a:cubicBezTo>
                  <a:pt x="13769" y="6542"/>
                  <a:pt x="13786" y="6426"/>
                  <a:pt x="13843" y="6382"/>
                </a:cubicBezTo>
                <a:cubicBezTo>
                  <a:pt x="13875" y="6382"/>
                  <a:pt x="13885" y="6382"/>
                  <a:pt x="13906" y="6382"/>
                </a:cubicBezTo>
                <a:cubicBezTo>
                  <a:pt x="13949" y="6454"/>
                  <a:pt x="13938" y="6514"/>
                  <a:pt x="13938" y="6604"/>
                </a:cubicBezTo>
                <a:cubicBezTo>
                  <a:pt x="13938" y="6672"/>
                  <a:pt x="13912" y="6775"/>
                  <a:pt x="13970" y="6794"/>
                </a:cubicBezTo>
              </a:path>
              <a:path w="2636" h="763">
                <a:moveTo>
                  <a:pt x="14224" y="6477"/>
                </a:moveTo>
                <a:cubicBezTo>
                  <a:pt x="14224" y="6441"/>
                  <a:pt x="14221" y="6427"/>
                  <a:pt x="14192" y="6414"/>
                </a:cubicBezTo>
                <a:cubicBezTo>
                  <a:pt x="14147" y="6504"/>
                  <a:pt x="14084" y="6599"/>
                  <a:pt x="14065" y="6699"/>
                </a:cubicBezTo>
                <a:cubicBezTo>
                  <a:pt x="14052" y="6765"/>
                  <a:pt x="14062" y="6811"/>
                  <a:pt x="14097" y="6858"/>
                </a:cubicBezTo>
                <a:cubicBezTo>
                  <a:pt x="14131" y="6849"/>
                  <a:pt x="14211" y="6807"/>
                  <a:pt x="14224" y="6763"/>
                </a:cubicBezTo>
                <a:cubicBezTo>
                  <a:pt x="14240" y="6707"/>
                  <a:pt x="14281" y="6604"/>
                  <a:pt x="14256" y="6540"/>
                </a:cubicBezTo>
                <a:cubicBezTo>
                  <a:pt x="14240" y="6499"/>
                  <a:pt x="14220" y="6450"/>
                  <a:pt x="14192" y="6414"/>
                </a:cubicBezTo>
              </a:path>
              <a:path w="2636" h="763">
                <a:moveTo>
                  <a:pt x="14224" y="6477"/>
                </a:moveTo>
                <a:cubicBezTo>
                  <a:pt x="14256" y="6435"/>
                  <a:pt x="14287" y="6392"/>
                  <a:pt x="14319" y="6350"/>
                </a:cubicBezTo>
              </a:path>
              <a:path w="2636" h="763">
                <a:moveTo>
                  <a:pt x="14319" y="6350"/>
                </a:moveTo>
                <a:cubicBezTo>
                  <a:pt x="14383" y="6398"/>
                  <a:pt x="14383" y="6387"/>
                  <a:pt x="14383" y="6477"/>
                </a:cubicBezTo>
                <a:cubicBezTo>
                  <a:pt x="14383" y="6558"/>
                  <a:pt x="14351" y="6609"/>
                  <a:pt x="14351" y="6699"/>
                </a:cubicBezTo>
                <a:cubicBezTo>
                  <a:pt x="14351" y="6796"/>
                  <a:pt x="14347" y="6822"/>
                  <a:pt x="14414" y="6890"/>
                </a:cubicBezTo>
                <a:cubicBezTo>
                  <a:pt x="14444" y="6880"/>
                  <a:pt x="14483" y="6836"/>
                  <a:pt x="14510" y="6794"/>
                </a:cubicBezTo>
                <a:cubicBezTo>
                  <a:pt x="14565" y="6709"/>
                  <a:pt x="14573" y="6673"/>
                  <a:pt x="14573" y="6572"/>
                </a:cubicBezTo>
                <a:cubicBezTo>
                  <a:pt x="14573" y="6497"/>
                  <a:pt x="14609" y="6548"/>
                  <a:pt x="14573" y="6477"/>
                </a:cubicBezTo>
                <a:cubicBezTo>
                  <a:pt x="14573" y="6601"/>
                  <a:pt x="14569" y="6720"/>
                  <a:pt x="14605" y="6826"/>
                </a:cubicBezTo>
                <a:cubicBezTo>
                  <a:pt x="14605" y="6862"/>
                  <a:pt x="14608" y="6876"/>
                  <a:pt x="14637" y="6890"/>
                </a:cubicBezTo>
              </a:path>
              <a:path w="2636" h="763">
                <a:moveTo>
                  <a:pt x="14796" y="6477"/>
                </a:moveTo>
                <a:cubicBezTo>
                  <a:pt x="14796" y="6615"/>
                  <a:pt x="14796" y="6752"/>
                  <a:pt x="14796" y="6890"/>
                </a:cubicBezTo>
                <a:cubicBezTo>
                  <a:pt x="14806" y="6808"/>
                  <a:pt x="14823" y="6743"/>
                  <a:pt x="14859" y="6668"/>
                </a:cubicBezTo>
                <a:cubicBezTo>
                  <a:pt x="14888" y="6608"/>
                  <a:pt x="14924" y="6479"/>
                  <a:pt x="14986" y="6445"/>
                </a:cubicBezTo>
                <a:cubicBezTo>
                  <a:pt x="15012" y="6431"/>
                  <a:pt x="15050" y="6422"/>
                  <a:pt x="15081" y="6414"/>
                </a:cubicBezTo>
                <a:cubicBezTo>
                  <a:pt x="15081" y="6558"/>
                  <a:pt x="15088" y="6700"/>
                  <a:pt x="15113" y="6826"/>
                </a:cubicBezTo>
                <a:cubicBezTo>
                  <a:pt x="15122" y="6870"/>
                  <a:pt x="15126" y="6960"/>
                  <a:pt x="15176" y="6985"/>
                </a:cubicBezTo>
                <a:cubicBezTo>
                  <a:pt x="15233" y="7013"/>
                  <a:pt x="15247" y="6955"/>
                  <a:pt x="15272" y="6922"/>
                </a:cubicBezTo>
              </a:path>
              <a:path w="2636" h="763">
                <a:moveTo>
                  <a:pt x="15494" y="6223"/>
                </a:moveTo>
                <a:cubicBezTo>
                  <a:pt x="15479" y="6344"/>
                  <a:pt x="15416" y="6448"/>
                  <a:pt x="15399" y="6572"/>
                </a:cubicBezTo>
                <a:cubicBezTo>
                  <a:pt x="15388" y="6651"/>
                  <a:pt x="15406" y="6755"/>
                  <a:pt x="15430" y="6826"/>
                </a:cubicBezTo>
                <a:cubicBezTo>
                  <a:pt x="15462" y="6890"/>
                  <a:pt x="15472" y="6911"/>
                  <a:pt x="15494" y="6953"/>
                </a:cubicBezTo>
              </a:path>
              <a:path w="2636" h="763">
                <a:moveTo>
                  <a:pt x="15304" y="6668"/>
                </a:moveTo>
                <a:cubicBezTo>
                  <a:pt x="15339" y="6597"/>
                  <a:pt x="15380" y="6604"/>
                  <a:pt x="15462" y="6604"/>
                </a:cubicBezTo>
                <a:cubicBezTo>
                  <a:pt x="15544" y="6604"/>
                  <a:pt x="15577" y="6608"/>
                  <a:pt x="1565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6"/>
          <p:cNvSpPr/>
          <p:nvPr/>
        </p:nvSpPr>
        <p:spPr>
          <a:xfrm>
            <a:off x="4286160" y="2571840"/>
            <a:ext cx="182520" cy="582480"/>
          </a:xfrm>
          <a:custGeom>
            <a:avLst/>
            <a:gdLst/>
            <a:ahLst/>
            <a:rect l="l" t="t" r="r" b="b"/>
            <a:pathLst>
              <a:path w="509" h="1620">
                <a:moveTo>
                  <a:pt x="12160" y="8763"/>
                </a:moveTo>
                <a:cubicBezTo>
                  <a:pt x="12160" y="8548"/>
                  <a:pt x="12156" y="8333"/>
                  <a:pt x="12192" y="8128"/>
                </a:cubicBezTo>
                <a:cubicBezTo>
                  <a:pt x="12221" y="7963"/>
                  <a:pt x="12197" y="7782"/>
                  <a:pt x="12224" y="7620"/>
                </a:cubicBezTo>
                <a:cubicBezTo>
                  <a:pt x="12237" y="7542"/>
                  <a:pt x="12252" y="7471"/>
                  <a:pt x="12256" y="7398"/>
                </a:cubicBezTo>
                <a:cubicBezTo>
                  <a:pt x="12260" y="7333"/>
                  <a:pt x="12273" y="7326"/>
                  <a:pt x="12287" y="7271"/>
                </a:cubicBezTo>
              </a:path>
              <a:path w="509" h="1620">
                <a:moveTo>
                  <a:pt x="11906" y="7620"/>
                </a:moveTo>
                <a:cubicBezTo>
                  <a:pt x="11935" y="7610"/>
                  <a:pt x="11956" y="7566"/>
                  <a:pt x="11970" y="7525"/>
                </a:cubicBezTo>
                <a:cubicBezTo>
                  <a:pt x="11986" y="7477"/>
                  <a:pt x="12001" y="7414"/>
                  <a:pt x="12033" y="7366"/>
                </a:cubicBezTo>
                <a:cubicBezTo>
                  <a:pt x="12068" y="7313"/>
                  <a:pt x="12118" y="7253"/>
                  <a:pt x="12160" y="7207"/>
                </a:cubicBezTo>
                <a:cubicBezTo>
                  <a:pt x="12192" y="7172"/>
                  <a:pt x="12244" y="7155"/>
                  <a:pt x="12287" y="7144"/>
                </a:cubicBezTo>
                <a:cubicBezTo>
                  <a:pt x="12287" y="7209"/>
                  <a:pt x="12311" y="7253"/>
                  <a:pt x="12319" y="7302"/>
                </a:cubicBezTo>
                <a:cubicBezTo>
                  <a:pt x="12333" y="7393"/>
                  <a:pt x="12327" y="7447"/>
                  <a:pt x="12351" y="7525"/>
                </a:cubicBezTo>
                <a:cubicBezTo>
                  <a:pt x="12365" y="7570"/>
                  <a:pt x="12379" y="7641"/>
                  <a:pt x="12382" y="7684"/>
                </a:cubicBezTo>
                <a:cubicBezTo>
                  <a:pt x="12382" y="7741"/>
                  <a:pt x="12378" y="7758"/>
                  <a:pt x="12414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5361120" y="3703680"/>
            <a:ext cx="193680" cy="720720"/>
          </a:xfrm>
          <a:custGeom>
            <a:avLst/>
            <a:gdLst/>
            <a:ahLst/>
            <a:rect l="l" t="t" r="r" b="b"/>
            <a:pathLst>
              <a:path w="540" h="2001">
                <a:moveTo>
                  <a:pt x="15145" y="10287"/>
                </a:moveTo>
                <a:cubicBezTo>
                  <a:pt x="15145" y="10422"/>
                  <a:pt x="15130" y="10542"/>
                  <a:pt x="15113" y="10668"/>
                </a:cubicBezTo>
                <a:cubicBezTo>
                  <a:pt x="15099" y="10772"/>
                  <a:pt x="15145" y="10877"/>
                  <a:pt x="15145" y="10986"/>
                </a:cubicBezTo>
                <a:cubicBezTo>
                  <a:pt x="15145" y="11109"/>
                  <a:pt x="15171" y="11216"/>
                  <a:pt x="15176" y="11335"/>
                </a:cubicBezTo>
                <a:cubicBezTo>
                  <a:pt x="15180" y="11443"/>
                  <a:pt x="15149" y="11519"/>
                  <a:pt x="15145" y="11620"/>
                </a:cubicBezTo>
                <a:cubicBezTo>
                  <a:pt x="15137" y="11800"/>
                  <a:pt x="15256" y="12289"/>
                  <a:pt x="15176" y="12128"/>
                </a:cubicBezTo>
                <a:cubicBezTo>
                  <a:pt x="15166" y="12118"/>
                  <a:pt x="15155" y="12107"/>
                  <a:pt x="15145" y="12097"/>
                </a:cubicBezTo>
              </a:path>
              <a:path w="540" h="2001">
                <a:moveTo>
                  <a:pt x="14891" y="11779"/>
                </a:moveTo>
                <a:cubicBezTo>
                  <a:pt x="14905" y="11823"/>
                  <a:pt x="14940" y="11817"/>
                  <a:pt x="14954" y="11843"/>
                </a:cubicBezTo>
                <a:cubicBezTo>
                  <a:pt x="14971" y="11876"/>
                  <a:pt x="15006" y="11934"/>
                  <a:pt x="15018" y="11970"/>
                </a:cubicBezTo>
                <a:cubicBezTo>
                  <a:pt x="15031" y="12008"/>
                  <a:pt x="15059" y="12065"/>
                  <a:pt x="15081" y="12097"/>
                </a:cubicBezTo>
                <a:cubicBezTo>
                  <a:pt x="15099" y="12124"/>
                  <a:pt x="15195" y="12248"/>
                  <a:pt x="15208" y="12256"/>
                </a:cubicBezTo>
                <a:cubicBezTo>
                  <a:pt x="15240" y="12277"/>
                  <a:pt x="15234" y="12275"/>
                  <a:pt x="15272" y="12287"/>
                </a:cubicBezTo>
                <a:cubicBezTo>
                  <a:pt x="15282" y="12246"/>
                  <a:pt x="15290" y="12201"/>
                  <a:pt x="15304" y="12160"/>
                </a:cubicBezTo>
                <a:cubicBezTo>
                  <a:pt x="15330" y="12086"/>
                  <a:pt x="15386" y="12004"/>
                  <a:pt x="15399" y="11938"/>
                </a:cubicBezTo>
                <a:cubicBezTo>
                  <a:pt x="15399" y="11881"/>
                  <a:pt x="15394" y="11864"/>
                  <a:pt x="15430" y="11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5029200" y="4583160"/>
            <a:ext cx="652320" cy="331920"/>
          </a:xfrm>
          <a:custGeom>
            <a:avLst/>
            <a:gdLst/>
            <a:ahLst/>
            <a:rect l="l" t="t" r="r" b="b"/>
            <a:pathLst>
              <a:path w="1811" h="921">
                <a:moveTo>
                  <a:pt x="14097" y="12732"/>
                </a:moveTo>
                <a:cubicBezTo>
                  <a:pt x="14086" y="12789"/>
                  <a:pt x="14081" y="12866"/>
                  <a:pt x="14065" y="12922"/>
                </a:cubicBezTo>
                <a:cubicBezTo>
                  <a:pt x="14036" y="13023"/>
                  <a:pt x="14007" y="13100"/>
                  <a:pt x="14002" y="13208"/>
                </a:cubicBezTo>
                <a:cubicBezTo>
                  <a:pt x="13997" y="13303"/>
                  <a:pt x="14002" y="13399"/>
                  <a:pt x="14002" y="13494"/>
                </a:cubicBezTo>
                <a:cubicBezTo>
                  <a:pt x="14002" y="13426"/>
                  <a:pt x="13974" y="13370"/>
                  <a:pt x="13970" y="13303"/>
                </a:cubicBezTo>
                <a:cubicBezTo>
                  <a:pt x="13967" y="13250"/>
                  <a:pt x="13982" y="13099"/>
                  <a:pt x="14002" y="13049"/>
                </a:cubicBezTo>
                <a:cubicBezTo>
                  <a:pt x="14026" y="12986"/>
                  <a:pt x="14045" y="12916"/>
                  <a:pt x="14097" y="12859"/>
                </a:cubicBezTo>
                <a:cubicBezTo>
                  <a:pt x="14135" y="12817"/>
                  <a:pt x="14169" y="12770"/>
                  <a:pt x="14224" y="12764"/>
                </a:cubicBezTo>
                <a:cubicBezTo>
                  <a:pt x="14283" y="12758"/>
                  <a:pt x="14299" y="12789"/>
                  <a:pt x="14351" y="12795"/>
                </a:cubicBezTo>
                <a:cubicBezTo>
                  <a:pt x="14362" y="12795"/>
                  <a:pt x="14372" y="12795"/>
                  <a:pt x="14383" y="12795"/>
                </a:cubicBezTo>
              </a:path>
              <a:path w="1811" h="921">
                <a:moveTo>
                  <a:pt x="14700" y="12986"/>
                </a:moveTo>
                <a:cubicBezTo>
                  <a:pt x="14700" y="12975"/>
                  <a:pt x="14700" y="12965"/>
                  <a:pt x="14700" y="12954"/>
                </a:cubicBezTo>
                <a:cubicBezTo>
                  <a:pt x="14633" y="12904"/>
                  <a:pt x="14605" y="12928"/>
                  <a:pt x="14542" y="12986"/>
                </a:cubicBezTo>
                <a:cubicBezTo>
                  <a:pt x="14478" y="13044"/>
                  <a:pt x="14425" y="13101"/>
                  <a:pt x="14383" y="13176"/>
                </a:cubicBezTo>
                <a:cubicBezTo>
                  <a:pt x="14327" y="13277"/>
                  <a:pt x="14360" y="13330"/>
                  <a:pt x="14383" y="13430"/>
                </a:cubicBezTo>
                <a:cubicBezTo>
                  <a:pt x="14383" y="13466"/>
                  <a:pt x="14386" y="13480"/>
                  <a:pt x="14414" y="13494"/>
                </a:cubicBezTo>
                <a:cubicBezTo>
                  <a:pt x="14519" y="13473"/>
                  <a:pt x="14542" y="13476"/>
                  <a:pt x="14573" y="13367"/>
                </a:cubicBezTo>
                <a:cubicBezTo>
                  <a:pt x="14599" y="13276"/>
                  <a:pt x="14637" y="13212"/>
                  <a:pt x="14637" y="13113"/>
                </a:cubicBezTo>
                <a:cubicBezTo>
                  <a:pt x="14637" y="13057"/>
                  <a:pt x="14639" y="13062"/>
                  <a:pt x="14605" y="13018"/>
                </a:cubicBezTo>
                <a:cubicBezTo>
                  <a:pt x="14605" y="13144"/>
                  <a:pt x="14617" y="13250"/>
                  <a:pt x="14637" y="13367"/>
                </a:cubicBezTo>
                <a:cubicBezTo>
                  <a:pt x="14643" y="13402"/>
                  <a:pt x="14651" y="13562"/>
                  <a:pt x="14732" y="13526"/>
                </a:cubicBezTo>
                <a:cubicBezTo>
                  <a:pt x="14764" y="13494"/>
                  <a:pt x="14775" y="13483"/>
                  <a:pt x="14796" y="13462"/>
                </a:cubicBezTo>
              </a:path>
              <a:path w="1811" h="921">
                <a:moveTo>
                  <a:pt x="15018" y="12732"/>
                </a:moveTo>
                <a:cubicBezTo>
                  <a:pt x="15018" y="12907"/>
                  <a:pt x="15005" y="13071"/>
                  <a:pt x="14986" y="13240"/>
                </a:cubicBezTo>
                <a:cubicBezTo>
                  <a:pt x="14977" y="13323"/>
                  <a:pt x="14986" y="13640"/>
                  <a:pt x="14986" y="13621"/>
                </a:cubicBezTo>
              </a:path>
              <a:path w="1811" h="921">
                <a:moveTo>
                  <a:pt x="14859" y="13208"/>
                </a:moveTo>
                <a:cubicBezTo>
                  <a:pt x="14870" y="13242"/>
                  <a:pt x="14931" y="13290"/>
                  <a:pt x="14986" y="13303"/>
                </a:cubicBezTo>
                <a:cubicBezTo>
                  <a:pt x="15055" y="13319"/>
                  <a:pt x="15139" y="13330"/>
                  <a:pt x="15208" y="13335"/>
                </a:cubicBezTo>
                <a:cubicBezTo>
                  <a:pt x="15266" y="13339"/>
                  <a:pt x="15293" y="13340"/>
                  <a:pt x="15335" y="13303"/>
                </a:cubicBezTo>
                <a:cubicBezTo>
                  <a:pt x="15379" y="13264"/>
                  <a:pt x="15416" y="13254"/>
                  <a:pt x="15462" y="13208"/>
                </a:cubicBezTo>
                <a:cubicBezTo>
                  <a:pt x="15492" y="13178"/>
                  <a:pt x="15555" y="13133"/>
                  <a:pt x="15526" y="13081"/>
                </a:cubicBezTo>
                <a:cubicBezTo>
                  <a:pt x="15492" y="13020"/>
                  <a:pt x="15435" y="13049"/>
                  <a:pt x="15399" y="13081"/>
                </a:cubicBezTo>
                <a:cubicBezTo>
                  <a:pt x="15345" y="13130"/>
                  <a:pt x="15288" y="13199"/>
                  <a:pt x="15272" y="13272"/>
                </a:cubicBezTo>
                <a:cubicBezTo>
                  <a:pt x="15260" y="13325"/>
                  <a:pt x="15269" y="13488"/>
                  <a:pt x="15304" y="13526"/>
                </a:cubicBezTo>
                <a:cubicBezTo>
                  <a:pt x="15356" y="13583"/>
                  <a:pt x="15454" y="13615"/>
                  <a:pt x="15526" y="13621"/>
                </a:cubicBezTo>
                <a:cubicBezTo>
                  <a:pt x="15610" y="13627"/>
                  <a:pt x="15678" y="13605"/>
                  <a:pt x="15748" y="13557"/>
                </a:cubicBezTo>
                <a:cubicBezTo>
                  <a:pt x="15759" y="13547"/>
                  <a:pt x="15769" y="13536"/>
                  <a:pt x="15780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6103800" y="2697120"/>
            <a:ext cx="2068560" cy="628560"/>
          </a:xfrm>
          <a:custGeom>
            <a:avLst/>
            <a:gdLst/>
            <a:ahLst/>
            <a:rect l="l" t="t" r="r" b="b"/>
            <a:pathLst>
              <a:path w="5748" h="1747">
                <a:moveTo>
                  <a:pt x="16954" y="8541"/>
                </a:moveTo>
                <a:cubicBezTo>
                  <a:pt x="16954" y="8551"/>
                  <a:pt x="16954" y="8562"/>
                  <a:pt x="16954" y="8572"/>
                </a:cubicBezTo>
                <a:cubicBezTo>
                  <a:pt x="17116" y="8572"/>
                  <a:pt x="17287" y="8584"/>
                  <a:pt x="17431" y="8541"/>
                </a:cubicBezTo>
                <a:cubicBezTo>
                  <a:pt x="17537" y="8510"/>
                  <a:pt x="17701" y="8541"/>
                  <a:pt x="17812" y="8541"/>
                </a:cubicBezTo>
              </a:path>
              <a:path w="5748" h="1747">
                <a:moveTo>
                  <a:pt x="17716" y="8160"/>
                </a:moveTo>
                <a:cubicBezTo>
                  <a:pt x="17658" y="8160"/>
                  <a:pt x="17728" y="8177"/>
                  <a:pt x="17748" y="8192"/>
                </a:cubicBezTo>
                <a:cubicBezTo>
                  <a:pt x="17787" y="8221"/>
                  <a:pt x="17860" y="8252"/>
                  <a:pt x="17907" y="8255"/>
                </a:cubicBezTo>
                <a:cubicBezTo>
                  <a:pt x="17946" y="8258"/>
                  <a:pt x="18031" y="8268"/>
                  <a:pt x="18066" y="8287"/>
                </a:cubicBezTo>
                <a:cubicBezTo>
                  <a:pt x="18155" y="8335"/>
                  <a:pt x="18117" y="8382"/>
                  <a:pt x="18098" y="8446"/>
                </a:cubicBezTo>
                <a:cubicBezTo>
                  <a:pt x="18082" y="8501"/>
                  <a:pt x="18046" y="8529"/>
                  <a:pt x="18002" y="8572"/>
                </a:cubicBezTo>
                <a:cubicBezTo>
                  <a:pt x="17944" y="8629"/>
                  <a:pt x="17905" y="8676"/>
                  <a:pt x="17844" y="8731"/>
                </a:cubicBezTo>
                <a:cubicBezTo>
                  <a:pt x="17808" y="8764"/>
                  <a:pt x="17809" y="8788"/>
                  <a:pt x="17780" y="8826"/>
                </a:cubicBezTo>
              </a:path>
              <a:path w="5748" h="1747">
                <a:moveTo>
                  <a:pt x="18352" y="7810"/>
                </a:moveTo>
                <a:cubicBezTo>
                  <a:pt x="18352" y="7722"/>
                  <a:pt x="18348" y="7866"/>
                  <a:pt x="18352" y="7874"/>
                </a:cubicBezTo>
                <a:cubicBezTo>
                  <a:pt x="18391" y="7947"/>
                  <a:pt x="18440" y="8019"/>
                  <a:pt x="18478" y="8096"/>
                </a:cubicBezTo>
                <a:cubicBezTo>
                  <a:pt x="18527" y="8195"/>
                  <a:pt x="18586" y="8285"/>
                  <a:pt x="18637" y="8382"/>
                </a:cubicBezTo>
                <a:cubicBezTo>
                  <a:pt x="18681" y="8466"/>
                  <a:pt x="18741" y="8557"/>
                  <a:pt x="18796" y="8636"/>
                </a:cubicBezTo>
                <a:cubicBezTo>
                  <a:pt x="18838" y="8697"/>
                  <a:pt x="18813" y="8743"/>
                  <a:pt x="18891" y="8763"/>
                </a:cubicBezTo>
                <a:cubicBezTo>
                  <a:pt x="18857" y="8704"/>
                  <a:pt x="18860" y="8678"/>
                  <a:pt x="18860" y="8604"/>
                </a:cubicBezTo>
              </a:path>
              <a:path w="5748" h="1747">
                <a:moveTo>
                  <a:pt x="18606" y="7556"/>
                </a:moveTo>
                <a:cubicBezTo>
                  <a:pt x="18621" y="7619"/>
                  <a:pt x="18639" y="7681"/>
                  <a:pt x="18669" y="7747"/>
                </a:cubicBezTo>
                <a:cubicBezTo>
                  <a:pt x="18720" y="7861"/>
                  <a:pt x="18784" y="7998"/>
                  <a:pt x="18860" y="8096"/>
                </a:cubicBezTo>
                <a:cubicBezTo>
                  <a:pt x="18938" y="8198"/>
                  <a:pt x="19012" y="8302"/>
                  <a:pt x="19082" y="8414"/>
                </a:cubicBezTo>
                <a:cubicBezTo>
                  <a:pt x="19128" y="8488"/>
                  <a:pt x="19200" y="8547"/>
                  <a:pt x="19209" y="8636"/>
                </a:cubicBezTo>
                <a:cubicBezTo>
                  <a:pt x="19209" y="8647"/>
                  <a:pt x="19209" y="8657"/>
                  <a:pt x="19209" y="8668"/>
                </a:cubicBezTo>
              </a:path>
              <a:path w="5748" h="1747">
                <a:moveTo>
                  <a:pt x="18923" y="7525"/>
                </a:moveTo>
                <a:cubicBezTo>
                  <a:pt x="18908" y="7641"/>
                  <a:pt x="18870" y="7761"/>
                  <a:pt x="18828" y="7874"/>
                </a:cubicBezTo>
                <a:cubicBezTo>
                  <a:pt x="18756" y="8068"/>
                  <a:pt x="18665" y="8260"/>
                  <a:pt x="18574" y="8446"/>
                </a:cubicBezTo>
                <a:cubicBezTo>
                  <a:pt x="18508" y="8582"/>
                  <a:pt x="18429" y="8704"/>
                  <a:pt x="18352" y="8826"/>
                </a:cubicBezTo>
                <a:cubicBezTo>
                  <a:pt x="18334" y="8855"/>
                  <a:pt x="18320" y="8960"/>
                  <a:pt x="18320" y="8890"/>
                </a:cubicBezTo>
              </a:path>
              <a:path w="5748" h="1747">
                <a:moveTo>
                  <a:pt x="19082" y="7874"/>
                </a:moveTo>
                <a:cubicBezTo>
                  <a:pt x="19082" y="8001"/>
                  <a:pt x="19028" y="8047"/>
                  <a:pt x="18986" y="8160"/>
                </a:cubicBezTo>
                <a:cubicBezTo>
                  <a:pt x="18929" y="8314"/>
                  <a:pt x="18872" y="8478"/>
                  <a:pt x="18828" y="8636"/>
                </a:cubicBezTo>
                <a:cubicBezTo>
                  <a:pt x="18786" y="8786"/>
                  <a:pt x="18727" y="8933"/>
                  <a:pt x="18669" y="9080"/>
                </a:cubicBezTo>
                <a:cubicBezTo>
                  <a:pt x="18645" y="9142"/>
                  <a:pt x="18637" y="9187"/>
                  <a:pt x="18606" y="9239"/>
                </a:cubicBezTo>
              </a:path>
              <a:path w="5748" h="1747">
                <a:moveTo>
                  <a:pt x="19812" y="8223"/>
                </a:moveTo>
                <a:cubicBezTo>
                  <a:pt x="19768" y="8180"/>
                  <a:pt x="19740" y="8142"/>
                  <a:pt x="19685" y="8128"/>
                </a:cubicBezTo>
                <a:cubicBezTo>
                  <a:pt x="19589" y="8197"/>
                  <a:pt x="19567" y="8266"/>
                  <a:pt x="19526" y="8382"/>
                </a:cubicBezTo>
                <a:cubicBezTo>
                  <a:pt x="19490" y="8486"/>
                  <a:pt x="19467" y="8599"/>
                  <a:pt x="19526" y="8700"/>
                </a:cubicBezTo>
                <a:cubicBezTo>
                  <a:pt x="19555" y="8728"/>
                  <a:pt x="19566" y="8734"/>
                  <a:pt x="19558" y="8763"/>
                </a:cubicBezTo>
                <a:cubicBezTo>
                  <a:pt x="19642" y="8727"/>
                  <a:pt x="19679" y="8729"/>
                  <a:pt x="19717" y="8636"/>
                </a:cubicBezTo>
                <a:cubicBezTo>
                  <a:pt x="19763" y="8522"/>
                  <a:pt x="19783" y="8402"/>
                  <a:pt x="19812" y="8287"/>
                </a:cubicBezTo>
                <a:cubicBezTo>
                  <a:pt x="19841" y="8173"/>
                  <a:pt x="19841" y="8139"/>
                  <a:pt x="19748" y="8160"/>
                </a:cubicBezTo>
                <a:cubicBezTo>
                  <a:pt x="19717" y="8160"/>
                  <a:pt x="19706" y="8160"/>
                  <a:pt x="19717" y="8192"/>
                </a:cubicBezTo>
              </a:path>
              <a:path w="5748" h="1747">
                <a:moveTo>
                  <a:pt x="20352" y="7652"/>
                </a:moveTo>
                <a:cubicBezTo>
                  <a:pt x="20387" y="7608"/>
                  <a:pt x="20404" y="7580"/>
                  <a:pt x="20415" y="7525"/>
                </a:cubicBezTo>
                <a:cubicBezTo>
                  <a:pt x="20339" y="7506"/>
                  <a:pt x="20353" y="7492"/>
                  <a:pt x="20288" y="7556"/>
                </a:cubicBezTo>
                <a:cubicBezTo>
                  <a:pt x="20223" y="7620"/>
                  <a:pt x="20179" y="7685"/>
                  <a:pt x="20161" y="7779"/>
                </a:cubicBezTo>
                <a:cubicBezTo>
                  <a:pt x="20138" y="7896"/>
                  <a:pt x="20130" y="8007"/>
                  <a:pt x="20130" y="8128"/>
                </a:cubicBezTo>
                <a:cubicBezTo>
                  <a:pt x="20130" y="8274"/>
                  <a:pt x="20146" y="8401"/>
                  <a:pt x="20161" y="8541"/>
                </a:cubicBezTo>
                <a:cubicBezTo>
                  <a:pt x="20170" y="8623"/>
                  <a:pt x="20181" y="8791"/>
                  <a:pt x="20130" y="8826"/>
                </a:cubicBezTo>
              </a:path>
              <a:path w="5748" h="1747">
                <a:moveTo>
                  <a:pt x="19939" y="8509"/>
                </a:moveTo>
                <a:cubicBezTo>
                  <a:pt x="19987" y="8509"/>
                  <a:pt x="20059" y="8496"/>
                  <a:pt x="20098" y="8477"/>
                </a:cubicBezTo>
                <a:cubicBezTo>
                  <a:pt x="20175" y="8440"/>
                  <a:pt x="20268" y="8441"/>
                  <a:pt x="20352" y="8414"/>
                </a:cubicBezTo>
                <a:cubicBezTo>
                  <a:pt x="20373" y="8403"/>
                  <a:pt x="20394" y="8393"/>
                  <a:pt x="20415" y="8382"/>
                </a:cubicBezTo>
              </a:path>
              <a:path w="5748" h="1747">
                <a:moveTo>
                  <a:pt x="20955" y="7588"/>
                </a:moveTo>
                <a:cubicBezTo>
                  <a:pt x="20955" y="7674"/>
                  <a:pt x="20939" y="7758"/>
                  <a:pt x="20923" y="7842"/>
                </a:cubicBezTo>
                <a:cubicBezTo>
                  <a:pt x="20886" y="8039"/>
                  <a:pt x="20866" y="8246"/>
                  <a:pt x="20860" y="8446"/>
                </a:cubicBezTo>
                <a:cubicBezTo>
                  <a:pt x="20856" y="8583"/>
                  <a:pt x="20864" y="8708"/>
                  <a:pt x="20828" y="8826"/>
                </a:cubicBezTo>
                <a:cubicBezTo>
                  <a:pt x="20828" y="8837"/>
                  <a:pt x="20828" y="8847"/>
                  <a:pt x="20828" y="8858"/>
                </a:cubicBezTo>
              </a:path>
              <a:path w="5748" h="1747">
                <a:moveTo>
                  <a:pt x="20606" y="8350"/>
                </a:moveTo>
                <a:cubicBezTo>
                  <a:pt x="20606" y="8339"/>
                  <a:pt x="20606" y="8329"/>
                  <a:pt x="20606" y="8318"/>
                </a:cubicBezTo>
                <a:cubicBezTo>
                  <a:pt x="20658" y="8305"/>
                  <a:pt x="20716" y="8265"/>
                  <a:pt x="20764" y="8255"/>
                </a:cubicBezTo>
                <a:cubicBezTo>
                  <a:pt x="20834" y="8241"/>
                  <a:pt x="20919" y="8243"/>
                  <a:pt x="20987" y="8223"/>
                </a:cubicBezTo>
                <a:cubicBezTo>
                  <a:pt x="21008" y="8213"/>
                  <a:pt x="21029" y="8202"/>
                  <a:pt x="21050" y="8192"/>
                </a:cubicBezTo>
              </a:path>
              <a:path w="5748" h="1747">
                <a:moveTo>
                  <a:pt x="21209" y="7874"/>
                </a:moveTo>
                <a:cubicBezTo>
                  <a:pt x="21209" y="8191"/>
                  <a:pt x="21209" y="8509"/>
                  <a:pt x="21209" y="8826"/>
                </a:cubicBezTo>
              </a:path>
              <a:path w="5748" h="1747">
                <a:moveTo>
                  <a:pt x="21368" y="7969"/>
                </a:moveTo>
                <a:cubicBezTo>
                  <a:pt x="21368" y="8047"/>
                  <a:pt x="21374" y="8087"/>
                  <a:pt x="21368" y="8160"/>
                </a:cubicBezTo>
                <a:cubicBezTo>
                  <a:pt x="21356" y="8295"/>
                  <a:pt x="21382" y="8412"/>
                  <a:pt x="21400" y="8541"/>
                </a:cubicBezTo>
                <a:cubicBezTo>
                  <a:pt x="21407" y="8592"/>
                  <a:pt x="21400" y="8649"/>
                  <a:pt x="21400" y="8700"/>
                </a:cubicBezTo>
                <a:cubicBezTo>
                  <a:pt x="21400" y="8753"/>
                  <a:pt x="21400" y="8657"/>
                  <a:pt x="21400" y="8604"/>
                </a:cubicBezTo>
                <a:cubicBezTo>
                  <a:pt x="21400" y="8426"/>
                  <a:pt x="21376" y="8236"/>
                  <a:pt x="21431" y="8064"/>
                </a:cubicBezTo>
                <a:cubicBezTo>
                  <a:pt x="21450" y="8005"/>
                  <a:pt x="21489" y="7953"/>
                  <a:pt x="21526" y="7906"/>
                </a:cubicBezTo>
                <a:cubicBezTo>
                  <a:pt x="21563" y="7918"/>
                  <a:pt x="21583" y="8009"/>
                  <a:pt x="21590" y="8064"/>
                </a:cubicBezTo>
                <a:cubicBezTo>
                  <a:pt x="21613" y="8236"/>
                  <a:pt x="21560" y="8409"/>
                  <a:pt x="21622" y="8572"/>
                </a:cubicBezTo>
                <a:cubicBezTo>
                  <a:pt x="21622" y="8647"/>
                  <a:pt x="21616" y="8383"/>
                  <a:pt x="21622" y="8350"/>
                </a:cubicBezTo>
                <a:cubicBezTo>
                  <a:pt x="21646" y="8223"/>
                  <a:pt x="21659" y="8117"/>
                  <a:pt x="21717" y="8001"/>
                </a:cubicBezTo>
                <a:cubicBezTo>
                  <a:pt x="21743" y="7922"/>
                  <a:pt x="21739" y="7994"/>
                  <a:pt x="21749" y="8033"/>
                </a:cubicBezTo>
                <a:cubicBezTo>
                  <a:pt x="21782" y="8163"/>
                  <a:pt x="21780" y="8278"/>
                  <a:pt x="21780" y="8414"/>
                </a:cubicBezTo>
                <a:cubicBezTo>
                  <a:pt x="21780" y="8505"/>
                  <a:pt x="21788" y="8632"/>
                  <a:pt x="21844" y="8700"/>
                </a:cubicBezTo>
                <a:cubicBezTo>
                  <a:pt x="21888" y="8755"/>
                  <a:pt x="21926" y="8733"/>
                  <a:pt x="21971" y="8700"/>
                </a:cubicBezTo>
              </a:path>
              <a:path w="5748" h="1747">
                <a:moveTo>
                  <a:pt x="22066" y="8318"/>
                </a:moveTo>
                <a:cubicBezTo>
                  <a:pt x="22126" y="8260"/>
                  <a:pt x="22117" y="8228"/>
                  <a:pt x="22162" y="8160"/>
                </a:cubicBezTo>
                <a:cubicBezTo>
                  <a:pt x="22207" y="8092"/>
                  <a:pt x="22264" y="8019"/>
                  <a:pt x="22288" y="7938"/>
                </a:cubicBezTo>
                <a:cubicBezTo>
                  <a:pt x="22288" y="7906"/>
                  <a:pt x="22288" y="7895"/>
                  <a:pt x="22288" y="7874"/>
                </a:cubicBezTo>
                <a:cubicBezTo>
                  <a:pt x="22187" y="7833"/>
                  <a:pt x="22193" y="7893"/>
                  <a:pt x="22130" y="7969"/>
                </a:cubicBezTo>
                <a:cubicBezTo>
                  <a:pt x="22033" y="8087"/>
                  <a:pt x="22034" y="8131"/>
                  <a:pt x="22034" y="8287"/>
                </a:cubicBezTo>
                <a:cubicBezTo>
                  <a:pt x="22034" y="8399"/>
                  <a:pt x="22054" y="8488"/>
                  <a:pt x="22130" y="8572"/>
                </a:cubicBezTo>
                <a:cubicBezTo>
                  <a:pt x="22182" y="8629"/>
                  <a:pt x="22236" y="8615"/>
                  <a:pt x="22288" y="8604"/>
                </a:cubicBezTo>
                <a:cubicBezTo>
                  <a:pt x="22340" y="8593"/>
                  <a:pt x="22339" y="8591"/>
                  <a:pt x="22352" y="8541"/>
                </a:cubicBezTo>
              </a:path>
              <a:path w="5748" h="1747">
                <a:moveTo>
                  <a:pt x="22638" y="7842"/>
                </a:moveTo>
                <a:cubicBezTo>
                  <a:pt x="22624" y="7800"/>
                  <a:pt x="22578" y="7788"/>
                  <a:pt x="22542" y="7842"/>
                </a:cubicBezTo>
                <a:cubicBezTo>
                  <a:pt x="22512" y="7886"/>
                  <a:pt x="22429" y="7985"/>
                  <a:pt x="22416" y="8033"/>
                </a:cubicBezTo>
                <a:cubicBezTo>
                  <a:pt x="22395" y="8111"/>
                  <a:pt x="22429" y="8143"/>
                  <a:pt x="22479" y="8192"/>
                </a:cubicBezTo>
                <a:cubicBezTo>
                  <a:pt x="22532" y="8244"/>
                  <a:pt x="22585" y="8297"/>
                  <a:pt x="22638" y="8350"/>
                </a:cubicBezTo>
                <a:cubicBezTo>
                  <a:pt x="22682" y="8393"/>
                  <a:pt x="22730" y="8437"/>
                  <a:pt x="22701" y="8509"/>
                </a:cubicBezTo>
                <a:cubicBezTo>
                  <a:pt x="22682" y="8555"/>
                  <a:pt x="22638" y="8625"/>
                  <a:pt x="22606" y="8668"/>
                </a:cubicBezTo>
                <a:cubicBezTo>
                  <a:pt x="22570" y="8716"/>
                  <a:pt x="22532" y="8700"/>
                  <a:pt x="22479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Ad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compound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3% monthly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990720" y="1143000"/>
                <a:ext cx="2082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" name="Ink 5"/>
          <p:cNvSpPr/>
          <p:nvPr/>
        </p:nvSpPr>
        <p:spPr>
          <a:xfrm>
            <a:off x="2492280" y="1863720"/>
            <a:ext cx="319320" cy="228600"/>
          </a:xfrm>
          <a:custGeom>
            <a:avLst/>
            <a:gdLst/>
            <a:ahLst/>
            <a:rect l="l" t="t" r="r" b="b"/>
            <a:pathLst>
              <a:path w="889" h="636">
                <a:moveTo>
                  <a:pt x="6953" y="5207"/>
                </a:moveTo>
                <a:cubicBezTo>
                  <a:pt x="6885" y="5242"/>
                  <a:pt x="7007" y="5253"/>
                  <a:pt x="7048" y="5239"/>
                </a:cubicBezTo>
                <a:cubicBezTo>
                  <a:pt x="7149" y="5205"/>
                  <a:pt x="7233" y="5231"/>
                  <a:pt x="7334" y="5207"/>
                </a:cubicBezTo>
                <a:cubicBezTo>
                  <a:pt x="7432" y="5183"/>
                  <a:pt x="7515" y="5175"/>
                  <a:pt x="7620" y="5175"/>
                </a:cubicBezTo>
                <a:cubicBezTo>
                  <a:pt x="7673" y="5175"/>
                  <a:pt x="7768" y="5175"/>
                  <a:pt x="7715" y="5175"/>
                </a:cubicBezTo>
              </a:path>
              <a:path w="889" h="636">
                <a:moveTo>
                  <a:pt x="6953" y="5461"/>
                </a:moveTo>
                <a:cubicBezTo>
                  <a:pt x="7007" y="5472"/>
                  <a:pt x="7083" y="5518"/>
                  <a:pt x="7144" y="5493"/>
                </a:cubicBezTo>
                <a:cubicBezTo>
                  <a:pt x="7218" y="5462"/>
                  <a:pt x="7276" y="5461"/>
                  <a:pt x="7366" y="5461"/>
                </a:cubicBezTo>
                <a:cubicBezTo>
                  <a:pt x="7464" y="5461"/>
                  <a:pt x="7529" y="5472"/>
                  <a:pt x="7620" y="5493"/>
                </a:cubicBezTo>
                <a:cubicBezTo>
                  <a:pt x="7624" y="5494"/>
                  <a:pt x="7765" y="5486"/>
                  <a:pt x="7715" y="5524"/>
                </a:cubicBezTo>
                <a:cubicBezTo>
                  <a:pt x="7705" y="5524"/>
                  <a:pt x="7694" y="5524"/>
                  <a:pt x="7684" y="5524"/>
                </a:cubicBezTo>
              </a:path>
              <a:path w="889" h="636">
                <a:moveTo>
                  <a:pt x="6922" y="5810"/>
                </a:moveTo>
                <a:cubicBezTo>
                  <a:pt x="7019" y="5810"/>
                  <a:pt x="7087" y="5793"/>
                  <a:pt x="7176" y="5778"/>
                </a:cubicBezTo>
                <a:cubicBezTo>
                  <a:pt x="7268" y="5763"/>
                  <a:pt x="7370" y="5752"/>
                  <a:pt x="7461" y="5747"/>
                </a:cubicBezTo>
                <a:cubicBezTo>
                  <a:pt x="7567" y="5741"/>
                  <a:pt x="7658" y="5752"/>
                  <a:pt x="7747" y="5778"/>
                </a:cubicBezTo>
                <a:cubicBezTo>
                  <a:pt x="7779" y="5778"/>
                  <a:pt x="7789" y="5778"/>
                  <a:pt x="7810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6"/>
          <p:cNvSpPr/>
          <p:nvPr/>
        </p:nvSpPr>
        <p:spPr>
          <a:xfrm>
            <a:off x="5086440" y="4022640"/>
            <a:ext cx="1189080" cy="595440"/>
          </a:xfrm>
          <a:custGeom>
            <a:avLst/>
            <a:gdLst/>
            <a:ahLst/>
            <a:rect l="l" t="t" r="r" b="b"/>
            <a:pathLst>
              <a:path w="3303" h="1652">
                <a:moveTo>
                  <a:pt x="14351" y="11176"/>
                </a:moveTo>
                <a:cubicBezTo>
                  <a:pt x="14299" y="11193"/>
                  <a:pt x="14319" y="11238"/>
                  <a:pt x="14319" y="11303"/>
                </a:cubicBezTo>
                <a:cubicBezTo>
                  <a:pt x="14319" y="11370"/>
                  <a:pt x="14288" y="11421"/>
                  <a:pt x="14288" y="11494"/>
                </a:cubicBezTo>
                <a:cubicBezTo>
                  <a:pt x="14288" y="11598"/>
                  <a:pt x="14284" y="11714"/>
                  <a:pt x="14256" y="11811"/>
                </a:cubicBezTo>
                <a:cubicBezTo>
                  <a:pt x="14232" y="11893"/>
                  <a:pt x="14190" y="11958"/>
                  <a:pt x="14160" y="12033"/>
                </a:cubicBezTo>
                <a:cubicBezTo>
                  <a:pt x="14160" y="12065"/>
                  <a:pt x="14160" y="12075"/>
                  <a:pt x="14129" y="12065"/>
                </a:cubicBezTo>
                <a:cubicBezTo>
                  <a:pt x="14173" y="12050"/>
                  <a:pt x="14159" y="12009"/>
                  <a:pt x="14224" y="12002"/>
                </a:cubicBezTo>
                <a:cubicBezTo>
                  <a:pt x="14291" y="11995"/>
                  <a:pt x="14271" y="11976"/>
                  <a:pt x="14319" y="11970"/>
                </a:cubicBezTo>
                <a:cubicBezTo>
                  <a:pt x="14391" y="11961"/>
                  <a:pt x="14422" y="11983"/>
                  <a:pt x="14478" y="12002"/>
                </a:cubicBezTo>
                <a:cubicBezTo>
                  <a:pt x="14516" y="12015"/>
                  <a:pt x="14568" y="12029"/>
                  <a:pt x="14605" y="12033"/>
                </a:cubicBezTo>
                <a:cubicBezTo>
                  <a:pt x="14656" y="12038"/>
                  <a:pt x="14637" y="12008"/>
                  <a:pt x="14637" y="11970"/>
                </a:cubicBezTo>
              </a:path>
              <a:path w="3303" h="1652">
                <a:moveTo>
                  <a:pt x="14637" y="11303"/>
                </a:moveTo>
                <a:cubicBezTo>
                  <a:pt x="14634" y="11305"/>
                  <a:pt x="14613" y="11402"/>
                  <a:pt x="14605" y="11462"/>
                </a:cubicBezTo>
                <a:cubicBezTo>
                  <a:pt x="14567" y="11750"/>
                  <a:pt x="14598" y="12062"/>
                  <a:pt x="14573" y="12351"/>
                </a:cubicBezTo>
                <a:cubicBezTo>
                  <a:pt x="14559" y="12510"/>
                  <a:pt x="14554" y="12669"/>
                  <a:pt x="14542" y="12827"/>
                </a:cubicBezTo>
              </a:path>
              <a:path w="3303" h="1652">
                <a:moveTo>
                  <a:pt x="15176" y="11589"/>
                </a:moveTo>
                <a:cubicBezTo>
                  <a:pt x="15176" y="11503"/>
                  <a:pt x="15176" y="11638"/>
                  <a:pt x="15176" y="11652"/>
                </a:cubicBezTo>
                <a:cubicBezTo>
                  <a:pt x="15176" y="11605"/>
                  <a:pt x="15113" y="11556"/>
                  <a:pt x="15145" y="11589"/>
                </a:cubicBezTo>
                <a:cubicBezTo>
                  <a:pt x="15155" y="11589"/>
                  <a:pt x="15166" y="11589"/>
                  <a:pt x="15176" y="11589"/>
                </a:cubicBezTo>
              </a:path>
              <a:path w="3303" h="1652">
                <a:moveTo>
                  <a:pt x="14891" y="12097"/>
                </a:moveTo>
                <a:cubicBezTo>
                  <a:pt x="14931" y="12056"/>
                  <a:pt x="14961" y="12008"/>
                  <a:pt x="15018" y="12002"/>
                </a:cubicBezTo>
                <a:cubicBezTo>
                  <a:pt x="15061" y="11997"/>
                  <a:pt x="15130" y="11944"/>
                  <a:pt x="15176" y="11970"/>
                </a:cubicBezTo>
                <a:cubicBezTo>
                  <a:pt x="15219" y="11994"/>
                  <a:pt x="15266" y="11981"/>
                  <a:pt x="15304" y="12002"/>
                </a:cubicBezTo>
                <a:cubicBezTo>
                  <a:pt x="15348" y="12026"/>
                  <a:pt x="15349" y="12053"/>
                  <a:pt x="15399" y="12065"/>
                </a:cubicBezTo>
              </a:path>
              <a:path w="3303" h="1652">
                <a:moveTo>
                  <a:pt x="15113" y="12351"/>
                </a:moveTo>
                <a:cubicBezTo>
                  <a:pt x="15084" y="12379"/>
                  <a:pt x="15069" y="12389"/>
                  <a:pt x="15113" y="12382"/>
                </a:cubicBezTo>
              </a:path>
              <a:path w="3303" h="1652">
                <a:moveTo>
                  <a:pt x="15716" y="11398"/>
                </a:moveTo>
                <a:cubicBezTo>
                  <a:pt x="15716" y="11773"/>
                  <a:pt x="15790" y="12260"/>
                  <a:pt x="15684" y="12605"/>
                </a:cubicBezTo>
                <a:cubicBezTo>
                  <a:pt x="15684" y="12615"/>
                  <a:pt x="15684" y="12626"/>
                  <a:pt x="15684" y="12636"/>
                </a:cubicBezTo>
              </a:path>
              <a:path w="3303" h="1652">
                <a:moveTo>
                  <a:pt x="16002" y="11589"/>
                </a:moveTo>
                <a:cubicBezTo>
                  <a:pt x="16002" y="11568"/>
                  <a:pt x="16002" y="11546"/>
                  <a:pt x="16002" y="11525"/>
                </a:cubicBezTo>
                <a:cubicBezTo>
                  <a:pt x="16031" y="11554"/>
                  <a:pt x="15994" y="11670"/>
                  <a:pt x="15970" y="11748"/>
                </a:cubicBezTo>
                <a:cubicBezTo>
                  <a:pt x="15937" y="11855"/>
                  <a:pt x="15900" y="12050"/>
                  <a:pt x="15907" y="12160"/>
                </a:cubicBezTo>
                <a:cubicBezTo>
                  <a:pt x="15912" y="12244"/>
                  <a:pt x="15924" y="12403"/>
                  <a:pt x="15970" y="12478"/>
                </a:cubicBezTo>
                <a:cubicBezTo>
                  <a:pt x="15989" y="12508"/>
                  <a:pt x="16062" y="12529"/>
                  <a:pt x="16097" y="12510"/>
                </a:cubicBezTo>
                <a:cubicBezTo>
                  <a:pt x="16160" y="12475"/>
                  <a:pt x="16212" y="12319"/>
                  <a:pt x="16224" y="12256"/>
                </a:cubicBezTo>
                <a:cubicBezTo>
                  <a:pt x="16248" y="12129"/>
                  <a:pt x="16256" y="12004"/>
                  <a:pt x="16256" y="11874"/>
                </a:cubicBezTo>
                <a:cubicBezTo>
                  <a:pt x="16256" y="11789"/>
                  <a:pt x="16243" y="11684"/>
                  <a:pt x="16192" y="11620"/>
                </a:cubicBezTo>
                <a:cubicBezTo>
                  <a:pt x="16166" y="11587"/>
                  <a:pt x="16105" y="11561"/>
                  <a:pt x="16066" y="11557"/>
                </a:cubicBezTo>
                <a:cubicBezTo>
                  <a:pt x="16055" y="11557"/>
                  <a:pt x="16045" y="11557"/>
                  <a:pt x="16034" y="11557"/>
                </a:cubicBezTo>
              </a:path>
              <a:path w="3303" h="1652">
                <a:moveTo>
                  <a:pt x="16510" y="11589"/>
                </a:moveTo>
                <a:cubicBezTo>
                  <a:pt x="16491" y="11595"/>
                  <a:pt x="16425" y="11647"/>
                  <a:pt x="16415" y="11684"/>
                </a:cubicBezTo>
                <a:cubicBezTo>
                  <a:pt x="16391" y="11770"/>
                  <a:pt x="16362" y="11883"/>
                  <a:pt x="16351" y="11970"/>
                </a:cubicBezTo>
                <a:cubicBezTo>
                  <a:pt x="16335" y="12094"/>
                  <a:pt x="16365" y="12206"/>
                  <a:pt x="16383" y="12319"/>
                </a:cubicBezTo>
                <a:cubicBezTo>
                  <a:pt x="16394" y="12385"/>
                  <a:pt x="16402" y="12476"/>
                  <a:pt x="16478" y="12510"/>
                </a:cubicBezTo>
                <a:cubicBezTo>
                  <a:pt x="16514" y="12526"/>
                  <a:pt x="16582" y="12493"/>
                  <a:pt x="16605" y="12478"/>
                </a:cubicBezTo>
                <a:cubicBezTo>
                  <a:pt x="16653" y="12446"/>
                  <a:pt x="16689" y="12251"/>
                  <a:pt x="16700" y="12192"/>
                </a:cubicBezTo>
                <a:cubicBezTo>
                  <a:pt x="16721" y="12074"/>
                  <a:pt x="16732" y="11965"/>
                  <a:pt x="16732" y="11843"/>
                </a:cubicBezTo>
                <a:cubicBezTo>
                  <a:pt x="16732" y="11776"/>
                  <a:pt x="16704" y="11657"/>
                  <a:pt x="16637" y="11620"/>
                </a:cubicBezTo>
                <a:cubicBezTo>
                  <a:pt x="16577" y="11587"/>
                  <a:pt x="16521" y="11638"/>
                  <a:pt x="16478" y="11652"/>
                </a:cubicBezTo>
                <a:cubicBezTo>
                  <a:pt x="16467" y="11652"/>
                  <a:pt x="16457" y="11652"/>
                  <a:pt x="16446" y="11652"/>
                </a:cubicBezTo>
              </a:path>
              <a:path w="3303" h="1652">
                <a:moveTo>
                  <a:pt x="17082" y="11779"/>
                </a:moveTo>
                <a:cubicBezTo>
                  <a:pt x="17071" y="11779"/>
                  <a:pt x="17061" y="11779"/>
                  <a:pt x="17050" y="11779"/>
                </a:cubicBezTo>
                <a:cubicBezTo>
                  <a:pt x="17177" y="11779"/>
                  <a:pt x="17304" y="11779"/>
                  <a:pt x="17431" y="11779"/>
                </a:cubicBezTo>
              </a:path>
              <a:path w="3303" h="1652">
                <a:moveTo>
                  <a:pt x="17082" y="12160"/>
                </a:moveTo>
                <a:cubicBezTo>
                  <a:pt x="17146" y="12160"/>
                  <a:pt x="17157" y="12175"/>
                  <a:pt x="17208" y="12192"/>
                </a:cubicBezTo>
                <a:cubicBezTo>
                  <a:pt x="17240" y="12192"/>
                  <a:pt x="17251" y="12192"/>
                  <a:pt x="17272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7"/>
          <p:cNvSpPr/>
          <p:nvPr/>
        </p:nvSpPr>
        <p:spPr>
          <a:xfrm>
            <a:off x="6411960" y="4125960"/>
            <a:ext cx="446040" cy="446040"/>
          </a:xfrm>
          <a:custGeom>
            <a:avLst/>
            <a:gdLst/>
            <a:ahLst/>
            <a:rect l="l" t="t" r="r" b="b"/>
            <a:pathLst>
              <a:path w="1239" h="1239">
                <a:moveTo>
                  <a:pt x="17844" y="12414"/>
                </a:moveTo>
                <a:cubicBezTo>
                  <a:pt x="17844" y="12456"/>
                  <a:pt x="17844" y="12499"/>
                  <a:pt x="17844" y="12541"/>
                </a:cubicBezTo>
                <a:cubicBezTo>
                  <a:pt x="17891" y="12525"/>
                  <a:pt x="17875" y="12502"/>
                  <a:pt x="17875" y="12446"/>
                </a:cubicBezTo>
                <a:cubicBezTo>
                  <a:pt x="17875" y="12414"/>
                  <a:pt x="17875" y="12403"/>
                  <a:pt x="17875" y="12382"/>
                </a:cubicBezTo>
                <a:cubicBezTo>
                  <a:pt x="17845" y="12423"/>
                  <a:pt x="17817" y="12492"/>
                  <a:pt x="17812" y="12541"/>
                </a:cubicBezTo>
                <a:cubicBezTo>
                  <a:pt x="17812" y="12573"/>
                  <a:pt x="17812" y="12584"/>
                  <a:pt x="17844" y="12573"/>
                </a:cubicBezTo>
              </a:path>
              <a:path w="1239" h="1239">
                <a:moveTo>
                  <a:pt x="18415" y="11589"/>
                </a:moveTo>
                <a:cubicBezTo>
                  <a:pt x="18401" y="11546"/>
                  <a:pt x="18398" y="11560"/>
                  <a:pt x="18352" y="11525"/>
                </a:cubicBezTo>
                <a:cubicBezTo>
                  <a:pt x="18314" y="11575"/>
                  <a:pt x="18288" y="11623"/>
                  <a:pt x="18256" y="11684"/>
                </a:cubicBezTo>
                <a:cubicBezTo>
                  <a:pt x="18200" y="11789"/>
                  <a:pt x="18215" y="11918"/>
                  <a:pt x="18193" y="12033"/>
                </a:cubicBezTo>
                <a:cubicBezTo>
                  <a:pt x="18171" y="12151"/>
                  <a:pt x="18144" y="12266"/>
                  <a:pt x="18193" y="12382"/>
                </a:cubicBezTo>
                <a:cubicBezTo>
                  <a:pt x="18214" y="12433"/>
                  <a:pt x="18297" y="12496"/>
                  <a:pt x="18352" y="12478"/>
                </a:cubicBezTo>
                <a:cubicBezTo>
                  <a:pt x="18402" y="12461"/>
                  <a:pt x="18456" y="12401"/>
                  <a:pt x="18478" y="12351"/>
                </a:cubicBezTo>
                <a:cubicBezTo>
                  <a:pt x="18524" y="12249"/>
                  <a:pt x="18510" y="12142"/>
                  <a:pt x="18510" y="12033"/>
                </a:cubicBezTo>
                <a:cubicBezTo>
                  <a:pt x="18510" y="11922"/>
                  <a:pt x="18513" y="11843"/>
                  <a:pt x="18447" y="11748"/>
                </a:cubicBezTo>
                <a:cubicBezTo>
                  <a:pt x="18423" y="11714"/>
                  <a:pt x="18381" y="11682"/>
                  <a:pt x="18352" y="11652"/>
                </a:cubicBezTo>
              </a:path>
              <a:path w="1239" h="1239">
                <a:moveTo>
                  <a:pt x="18701" y="11589"/>
                </a:moveTo>
                <a:cubicBezTo>
                  <a:pt x="18701" y="11748"/>
                  <a:pt x="18701" y="11906"/>
                  <a:pt x="18701" y="12065"/>
                </a:cubicBezTo>
                <a:cubicBezTo>
                  <a:pt x="18772" y="12041"/>
                  <a:pt x="18711" y="12037"/>
                  <a:pt x="18796" y="12065"/>
                </a:cubicBezTo>
                <a:cubicBezTo>
                  <a:pt x="18857" y="12085"/>
                  <a:pt x="18975" y="12071"/>
                  <a:pt x="19018" y="12033"/>
                </a:cubicBezTo>
                <a:cubicBezTo>
                  <a:pt x="19029" y="12023"/>
                  <a:pt x="19039" y="12012"/>
                  <a:pt x="19050" y="12002"/>
                </a:cubicBezTo>
              </a:path>
              <a:path w="1239" h="1239">
                <a:moveTo>
                  <a:pt x="18986" y="11462"/>
                </a:moveTo>
                <a:cubicBezTo>
                  <a:pt x="18986" y="11532"/>
                  <a:pt x="18958" y="11581"/>
                  <a:pt x="18955" y="11652"/>
                </a:cubicBezTo>
                <a:cubicBezTo>
                  <a:pt x="18947" y="11837"/>
                  <a:pt x="18970" y="12014"/>
                  <a:pt x="18986" y="12192"/>
                </a:cubicBezTo>
                <a:cubicBezTo>
                  <a:pt x="18998" y="12331"/>
                  <a:pt x="18987" y="12501"/>
                  <a:pt x="19018" y="12636"/>
                </a:cubicBezTo>
                <a:cubicBezTo>
                  <a:pt x="19029" y="12657"/>
                  <a:pt x="19039" y="12679"/>
                  <a:pt x="1905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8"/>
          <p:cNvSpPr/>
          <p:nvPr/>
        </p:nvSpPr>
        <p:spPr>
          <a:xfrm>
            <a:off x="7007400" y="4079880"/>
            <a:ext cx="593640" cy="434880"/>
          </a:xfrm>
          <a:custGeom>
            <a:avLst/>
            <a:gdLst/>
            <a:ahLst/>
            <a:rect l="l" t="t" r="r" b="b"/>
            <a:pathLst>
              <a:path w="1652" h="1207">
                <a:moveTo>
                  <a:pt x="19653" y="11620"/>
                </a:moveTo>
                <a:cubicBezTo>
                  <a:pt x="19653" y="11709"/>
                  <a:pt x="19664" y="11760"/>
                  <a:pt x="19685" y="11843"/>
                </a:cubicBezTo>
                <a:cubicBezTo>
                  <a:pt x="19699" y="11900"/>
                  <a:pt x="19707" y="11986"/>
                  <a:pt x="19717" y="12033"/>
                </a:cubicBezTo>
                <a:cubicBezTo>
                  <a:pt x="19730" y="12098"/>
                  <a:pt x="19685" y="12151"/>
                  <a:pt x="19685" y="12224"/>
                </a:cubicBezTo>
                <a:cubicBezTo>
                  <a:pt x="19685" y="12285"/>
                  <a:pt x="19663" y="12255"/>
                  <a:pt x="19653" y="12224"/>
                </a:cubicBezTo>
              </a:path>
              <a:path w="1652" h="1207">
                <a:moveTo>
                  <a:pt x="19463" y="12002"/>
                </a:moveTo>
                <a:cubicBezTo>
                  <a:pt x="19578" y="12002"/>
                  <a:pt x="19681" y="12000"/>
                  <a:pt x="19780" y="11970"/>
                </a:cubicBezTo>
                <a:cubicBezTo>
                  <a:pt x="19820" y="11958"/>
                  <a:pt x="19904" y="11957"/>
                  <a:pt x="19939" y="11938"/>
                </a:cubicBezTo>
                <a:cubicBezTo>
                  <a:pt x="19950" y="11927"/>
                  <a:pt x="19960" y="11917"/>
                  <a:pt x="19971" y="11906"/>
                </a:cubicBezTo>
              </a:path>
              <a:path w="1652" h="1207">
                <a:moveTo>
                  <a:pt x="20256" y="11335"/>
                </a:moveTo>
                <a:cubicBezTo>
                  <a:pt x="20256" y="11519"/>
                  <a:pt x="20243" y="11693"/>
                  <a:pt x="20225" y="11874"/>
                </a:cubicBezTo>
                <a:cubicBezTo>
                  <a:pt x="20204" y="12092"/>
                  <a:pt x="20225" y="12322"/>
                  <a:pt x="20225" y="12541"/>
                </a:cubicBezTo>
              </a:path>
              <a:path w="1652" h="1207">
                <a:moveTo>
                  <a:pt x="20574" y="11748"/>
                </a:moveTo>
                <a:cubicBezTo>
                  <a:pt x="20631" y="11762"/>
                  <a:pt x="20665" y="11779"/>
                  <a:pt x="20733" y="11779"/>
                </a:cubicBezTo>
                <a:cubicBezTo>
                  <a:pt x="20812" y="11779"/>
                  <a:pt x="20858" y="11767"/>
                  <a:pt x="20923" y="11748"/>
                </a:cubicBezTo>
                <a:cubicBezTo>
                  <a:pt x="20974" y="11733"/>
                  <a:pt x="21007" y="11769"/>
                  <a:pt x="21050" y="11779"/>
                </a:cubicBezTo>
              </a:path>
              <a:path w="1652" h="1207">
                <a:moveTo>
                  <a:pt x="20669" y="12002"/>
                </a:moveTo>
                <a:cubicBezTo>
                  <a:pt x="20659" y="12002"/>
                  <a:pt x="20648" y="12002"/>
                  <a:pt x="20638" y="12002"/>
                </a:cubicBezTo>
                <a:cubicBezTo>
                  <a:pt x="20654" y="12049"/>
                  <a:pt x="20677" y="12033"/>
                  <a:pt x="20733" y="12033"/>
                </a:cubicBezTo>
                <a:cubicBezTo>
                  <a:pt x="20803" y="12033"/>
                  <a:pt x="20824" y="12048"/>
                  <a:pt x="20892" y="12065"/>
                </a:cubicBezTo>
                <a:cubicBezTo>
                  <a:pt x="20955" y="12081"/>
                  <a:pt x="20997" y="12113"/>
                  <a:pt x="21050" y="12128"/>
                </a:cubicBezTo>
                <a:cubicBezTo>
                  <a:pt x="21071" y="12128"/>
                  <a:pt x="21093" y="12128"/>
                  <a:pt x="21114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9"/>
          <p:cNvSpPr/>
          <p:nvPr/>
        </p:nvSpPr>
        <p:spPr>
          <a:xfrm>
            <a:off x="7783560" y="3978360"/>
            <a:ext cx="538200" cy="547560"/>
          </a:xfrm>
          <a:custGeom>
            <a:avLst/>
            <a:gdLst/>
            <a:ahLst/>
            <a:rect l="l" t="t" r="r" b="b"/>
            <a:pathLst>
              <a:path w="1493" h="1525">
                <a:moveTo>
                  <a:pt x="21685" y="11144"/>
                </a:moveTo>
                <a:cubicBezTo>
                  <a:pt x="21685" y="11433"/>
                  <a:pt x="21684" y="11719"/>
                  <a:pt x="21654" y="12002"/>
                </a:cubicBezTo>
                <a:cubicBezTo>
                  <a:pt x="21638" y="12157"/>
                  <a:pt x="21659" y="12298"/>
                  <a:pt x="21622" y="12446"/>
                </a:cubicBezTo>
                <a:cubicBezTo>
                  <a:pt x="21622" y="12478"/>
                  <a:pt x="21622" y="12489"/>
                  <a:pt x="21622" y="12510"/>
                </a:cubicBezTo>
              </a:path>
              <a:path w="1493" h="1525">
                <a:moveTo>
                  <a:pt x="21939" y="12319"/>
                </a:moveTo>
                <a:cubicBezTo>
                  <a:pt x="21939" y="12330"/>
                  <a:pt x="21939" y="12340"/>
                  <a:pt x="21939" y="12351"/>
                </a:cubicBezTo>
              </a:path>
              <a:path w="1493" h="1525">
                <a:moveTo>
                  <a:pt x="22384" y="11335"/>
                </a:moveTo>
                <a:cubicBezTo>
                  <a:pt x="22349" y="11288"/>
                  <a:pt x="22363" y="11285"/>
                  <a:pt x="22320" y="11271"/>
                </a:cubicBezTo>
                <a:cubicBezTo>
                  <a:pt x="22303" y="11337"/>
                  <a:pt x="22255" y="11425"/>
                  <a:pt x="22225" y="11494"/>
                </a:cubicBezTo>
                <a:cubicBezTo>
                  <a:pt x="22173" y="11615"/>
                  <a:pt x="22142" y="11744"/>
                  <a:pt x="22130" y="11874"/>
                </a:cubicBezTo>
                <a:cubicBezTo>
                  <a:pt x="22114" y="12051"/>
                  <a:pt x="22164" y="12183"/>
                  <a:pt x="22193" y="12351"/>
                </a:cubicBezTo>
                <a:cubicBezTo>
                  <a:pt x="22209" y="12445"/>
                  <a:pt x="22207" y="12499"/>
                  <a:pt x="22320" y="12510"/>
                </a:cubicBezTo>
                <a:cubicBezTo>
                  <a:pt x="22366" y="12515"/>
                  <a:pt x="22423" y="12451"/>
                  <a:pt x="22447" y="12414"/>
                </a:cubicBezTo>
                <a:cubicBezTo>
                  <a:pt x="22508" y="12319"/>
                  <a:pt x="22532" y="12173"/>
                  <a:pt x="22542" y="12065"/>
                </a:cubicBezTo>
                <a:cubicBezTo>
                  <a:pt x="22554" y="11939"/>
                  <a:pt x="22544" y="11772"/>
                  <a:pt x="22511" y="11652"/>
                </a:cubicBezTo>
                <a:cubicBezTo>
                  <a:pt x="22493" y="11585"/>
                  <a:pt x="22431" y="11540"/>
                  <a:pt x="22384" y="11494"/>
                </a:cubicBezTo>
                <a:cubicBezTo>
                  <a:pt x="22340" y="11451"/>
                  <a:pt x="22302" y="11422"/>
                  <a:pt x="22288" y="11366"/>
                </a:cubicBezTo>
              </a:path>
              <a:path w="1493" h="1525">
                <a:moveTo>
                  <a:pt x="22670" y="11430"/>
                </a:moveTo>
                <a:cubicBezTo>
                  <a:pt x="22670" y="11599"/>
                  <a:pt x="22670" y="11769"/>
                  <a:pt x="22670" y="11938"/>
                </a:cubicBezTo>
                <a:cubicBezTo>
                  <a:pt x="22720" y="11925"/>
                  <a:pt x="22750" y="11889"/>
                  <a:pt x="22796" y="11874"/>
                </a:cubicBezTo>
                <a:cubicBezTo>
                  <a:pt x="22843" y="11858"/>
                  <a:pt x="22869" y="11843"/>
                  <a:pt x="22924" y="11843"/>
                </a:cubicBezTo>
                <a:cubicBezTo>
                  <a:pt x="22991" y="11843"/>
                  <a:pt x="23096" y="11866"/>
                  <a:pt x="23114" y="11811"/>
                </a:cubicBezTo>
              </a:path>
              <a:path w="1493" h="1525">
                <a:moveTo>
                  <a:pt x="23050" y="11049"/>
                </a:moveTo>
                <a:cubicBezTo>
                  <a:pt x="23050" y="11422"/>
                  <a:pt x="23046" y="11793"/>
                  <a:pt x="23082" y="12160"/>
                </a:cubicBezTo>
                <a:cubicBezTo>
                  <a:pt x="23095" y="12295"/>
                  <a:pt x="23082" y="12437"/>
                  <a:pt x="23082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0"/>
          <p:cNvSpPr/>
          <p:nvPr/>
        </p:nvSpPr>
        <p:spPr>
          <a:xfrm>
            <a:off x="4754520" y="4915080"/>
            <a:ext cx="1542960" cy="560160"/>
          </a:xfrm>
          <a:custGeom>
            <a:avLst/>
            <a:gdLst/>
            <a:ahLst/>
            <a:rect l="l" t="t" r="r" b="b"/>
            <a:pathLst>
              <a:path w="4287" h="1557">
                <a:moveTo>
                  <a:pt x="13398" y="13684"/>
                </a:moveTo>
                <a:cubicBezTo>
                  <a:pt x="13345" y="13758"/>
                  <a:pt x="13385" y="13814"/>
                  <a:pt x="13367" y="13906"/>
                </a:cubicBezTo>
                <a:cubicBezTo>
                  <a:pt x="13342" y="14033"/>
                  <a:pt x="13358" y="14162"/>
                  <a:pt x="13335" y="14288"/>
                </a:cubicBezTo>
                <a:cubicBezTo>
                  <a:pt x="13312" y="14414"/>
                  <a:pt x="13326" y="14543"/>
                  <a:pt x="13303" y="14668"/>
                </a:cubicBezTo>
                <a:cubicBezTo>
                  <a:pt x="13282" y="14784"/>
                  <a:pt x="13257" y="14901"/>
                  <a:pt x="13240" y="15018"/>
                </a:cubicBezTo>
                <a:cubicBezTo>
                  <a:pt x="13230" y="15085"/>
                  <a:pt x="13230" y="15272"/>
                  <a:pt x="13208" y="15208"/>
                </a:cubicBezTo>
                <a:cubicBezTo>
                  <a:pt x="13208" y="15187"/>
                  <a:pt x="13208" y="15166"/>
                  <a:pt x="13208" y="15145"/>
                </a:cubicBezTo>
              </a:path>
              <a:path w="4287" h="1557">
                <a:moveTo>
                  <a:pt x="13557" y="13970"/>
                </a:moveTo>
                <a:cubicBezTo>
                  <a:pt x="13594" y="13905"/>
                  <a:pt x="13630" y="13864"/>
                  <a:pt x="13684" y="13811"/>
                </a:cubicBezTo>
                <a:cubicBezTo>
                  <a:pt x="13729" y="13766"/>
                  <a:pt x="13780" y="13689"/>
                  <a:pt x="13843" y="13684"/>
                </a:cubicBezTo>
                <a:cubicBezTo>
                  <a:pt x="13962" y="13675"/>
                  <a:pt x="13938" y="13748"/>
                  <a:pt x="13938" y="13843"/>
                </a:cubicBezTo>
                <a:cubicBezTo>
                  <a:pt x="13938" y="13969"/>
                  <a:pt x="13911" y="14103"/>
                  <a:pt x="13875" y="14224"/>
                </a:cubicBezTo>
                <a:cubicBezTo>
                  <a:pt x="13826" y="14388"/>
                  <a:pt x="13756" y="14525"/>
                  <a:pt x="13684" y="14668"/>
                </a:cubicBezTo>
                <a:cubicBezTo>
                  <a:pt x="13640" y="14755"/>
                  <a:pt x="13627" y="14873"/>
                  <a:pt x="13589" y="14954"/>
                </a:cubicBezTo>
                <a:cubicBezTo>
                  <a:pt x="13557" y="14986"/>
                  <a:pt x="13547" y="14996"/>
                  <a:pt x="13526" y="15018"/>
                </a:cubicBezTo>
                <a:cubicBezTo>
                  <a:pt x="13555" y="15008"/>
                  <a:pt x="13587" y="14977"/>
                  <a:pt x="13621" y="14954"/>
                </a:cubicBezTo>
                <a:cubicBezTo>
                  <a:pt x="13665" y="14924"/>
                  <a:pt x="13727" y="14897"/>
                  <a:pt x="13780" y="14891"/>
                </a:cubicBezTo>
                <a:cubicBezTo>
                  <a:pt x="13831" y="14885"/>
                  <a:pt x="13886" y="14891"/>
                  <a:pt x="13938" y="14891"/>
                </a:cubicBezTo>
              </a:path>
              <a:path w="4287" h="1557">
                <a:moveTo>
                  <a:pt x="14097" y="14732"/>
                </a:moveTo>
                <a:cubicBezTo>
                  <a:pt x="14097" y="14768"/>
                  <a:pt x="14100" y="14782"/>
                  <a:pt x="14129" y="14796"/>
                </a:cubicBezTo>
              </a:path>
              <a:path w="4287" h="1557">
                <a:moveTo>
                  <a:pt x="14319" y="14002"/>
                </a:moveTo>
                <a:cubicBezTo>
                  <a:pt x="14287" y="13985"/>
                  <a:pt x="14312" y="13949"/>
                  <a:pt x="14351" y="13906"/>
                </a:cubicBezTo>
                <a:cubicBezTo>
                  <a:pt x="14411" y="13840"/>
                  <a:pt x="14479" y="13779"/>
                  <a:pt x="14542" y="13716"/>
                </a:cubicBezTo>
                <a:cubicBezTo>
                  <a:pt x="14596" y="13661"/>
                  <a:pt x="14618" y="13673"/>
                  <a:pt x="14668" y="13684"/>
                </a:cubicBezTo>
                <a:cubicBezTo>
                  <a:pt x="14708" y="13693"/>
                  <a:pt x="14746" y="13752"/>
                  <a:pt x="14732" y="13811"/>
                </a:cubicBezTo>
                <a:cubicBezTo>
                  <a:pt x="14710" y="13905"/>
                  <a:pt x="14676" y="14005"/>
                  <a:pt x="14637" y="14097"/>
                </a:cubicBezTo>
                <a:cubicBezTo>
                  <a:pt x="14613" y="14153"/>
                  <a:pt x="14573" y="14260"/>
                  <a:pt x="14510" y="14288"/>
                </a:cubicBezTo>
                <a:cubicBezTo>
                  <a:pt x="14445" y="14317"/>
                  <a:pt x="14540" y="14226"/>
                  <a:pt x="14542" y="14224"/>
                </a:cubicBezTo>
                <a:cubicBezTo>
                  <a:pt x="14576" y="14201"/>
                  <a:pt x="14622" y="14192"/>
                  <a:pt x="14668" y="14192"/>
                </a:cubicBezTo>
                <a:cubicBezTo>
                  <a:pt x="14714" y="14192"/>
                  <a:pt x="14762" y="14201"/>
                  <a:pt x="14796" y="14224"/>
                </a:cubicBezTo>
                <a:cubicBezTo>
                  <a:pt x="14846" y="14258"/>
                  <a:pt x="14856" y="14389"/>
                  <a:pt x="14859" y="14446"/>
                </a:cubicBezTo>
                <a:cubicBezTo>
                  <a:pt x="14864" y="14543"/>
                  <a:pt x="14827" y="14644"/>
                  <a:pt x="14796" y="14732"/>
                </a:cubicBezTo>
                <a:cubicBezTo>
                  <a:pt x="14754" y="14853"/>
                  <a:pt x="14729" y="14909"/>
                  <a:pt x="14637" y="14986"/>
                </a:cubicBezTo>
                <a:cubicBezTo>
                  <a:pt x="14546" y="15062"/>
                  <a:pt x="14547" y="15043"/>
                  <a:pt x="14446" y="15018"/>
                </a:cubicBezTo>
                <a:cubicBezTo>
                  <a:pt x="14356" y="14996"/>
                  <a:pt x="14344" y="14961"/>
                  <a:pt x="14288" y="14891"/>
                </a:cubicBezTo>
              </a:path>
              <a:path w="4287" h="1557">
                <a:moveTo>
                  <a:pt x="15367" y="13748"/>
                </a:moveTo>
                <a:cubicBezTo>
                  <a:pt x="15367" y="13780"/>
                  <a:pt x="15367" y="13790"/>
                  <a:pt x="15367" y="13811"/>
                </a:cubicBezTo>
              </a:path>
              <a:path w="4287" h="1557">
                <a:moveTo>
                  <a:pt x="15176" y="14160"/>
                </a:moveTo>
                <a:cubicBezTo>
                  <a:pt x="15166" y="14160"/>
                  <a:pt x="15155" y="14160"/>
                  <a:pt x="15145" y="14160"/>
                </a:cubicBezTo>
                <a:cubicBezTo>
                  <a:pt x="15189" y="14194"/>
                  <a:pt x="15184" y="14192"/>
                  <a:pt x="15240" y="14192"/>
                </a:cubicBezTo>
                <a:cubicBezTo>
                  <a:pt x="15256" y="14144"/>
                  <a:pt x="15278" y="14160"/>
                  <a:pt x="15335" y="14160"/>
                </a:cubicBezTo>
                <a:cubicBezTo>
                  <a:pt x="15409" y="14160"/>
                  <a:pt x="15484" y="14160"/>
                  <a:pt x="15558" y="14160"/>
                </a:cubicBezTo>
              </a:path>
              <a:path w="4287" h="1557">
                <a:moveTo>
                  <a:pt x="15272" y="14573"/>
                </a:moveTo>
                <a:cubicBezTo>
                  <a:pt x="15255" y="14625"/>
                  <a:pt x="15228" y="14605"/>
                  <a:pt x="15304" y="14605"/>
                </a:cubicBezTo>
              </a:path>
              <a:path w="4287" h="1557">
                <a:moveTo>
                  <a:pt x="15780" y="13906"/>
                </a:moveTo>
                <a:cubicBezTo>
                  <a:pt x="15816" y="13906"/>
                  <a:pt x="15830" y="13909"/>
                  <a:pt x="15843" y="13938"/>
                </a:cubicBezTo>
                <a:cubicBezTo>
                  <a:pt x="15802" y="14008"/>
                  <a:pt x="15812" y="14074"/>
                  <a:pt x="15812" y="14160"/>
                </a:cubicBezTo>
                <a:cubicBezTo>
                  <a:pt x="15812" y="14425"/>
                  <a:pt x="15812" y="14689"/>
                  <a:pt x="15812" y="14954"/>
                </a:cubicBezTo>
              </a:path>
              <a:path w="4287" h="1557">
                <a:moveTo>
                  <a:pt x="16002" y="14065"/>
                </a:moveTo>
                <a:cubicBezTo>
                  <a:pt x="16002" y="14137"/>
                  <a:pt x="15979" y="14191"/>
                  <a:pt x="15970" y="14256"/>
                </a:cubicBezTo>
                <a:cubicBezTo>
                  <a:pt x="15950" y="14408"/>
                  <a:pt x="15978" y="14559"/>
                  <a:pt x="16002" y="14700"/>
                </a:cubicBezTo>
                <a:cubicBezTo>
                  <a:pt x="16014" y="14773"/>
                  <a:pt x="16017" y="14836"/>
                  <a:pt x="16066" y="14891"/>
                </a:cubicBezTo>
                <a:cubicBezTo>
                  <a:pt x="16093" y="14922"/>
                  <a:pt x="16142" y="14982"/>
                  <a:pt x="16192" y="14954"/>
                </a:cubicBezTo>
                <a:cubicBezTo>
                  <a:pt x="16266" y="14912"/>
                  <a:pt x="16257" y="14833"/>
                  <a:pt x="16288" y="14764"/>
                </a:cubicBezTo>
                <a:cubicBezTo>
                  <a:pt x="16324" y="14684"/>
                  <a:pt x="16341" y="14566"/>
                  <a:pt x="16351" y="14478"/>
                </a:cubicBezTo>
                <a:cubicBezTo>
                  <a:pt x="16363" y="14372"/>
                  <a:pt x="16310" y="14289"/>
                  <a:pt x="16288" y="14192"/>
                </a:cubicBezTo>
                <a:cubicBezTo>
                  <a:pt x="16279" y="14151"/>
                  <a:pt x="16238" y="14086"/>
                  <a:pt x="16192" y="14065"/>
                </a:cubicBezTo>
                <a:cubicBezTo>
                  <a:pt x="16150" y="14046"/>
                  <a:pt x="16117" y="14034"/>
                  <a:pt x="16066" y="14034"/>
                </a:cubicBezTo>
                <a:cubicBezTo>
                  <a:pt x="16016" y="14034"/>
                  <a:pt x="16034" y="14054"/>
                  <a:pt x="16034" y="14097"/>
                </a:cubicBezTo>
              </a:path>
              <a:path w="4287" h="1557">
                <a:moveTo>
                  <a:pt x="16446" y="14002"/>
                </a:moveTo>
                <a:cubicBezTo>
                  <a:pt x="16430" y="14052"/>
                  <a:pt x="16437" y="14055"/>
                  <a:pt x="16415" y="14129"/>
                </a:cubicBezTo>
                <a:cubicBezTo>
                  <a:pt x="16388" y="14220"/>
                  <a:pt x="16383" y="14285"/>
                  <a:pt x="16383" y="14383"/>
                </a:cubicBezTo>
                <a:cubicBezTo>
                  <a:pt x="16383" y="14462"/>
                  <a:pt x="16383" y="14568"/>
                  <a:pt x="16415" y="14637"/>
                </a:cubicBezTo>
                <a:cubicBezTo>
                  <a:pt x="16437" y="14685"/>
                  <a:pt x="16475" y="14758"/>
                  <a:pt x="16510" y="14796"/>
                </a:cubicBezTo>
                <a:cubicBezTo>
                  <a:pt x="16555" y="14846"/>
                  <a:pt x="16572" y="14859"/>
                  <a:pt x="16637" y="14859"/>
                </a:cubicBezTo>
                <a:cubicBezTo>
                  <a:pt x="16672" y="14859"/>
                  <a:pt x="16753" y="14802"/>
                  <a:pt x="16764" y="14764"/>
                </a:cubicBezTo>
                <a:cubicBezTo>
                  <a:pt x="16787" y="14682"/>
                  <a:pt x="16796" y="14598"/>
                  <a:pt x="16796" y="14510"/>
                </a:cubicBezTo>
                <a:cubicBezTo>
                  <a:pt x="16796" y="14405"/>
                  <a:pt x="16785" y="14322"/>
                  <a:pt x="16764" y="14224"/>
                </a:cubicBezTo>
                <a:cubicBezTo>
                  <a:pt x="16752" y="14168"/>
                  <a:pt x="16711" y="14111"/>
                  <a:pt x="16669" y="14065"/>
                </a:cubicBezTo>
                <a:cubicBezTo>
                  <a:pt x="16648" y="14042"/>
                  <a:pt x="16572" y="13983"/>
                  <a:pt x="16542" y="13970"/>
                </a:cubicBezTo>
                <a:cubicBezTo>
                  <a:pt x="16521" y="13961"/>
                  <a:pt x="16469" y="13970"/>
                  <a:pt x="16446" y="13970"/>
                </a:cubicBezTo>
              </a:path>
              <a:path w="4287" h="1557">
                <a:moveTo>
                  <a:pt x="17018" y="14256"/>
                </a:moveTo>
                <a:cubicBezTo>
                  <a:pt x="17083" y="14256"/>
                  <a:pt x="17093" y="14242"/>
                  <a:pt x="17145" y="14224"/>
                </a:cubicBezTo>
                <a:cubicBezTo>
                  <a:pt x="17196" y="14207"/>
                  <a:pt x="17467" y="14202"/>
                  <a:pt x="17494" y="14256"/>
                </a:cubicBezTo>
                <a:cubicBezTo>
                  <a:pt x="17494" y="14267"/>
                  <a:pt x="17494" y="14277"/>
                  <a:pt x="17494" y="14288"/>
                </a:cubicBezTo>
              </a:path>
              <a:path w="4287" h="1557">
                <a:moveTo>
                  <a:pt x="17145" y="14605"/>
                </a:moveTo>
                <a:cubicBezTo>
                  <a:pt x="17134" y="14605"/>
                  <a:pt x="17124" y="14605"/>
                  <a:pt x="17113" y="14605"/>
                </a:cubicBezTo>
                <a:cubicBezTo>
                  <a:pt x="17203" y="14605"/>
                  <a:pt x="17261" y="14598"/>
                  <a:pt x="17336" y="14573"/>
                </a:cubicBezTo>
                <a:cubicBezTo>
                  <a:pt x="17344" y="14570"/>
                  <a:pt x="17449" y="14598"/>
                  <a:pt x="17462" y="14605"/>
                </a:cubicBezTo>
                <a:cubicBezTo>
                  <a:pt x="17473" y="14616"/>
                  <a:pt x="17483" y="14626"/>
                  <a:pt x="17494" y="14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1"/>
          <p:cNvSpPr/>
          <p:nvPr/>
        </p:nvSpPr>
        <p:spPr>
          <a:xfrm>
            <a:off x="6435720" y="4915080"/>
            <a:ext cx="914400" cy="492120"/>
          </a:xfrm>
          <a:custGeom>
            <a:avLst/>
            <a:gdLst/>
            <a:ahLst/>
            <a:rect l="l" t="t" r="r" b="b"/>
            <a:pathLst>
              <a:path w="2541" h="1367">
                <a:moveTo>
                  <a:pt x="17907" y="14764"/>
                </a:moveTo>
                <a:cubicBezTo>
                  <a:pt x="17859" y="14780"/>
                  <a:pt x="17875" y="14802"/>
                  <a:pt x="17875" y="14859"/>
                </a:cubicBezTo>
                <a:cubicBezTo>
                  <a:pt x="17875" y="14937"/>
                  <a:pt x="17862" y="14967"/>
                  <a:pt x="17939" y="14986"/>
                </a:cubicBezTo>
                <a:cubicBezTo>
                  <a:pt x="17939" y="14928"/>
                  <a:pt x="17964" y="14911"/>
                  <a:pt x="17970" y="14859"/>
                </a:cubicBezTo>
                <a:cubicBezTo>
                  <a:pt x="17976" y="14807"/>
                  <a:pt x="17969" y="14804"/>
                  <a:pt x="17939" y="14764"/>
                </a:cubicBezTo>
                <a:cubicBezTo>
                  <a:pt x="17939" y="14830"/>
                  <a:pt x="17907" y="14933"/>
                  <a:pt x="17970" y="14891"/>
                </a:cubicBezTo>
              </a:path>
              <a:path w="2541" h="1367">
                <a:moveTo>
                  <a:pt x="18193" y="13843"/>
                </a:moveTo>
                <a:cubicBezTo>
                  <a:pt x="18227" y="13855"/>
                  <a:pt x="18252" y="13887"/>
                  <a:pt x="18256" y="13938"/>
                </a:cubicBezTo>
                <a:cubicBezTo>
                  <a:pt x="18273" y="14171"/>
                  <a:pt x="18252" y="14415"/>
                  <a:pt x="18224" y="14637"/>
                </a:cubicBezTo>
                <a:cubicBezTo>
                  <a:pt x="18209" y="14757"/>
                  <a:pt x="18226" y="14916"/>
                  <a:pt x="18256" y="14986"/>
                </a:cubicBezTo>
                <a:cubicBezTo>
                  <a:pt x="18280" y="15043"/>
                  <a:pt x="18256" y="14988"/>
                  <a:pt x="18256" y="14954"/>
                </a:cubicBezTo>
              </a:path>
              <a:path w="2541" h="1367">
                <a:moveTo>
                  <a:pt x="18447" y="14065"/>
                </a:moveTo>
                <a:cubicBezTo>
                  <a:pt x="18459" y="14006"/>
                  <a:pt x="18471" y="13950"/>
                  <a:pt x="18510" y="13906"/>
                </a:cubicBezTo>
                <a:cubicBezTo>
                  <a:pt x="18539" y="13874"/>
                  <a:pt x="18578" y="13847"/>
                  <a:pt x="18606" y="13843"/>
                </a:cubicBezTo>
                <a:cubicBezTo>
                  <a:pt x="18689" y="13832"/>
                  <a:pt x="18695" y="13863"/>
                  <a:pt x="18701" y="13938"/>
                </a:cubicBezTo>
                <a:cubicBezTo>
                  <a:pt x="18710" y="14043"/>
                  <a:pt x="18673" y="14121"/>
                  <a:pt x="18669" y="14224"/>
                </a:cubicBezTo>
                <a:cubicBezTo>
                  <a:pt x="18665" y="14338"/>
                  <a:pt x="18623" y="14433"/>
                  <a:pt x="18606" y="14542"/>
                </a:cubicBezTo>
                <a:cubicBezTo>
                  <a:pt x="18592" y="14633"/>
                  <a:pt x="18564" y="14710"/>
                  <a:pt x="18542" y="14796"/>
                </a:cubicBezTo>
                <a:cubicBezTo>
                  <a:pt x="18529" y="14849"/>
                  <a:pt x="18522" y="14867"/>
                  <a:pt x="18510" y="14891"/>
                </a:cubicBezTo>
                <a:cubicBezTo>
                  <a:pt x="18484" y="14942"/>
                  <a:pt x="18549" y="14881"/>
                  <a:pt x="18574" y="14859"/>
                </a:cubicBezTo>
                <a:cubicBezTo>
                  <a:pt x="18619" y="14819"/>
                  <a:pt x="18642" y="14827"/>
                  <a:pt x="18701" y="14827"/>
                </a:cubicBezTo>
                <a:cubicBezTo>
                  <a:pt x="18752" y="14827"/>
                  <a:pt x="18864" y="14851"/>
                  <a:pt x="18891" y="14796"/>
                </a:cubicBezTo>
                <a:cubicBezTo>
                  <a:pt x="18891" y="14785"/>
                  <a:pt x="18891" y="14775"/>
                  <a:pt x="18891" y="14764"/>
                </a:cubicBezTo>
              </a:path>
              <a:path w="2541" h="1367">
                <a:moveTo>
                  <a:pt x="18891" y="14002"/>
                </a:moveTo>
                <a:cubicBezTo>
                  <a:pt x="18903" y="13942"/>
                  <a:pt x="18916" y="13888"/>
                  <a:pt x="18955" y="13843"/>
                </a:cubicBezTo>
                <a:cubicBezTo>
                  <a:pt x="18976" y="13819"/>
                  <a:pt x="19035" y="13760"/>
                  <a:pt x="19050" y="13748"/>
                </a:cubicBezTo>
                <a:cubicBezTo>
                  <a:pt x="19082" y="13722"/>
                  <a:pt x="19192" y="13702"/>
                  <a:pt x="19209" y="13748"/>
                </a:cubicBezTo>
                <a:cubicBezTo>
                  <a:pt x="19237" y="13825"/>
                  <a:pt x="19216" y="13935"/>
                  <a:pt x="19209" y="14002"/>
                </a:cubicBezTo>
                <a:cubicBezTo>
                  <a:pt x="19202" y="14069"/>
                  <a:pt x="19216" y="14204"/>
                  <a:pt x="19177" y="14256"/>
                </a:cubicBezTo>
                <a:cubicBezTo>
                  <a:pt x="19167" y="14269"/>
                  <a:pt x="19134" y="14281"/>
                  <a:pt x="19114" y="14288"/>
                </a:cubicBezTo>
                <a:cubicBezTo>
                  <a:pt x="19122" y="14254"/>
                  <a:pt x="19140" y="14178"/>
                  <a:pt x="19177" y="14160"/>
                </a:cubicBezTo>
                <a:cubicBezTo>
                  <a:pt x="19220" y="14139"/>
                  <a:pt x="19276" y="14167"/>
                  <a:pt x="19304" y="14192"/>
                </a:cubicBezTo>
                <a:cubicBezTo>
                  <a:pt x="19332" y="14216"/>
                  <a:pt x="19389" y="14340"/>
                  <a:pt x="19399" y="14383"/>
                </a:cubicBezTo>
                <a:cubicBezTo>
                  <a:pt x="19426" y="14497"/>
                  <a:pt x="19394" y="14626"/>
                  <a:pt x="19368" y="14732"/>
                </a:cubicBezTo>
                <a:cubicBezTo>
                  <a:pt x="19358" y="14773"/>
                  <a:pt x="19318" y="14839"/>
                  <a:pt x="19272" y="14859"/>
                </a:cubicBezTo>
                <a:cubicBezTo>
                  <a:pt x="19199" y="14891"/>
                  <a:pt x="19185" y="14880"/>
                  <a:pt x="19114" y="14859"/>
                </a:cubicBezTo>
                <a:cubicBezTo>
                  <a:pt x="19068" y="14845"/>
                  <a:pt x="19082" y="14849"/>
                  <a:pt x="19082" y="14796"/>
                </a:cubicBezTo>
              </a:path>
              <a:path w="2541" h="1367">
                <a:moveTo>
                  <a:pt x="19844" y="13938"/>
                </a:moveTo>
                <a:cubicBezTo>
                  <a:pt x="19859" y="13998"/>
                  <a:pt x="19858" y="14064"/>
                  <a:pt x="19876" y="14129"/>
                </a:cubicBezTo>
                <a:cubicBezTo>
                  <a:pt x="19903" y="14228"/>
                  <a:pt x="19907" y="14307"/>
                  <a:pt x="19907" y="14414"/>
                </a:cubicBezTo>
                <a:cubicBezTo>
                  <a:pt x="19907" y="14499"/>
                  <a:pt x="19907" y="14583"/>
                  <a:pt x="19907" y="14668"/>
                </a:cubicBezTo>
                <a:cubicBezTo>
                  <a:pt x="19865" y="14654"/>
                  <a:pt x="19878" y="14650"/>
                  <a:pt x="19844" y="14605"/>
                </a:cubicBezTo>
              </a:path>
              <a:path w="2541" h="1367">
                <a:moveTo>
                  <a:pt x="19685" y="14351"/>
                </a:moveTo>
                <a:cubicBezTo>
                  <a:pt x="19716" y="14343"/>
                  <a:pt x="19783" y="14334"/>
                  <a:pt x="19812" y="14319"/>
                </a:cubicBezTo>
                <a:cubicBezTo>
                  <a:pt x="19861" y="14293"/>
                  <a:pt x="19919" y="14245"/>
                  <a:pt x="19971" y="14224"/>
                </a:cubicBezTo>
                <a:cubicBezTo>
                  <a:pt x="20004" y="14211"/>
                  <a:pt x="20031" y="14201"/>
                  <a:pt x="20066" y="14192"/>
                </a:cubicBezTo>
              </a:path>
              <a:path w="2541" h="1367">
                <a:moveTo>
                  <a:pt x="20320" y="13652"/>
                </a:moveTo>
                <a:cubicBezTo>
                  <a:pt x="20399" y="13652"/>
                  <a:pt x="20403" y="13680"/>
                  <a:pt x="20415" y="13780"/>
                </a:cubicBezTo>
                <a:cubicBezTo>
                  <a:pt x="20434" y="13944"/>
                  <a:pt x="20363" y="14125"/>
                  <a:pt x="20352" y="14288"/>
                </a:cubicBezTo>
                <a:cubicBezTo>
                  <a:pt x="20338" y="14490"/>
                  <a:pt x="20332" y="14690"/>
                  <a:pt x="20320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2"/>
          <p:cNvSpPr/>
          <p:nvPr/>
        </p:nvSpPr>
        <p:spPr>
          <a:xfrm>
            <a:off x="7543800" y="5086440"/>
            <a:ext cx="171360" cy="195120"/>
          </a:xfrm>
          <a:custGeom>
            <a:avLst/>
            <a:gdLst/>
            <a:ahLst/>
            <a:rect l="l" t="t" r="r" b="b"/>
            <a:pathLst>
              <a:path w="477" h="540">
                <a:moveTo>
                  <a:pt x="20955" y="14160"/>
                </a:moveTo>
                <a:cubicBezTo>
                  <a:pt x="21025" y="14109"/>
                  <a:pt x="21008" y="14152"/>
                  <a:pt x="21082" y="14160"/>
                </a:cubicBezTo>
                <a:cubicBezTo>
                  <a:pt x="21142" y="14166"/>
                  <a:pt x="21157" y="14133"/>
                  <a:pt x="21209" y="14129"/>
                </a:cubicBezTo>
                <a:cubicBezTo>
                  <a:pt x="21302" y="14122"/>
                  <a:pt x="21280" y="14142"/>
                  <a:pt x="21336" y="14160"/>
                </a:cubicBezTo>
              </a:path>
              <a:path w="477" h="540">
                <a:moveTo>
                  <a:pt x="21050" y="14573"/>
                </a:moveTo>
                <a:cubicBezTo>
                  <a:pt x="21130" y="14573"/>
                  <a:pt x="21166" y="14586"/>
                  <a:pt x="21241" y="14605"/>
                </a:cubicBezTo>
                <a:cubicBezTo>
                  <a:pt x="21293" y="14618"/>
                  <a:pt x="21354" y="14614"/>
                  <a:pt x="21400" y="14637"/>
                </a:cubicBezTo>
                <a:cubicBezTo>
                  <a:pt x="21410" y="14647"/>
                  <a:pt x="21421" y="14658"/>
                  <a:pt x="21431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13"/>
          <p:cNvSpPr/>
          <p:nvPr/>
        </p:nvSpPr>
        <p:spPr>
          <a:xfrm>
            <a:off x="7897680" y="4857840"/>
            <a:ext cx="24120" cy="549360"/>
          </a:xfrm>
          <a:custGeom>
            <a:avLst/>
            <a:gdLst/>
            <a:ahLst/>
            <a:rect l="l" t="t" r="r" b="b"/>
            <a:pathLst>
              <a:path w="65" h="1525">
                <a:moveTo>
                  <a:pt x="21971" y="13494"/>
                </a:moveTo>
                <a:cubicBezTo>
                  <a:pt x="21914" y="13569"/>
                  <a:pt x="21967" y="13651"/>
                  <a:pt x="21971" y="13748"/>
                </a:cubicBezTo>
                <a:cubicBezTo>
                  <a:pt x="21980" y="13995"/>
                  <a:pt x="21976" y="14237"/>
                  <a:pt x="22003" y="14478"/>
                </a:cubicBezTo>
                <a:cubicBezTo>
                  <a:pt x="22016" y="14597"/>
                  <a:pt x="21954" y="14935"/>
                  <a:pt x="21971" y="14986"/>
                </a:cubicBezTo>
                <a:cubicBezTo>
                  <a:pt x="21982" y="14997"/>
                  <a:pt x="21992" y="15007"/>
                  <a:pt x="22003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4"/>
          <p:cNvSpPr/>
          <p:nvPr/>
        </p:nvSpPr>
        <p:spPr>
          <a:xfrm>
            <a:off x="8069400" y="4789440"/>
            <a:ext cx="628560" cy="606600"/>
          </a:xfrm>
          <a:custGeom>
            <a:avLst/>
            <a:gdLst/>
            <a:ahLst/>
            <a:rect l="l" t="t" r="r" b="b"/>
            <a:pathLst>
              <a:path w="1747" h="1684">
                <a:moveTo>
                  <a:pt x="22447" y="14796"/>
                </a:moveTo>
                <a:cubicBezTo>
                  <a:pt x="22400" y="14812"/>
                  <a:pt x="22416" y="14835"/>
                  <a:pt x="22416" y="14891"/>
                </a:cubicBezTo>
                <a:cubicBezTo>
                  <a:pt x="22416" y="14946"/>
                  <a:pt x="22415" y="14941"/>
                  <a:pt x="22447" y="14986"/>
                </a:cubicBezTo>
                <a:cubicBezTo>
                  <a:pt x="22447" y="14927"/>
                  <a:pt x="22473" y="14911"/>
                  <a:pt x="22479" y="14859"/>
                </a:cubicBezTo>
                <a:cubicBezTo>
                  <a:pt x="22486" y="14795"/>
                  <a:pt x="22447" y="14780"/>
                  <a:pt x="22447" y="14859"/>
                </a:cubicBezTo>
                <a:cubicBezTo>
                  <a:pt x="22447" y="14912"/>
                  <a:pt x="22447" y="14922"/>
                  <a:pt x="22447" y="14954"/>
                </a:cubicBezTo>
                <a:cubicBezTo>
                  <a:pt x="22470" y="14884"/>
                  <a:pt x="22461" y="14965"/>
                  <a:pt x="22479" y="14859"/>
                </a:cubicBezTo>
              </a:path>
              <a:path w="1747" h="1684">
                <a:moveTo>
                  <a:pt x="22733" y="13462"/>
                </a:moveTo>
                <a:cubicBezTo>
                  <a:pt x="22733" y="13616"/>
                  <a:pt x="22748" y="13758"/>
                  <a:pt x="22765" y="13906"/>
                </a:cubicBezTo>
                <a:cubicBezTo>
                  <a:pt x="22782" y="14054"/>
                  <a:pt x="22767" y="14205"/>
                  <a:pt x="22796" y="14351"/>
                </a:cubicBezTo>
                <a:cubicBezTo>
                  <a:pt x="22821" y="14475"/>
                  <a:pt x="22845" y="14611"/>
                  <a:pt x="22860" y="14732"/>
                </a:cubicBezTo>
                <a:cubicBezTo>
                  <a:pt x="22867" y="14792"/>
                  <a:pt x="22860" y="14861"/>
                  <a:pt x="22860" y="14922"/>
                </a:cubicBezTo>
              </a:path>
              <a:path w="1747" h="1684">
                <a:moveTo>
                  <a:pt x="23050" y="13938"/>
                </a:moveTo>
                <a:cubicBezTo>
                  <a:pt x="23064" y="13868"/>
                  <a:pt x="23075" y="13778"/>
                  <a:pt x="23114" y="13716"/>
                </a:cubicBezTo>
                <a:cubicBezTo>
                  <a:pt x="23140" y="13674"/>
                  <a:pt x="23186" y="13624"/>
                  <a:pt x="23209" y="13589"/>
                </a:cubicBezTo>
                <a:cubicBezTo>
                  <a:pt x="23234" y="13551"/>
                  <a:pt x="23320" y="13500"/>
                  <a:pt x="23368" y="13526"/>
                </a:cubicBezTo>
                <a:cubicBezTo>
                  <a:pt x="23413" y="13550"/>
                  <a:pt x="23430" y="13669"/>
                  <a:pt x="23432" y="13716"/>
                </a:cubicBezTo>
                <a:cubicBezTo>
                  <a:pt x="23438" y="13848"/>
                  <a:pt x="23382" y="13969"/>
                  <a:pt x="23368" y="14097"/>
                </a:cubicBezTo>
                <a:cubicBezTo>
                  <a:pt x="23353" y="14231"/>
                  <a:pt x="23292" y="14346"/>
                  <a:pt x="23273" y="14478"/>
                </a:cubicBezTo>
                <a:cubicBezTo>
                  <a:pt x="23260" y="14567"/>
                  <a:pt x="23218" y="14646"/>
                  <a:pt x="23209" y="14732"/>
                </a:cubicBezTo>
                <a:cubicBezTo>
                  <a:pt x="23209" y="14768"/>
                  <a:pt x="23206" y="14782"/>
                  <a:pt x="23178" y="14796"/>
                </a:cubicBezTo>
                <a:cubicBezTo>
                  <a:pt x="23220" y="14764"/>
                  <a:pt x="23235" y="14737"/>
                  <a:pt x="23273" y="14732"/>
                </a:cubicBezTo>
                <a:cubicBezTo>
                  <a:pt x="23325" y="14725"/>
                  <a:pt x="23342" y="14700"/>
                  <a:pt x="23400" y="14700"/>
                </a:cubicBezTo>
                <a:cubicBezTo>
                  <a:pt x="23475" y="14700"/>
                  <a:pt x="23532" y="14712"/>
                  <a:pt x="23590" y="14668"/>
                </a:cubicBezTo>
              </a:path>
              <a:path w="1747" h="1684">
                <a:moveTo>
                  <a:pt x="23717" y="13621"/>
                </a:moveTo>
                <a:cubicBezTo>
                  <a:pt x="23717" y="13543"/>
                  <a:pt x="23753" y="13557"/>
                  <a:pt x="23781" y="13494"/>
                </a:cubicBezTo>
                <a:cubicBezTo>
                  <a:pt x="23803" y="13445"/>
                  <a:pt x="23855" y="13386"/>
                  <a:pt x="23876" y="13335"/>
                </a:cubicBezTo>
                <a:cubicBezTo>
                  <a:pt x="23889" y="13302"/>
                  <a:pt x="23940" y="13272"/>
                  <a:pt x="23971" y="13335"/>
                </a:cubicBezTo>
                <a:cubicBezTo>
                  <a:pt x="24018" y="13431"/>
                  <a:pt x="23954" y="13627"/>
                  <a:pt x="23940" y="13716"/>
                </a:cubicBezTo>
                <a:cubicBezTo>
                  <a:pt x="23926" y="13806"/>
                  <a:pt x="23896" y="13882"/>
                  <a:pt x="23876" y="13970"/>
                </a:cubicBezTo>
                <a:cubicBezTo>
                  <a:pt x="23863" y="14027"/>
                  <a:pt x="23884" y="14013"/>
                  <a:pt x="23844" y="14065"/>
                </a:cubicBezTo>
                <a:cubicBezTo>
                  <a:pt x="23883" y="14036"/>
                  <a:pt x="23922" y="14007"/>
                  <a:pt x="23971" y="14002"/>
                </a:cubicBezTo>
                <a:cubicBezTo>
                  <a:pt x="23975" y="14002"/>
                  <a:pt x="24097" y="14033"/>
                  <a:pt x="24098" y="14034"/>
                </a:cubicBezTo>
                <a:cubicBezTo>
                  <a:pt x="24130" y="14073"/>
                  <a:pt x="24159" y="14136"/>
                  <a:pt x="24162" y="14192"/>
                </a:cubicBezTo>
                <a:cubicBezTo>
                  <a:pt x="24169" y="14308"/>
                  <a:pt x="24148" y="14403"/>
                  <a:pt x="24130" y="14510"/>
                </a:cubicBezTo>
                <a:cubicBezTo>
                  <a:pt x="24115" y="14597"/>
                  <a:pt x="24099" y="14663"/>
                  <a:pt x="24035" y="14732"/>
                </a:cubicBezTo>
                <a:cubicBezTo>
                  <a:pt x="23999" y="14771"/>
                  <a:pt x="23928" y="14848"/>
                  <a:pt x="23876" y="14859"/>
                </a:cubicBezTo>
                <a:cubicBezTo>
                  <a:pt x="23840" y="14867"/>
                  <a:pt x="23736" y="14854"/>
                  <a:pt x="23717" y="14827"/>
                </a:cubicBezTo>
                <a:cubicBezTo>
                  <a:pt x="23685" y="14780"/>
                  <a:pt x="23677" y="14746"/>
                  <a:pt x="23717" y="14700"/>
                </a:cubicBezTo>
                <a:cubicBezTo>
                  <a:pt x="23752" y="14660"/>
                  <a:pt x="23764" y="14668"/>
                  <a:pt x="23812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SUBTRACT fro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annual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d at 6.7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066680" y="1066680"/>
                <a:ext cx="20829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Ink 5"/>
          <p:cNvSpPr/>
          <p:nvPr/>
        </p:nvSpPr>
        <p:spPr>
          <a:xfrm>
            <a:off x="4149720" y="4000680"/>
            <a:ext cx="1222560" cy="595080"/>
          </a:xfrm>
          <a:custGeom>
            <a:avLst/>
            <a:gdLst/>
            <a:ahLst/>
            <a:rect l="l" t="t" r="r" b="b"/>
            <a:pathLst>
              <a:path w="3398" h="1653">
                <a:moveTo>
                  <a:pt x="11779" y="11240"/>
                </a:moveTo>
                <a:cubicBezTo>
                  <a:pt x="11751" y="11249"/>
                  <a:pt x="11730" y="11295"/>
                  <a:pt x="11716" y="11335"/>
                </a:cubicBezTo>
                <a:cubicBezTo>
                  <a:pt x="11696" y="11395"/>
                  <a:pt x="11688" y="11493"/>
                  <a:pt x="11684" y="11557"/>
                </a:cubicBezTo>
                <a:cubicBezTo>
                  <a:pt x="11679" y="11654"/>
                  <a:pt x="11643" y="11752"/>
                  <a:pt x="11620" y="11843"/>
                </a:cubicBezTo>
                <a:cubicBezTo>
                  <a:pt x="11599" y="11925"/>
                  <a:pt x="11548" y="11996"/>
                  <a:pt x="11525" y="12065"/>
                </a:cubicBezTo>
                <a:cubicBezTo>
                  <a:pt x="11502" y="12135"/>
                  <a:pt x="11531" y="12015"/>
                  <a:pt x="11557" y="12002"/>
                </a:cubicBezTo>
                <a:cubicBezTo>
                  <a:pt x="11608" y="11977"/>
                  <a:pt x="11648" y="12022"/>
                  <a:pt x="11684" y="12033"/>
                </a:cubicBezTo>
                <a:cubicBezTo>
                  <a:pt x="11728" y="12047"/>
                  <a:pt x="11801" y="12062"/>
                  <a:pt x="11843" y="12065"/>
                </a:cubicBezTo>
                <a:cubicBezTo>
                  <a:pt x="11922" y="12071"/>
                  <a:pt x="11912" y="12053"/>
                  <a:pt x="11970" y="12097"/>
                </a:cubicBezTo>
                <a:cubicBezTo>
                  <a:pt x="12019" y="12081"/>
                  <a:pt x="11996" y="12065"/>
                  <a:pt x="12065" y="12065"/>
                </a:cubicBezTo>
                <a:cubicBezTo>
                  <a:pt x="12119" y="12065"/>
                  <a:pt x="12117" y="12045"/>
                  <a:pt x="12128" y="12002"/>
                </a:cubicBezTo>
              </a:path>
              <a:path w="3398" h="1653">
                <a:moveTo>
                  <a:pt x="12128" y="11112"/>
                </a:moveTo>
                <a:cubicBezTo>
                  <a:pt x="12128" y="11183"/>
                  <a:pt x="12113" y="11268"/>
                  <a:pt x="12097" y="11335"/>
                </a:cubicBezTo>
                <a:cubicBezTo>
                  <a:pt x="12057" y="11507"/>
                  <a:pt x="12085" y="11668"/>
                  <a:pt x="12065" y="11843"/>
                </a:cubicBezTo>
                <a:cubicBezTo>
                  <a:pt x="12044" y="12025"/>
                  <a:pt x="12007" y="12199"/>
                  <a:pt x="12002" y="12382"/>
                </a:cubicBezTo>
                <a:cubicBezTo>
                  <a:pt x="12000" y="12472"/>
                  <a:pt x="12003" y="12646"/>
                  <a:pt x="11970" y="12732"/>
                </a:cubicBezTo>
                <a:cubicBezTo>
                  <a:pt x="11959" y="12743"/>
                  <a:pt x="11949" y="12753"/>
                  <a:pt x="11938" y="12764"/>
                </a:cubicBezTo>
              </a:path>
              <a:path w="3398" h="1653">
                <a:moveTo>
                  <a:pt x="12605" y="11589"/>
                </a:moveTo>
                <a:cubicBezTo>
                  <a:pt x="12557" y="11605"/>
                  <a:pt x="12573" y="11627"/>
                  <a:pt x="12573" y="11684"/>
                </a:cubicBezTo>
                <a:cubicBezTo>
                  <a:pt x="12621" y="11668"/>
                  <a:pt x="12605" y="11646"/>
                  <a:pt x="12605" y="11589"/>
                </a:cubicBezTo>
                <a:cubicBezTo>
                  <a:pt x="12605" y="11504"/>
                  <a:pt x="12605" y="11609"/>
                  <a:pt x="12605" y="11620"/>
                </a:cubicBezTo>
              </a:path>
              <a:path w="3398" h="1653">
                <a:moveTo>
                  <a:pt x="12319" y="12002"/>
                </a:moveTo>
                <a:cubicBezTo>
                  <a:pt x="12382" y="12002"/>
                  <a:pt x="12430" y="11980"/>
                  <a:pt x="12478" y="11970"/>
                </a:cubicBezTo>
                <a:cubicBezTo>
                  <a:pt x="12557" y="11954"/>
                  <a:pt x="12617" y="11925"/>
                  <a:pt x="12700" y="11906"/>
                </a:cubicBezTo>
                <a:cubicBezTo>
                  <a:pt x="12761" y="11892"/>
                  <a:pt x="12875" y="11892"/>
                  <a:pt x="12890" y="11938"/>
                </a:cubicBezTo>
              </a:path>
              <a:path w="3398" h="1653">
                <a:moveTo>
                  <a:pt x="12573" y="12382"/>
                </a:moveTo>
                <a:cubicBezTo>
                  <a:pt x="12573" y="12393"/>
                  <a:pt x="12573" y="12403"/>
                  <a:pt x="12573" y="12414"/>
                </a:cubicBezTo>
              </a:path>
              <a:path w="3398" h="1653">
                <a:moveTo>
                  <a:pt x="13081" y="11430"/>
                </a:moveTo>
                <a:cubicBezTo>
                  <a:pt x="13143" y="11451"/>
                  <a:pt x="13140" y="11510"/>
                  <a:pt x="13144" y="11589"/>
                </a:cubicBezTo>
                <a:cubicBezTo>
                  <a:pt x="13155" y="11814"/>
                  <a:pt x="13142" y="12038"/>
                  <a:pt x="13113" y="12256"/>
                </a:cubicBezTo>
                <a:cubicBezTo>
                  <a:pt x="13102" y="12342"/>
                  <a:pt x="13089" y="12428"/>
                  <a:pt x="13081" y="12510"/>
                </a:cubicBezTo>
                <a:cubicBezTo>
                  <a:pt x="13080" y="12521"/>
                  <a:pt x="13081" y="12626"/>
                  <a:pt x="13081" y="12541"/>
                </a:cubicBezTo>
              </a:path>
              <a:path w="3398" h="1653">
                <a:moveTo>
                  <a:pt x="13430" y="11525"/>
                </a:moveTo>
                <a:cubicBezTo>
                  <a:pt x="13415" y="11663"/>
                  <a:pt x="13380" y="11799"/>
                  <a:pt x="13367" y="11938"/>
                </a:cubicBezTo>
                <a:cubicBezTo>
                  <a:pt x="13351" y="12111"/>
                  <a:pt x="13373" y="12284"/>
                  <a:pt x="13398" y="12446"/>
                </a:cubicBezTo>
                <a:cubicBezTo>
                  <a:pt x="13412" y="12534"/>
                  <a:pt x="13395" y="12493"/>
                  <a:pt x="13462" y="12541"/>
                </a:cubicBezTo>
                <a:cubicBezTo>
                  <a:pt x="13520" y="12484"/>
                  <a:pt x="13559" y="12428"/>
                  <a:pt x="13589" y="12351"/>
                </a:cubicBezTo>
                <a:cubicBezTo>
                  <a:pt x="13641" y="12220"/>
                  <a:pt x="13621" y="12077"/>
                  <a:pt x="13621" y="11938"/>
                </a:cubicBezTo>
                <a:cubicBezTo>
                  <a:pt x="13621" y="11845"/>
                  <a:pt x="13612" y="11722"/>
                  <a:pt x="13557" y="11652"/>
                </a:cubicBezTo>
                <a:cubicBezTo>
                  <a:pt x="13504" y="11585"/>
                  <a:pt x="13482" y="11635"/>
                  <a:pt x="13430" y="11652"/>
                </a:cubicBezTo>
                <a:cubicBezTo>
                  <a:pt x="13398" y="11652"/>
                  <a:pt x="13387" y="11652"/>
                  <a:pt x="13398" y="11684"/>
                </a:cubicBezTo>
              </a:path>
              <a:path w="3398" h="1653">
                <a:moveTo>
                  <a:pt x="13875" y="11589"/>
                </a:moveTo>
                <a:cubicBezTo>
                  <a:pt x="13875" y="11664"/>
                  <a:pt x="13858" y="11739"/>
                  <a:pt x="13843" y="11811"/>
                </a:cubicBezTo>
                <a:cubicBezTo>
                  <a:pt x="13807" y="11984"/>
                  <a:pt x="13811" y="12142"/>
                  <a:pt x="13811" y="12319"/>
                </a:cubicBezTo>
                <a:cubicBezTo>
                  <a:pt x="13811" y="12438"/>
                  <a:pt x="13825" y="12546"/>
                  <a:pt x="13906" y="12636"/>
                </a:cubicBezTo>
                <a:cubicBezTo>
                  <a:pt x="13945" y="12680"/>
                  <a:pt x="14019" y="12686"/>
                  <a:pt x="14065" y="12636"/>
                </a:cubicBezTo>
                <a:cubicBezTo>
                  <a:pt x="14138" y="12557"/>
                  <a:pt x="14111" y="12381"/>
                  <a:pt x="14129" y="12287"/>
                </a:cubicBezTo>
                <a:cubicBezTo>
                  <a:pt x="14157" y="12146"/>
                  <a:pt x="14139" y="12015"/>
                  <a:pt x="14097" y="11874"/>
                </a:cubicBezTo>
                <a:cubicBezTo>
                  <a:pt x="14065" y="11766"/>
                  <a:pt x="14046" y="11735"/>
                  <a:pt x="13970" y="11684"/>
                </a:cubicBezTo>
                <a:cubicBezTo>
                  <a:pt x="13959" y="11673"/>
                  <a:pt x="13949" y="11663"/>
                  <a:pt x="13938" y="11652"/>
                </a:cubicBezTo>
              </a:path>
              <a:path w="3398" h="1653">
                <a:moveTo>
                  <a:pt x="14542" y="11938"/>
                </a:moveTo>
                <a:cubicBezTo>
                  <a:pt x="14669" y="11938"/>
                  <a:pt x="14795" y="11938"/>
                  <a:pt x="14922" y="11938"/>
                </a:cubicBezTo>
              </a:path>
              <a:path w="3398" h="1653">
                <a:moveTo>
                  <a:pt x="14573" y="12256"/>
                </a:moveTo>
                <a:cubicBezTo>
                  <a:pt x="14624" y="12256"/>
                  <a:pt x="14692" y="12248"/>
                  <a:pt x="14732" y="12224"/>
                </a:cubicBezTo>
                <a:cubicBezTo>
                  <a:pt x="14806" y="12180"/>
                  <a:pt x="14806" y="12192"/>
                  <a:pt x="14891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6"/>
          <p:cNvSpPr/>
          <p:nvPr/>
        </p:nvSpPr>
        <p:spPr>
          <a:xfrm>
            <a:off x="5589720" y="4046400"/>
            <a:ext cx="549000" cy="594000"/>
          </a:xfrm>
          <a:custGeom>
            <a:avLst/>
            <a:gdLst/>
            <a:ahLst/>
            <a:rect l="l" t="t" r="r" b="b"/>
            <a:pathLst>
              <a:path w="1525" h="1651">
                <a:moveTo>
                  <a:pt x="15526" y="12414"/>
                </a:moveTo>
                <a:lnTo>
                  <a:pt x="15526" y="12414"/>
                </a:lnTo>
              </a:path>
              <a:path w="1525" h="1651">
                <a:moveTo>
                  <a:pt x="16097" y="11557"/>
                </a:moveTo>
                <a:cubicBezTo>
                  <a:pt x="16077" y="11496"/>
                  <a:pt x="16034" y="11539"/>
                  <a:pt x="16002" y="11589"/>
                </a:cubicBezTo>
                <a:cubicBezTo>
                  <a:pt x="15926" y="11706"/>
                  <a:pt x="15915" y="11772"/>
                  <a:pt x="15875" y="11906"/>
                </a:cubicBezTo>
                <a:cubicBezTo>
                  <a:pt x="15831" y="12054"/>
                  <a:pt x="15827" y="12202"/>
                  <a:pt x="15875" y="12351"/>
                </a:cubicBezTo>
                <a:cubicBezTo>
                  <a:pt x="15896" y="12416"/>
                  <a:pt x="15931" y="12502"/>
                  <a:pt x="16002" y="12510"/>
                </a:cubicBezTo>
                <a:cubicBezTo>
                  <a:pt x="16125" y="12524"/>
                  <a:pt x="16120" y="12394"/>
                  <a:pt x="16161" y="12319"/>
                </a:cubicBezTo>
                <a:cubicBezTo>
                  <a:pt x="16241" y="12170"/>
                  <a:pt x="16271" y="12045"/>
                  <a:pt x="16288" y="11874"/>
                </a:cubicBezTo>
                <a:cubicBezTo>
                  <a:pt x="16297" y="11782"/>
                  <a:pt x="16263" y="11692"/>
                  <a:pt x="16224" y="11620"/>
                </a:cubicBezTo>
                <a:cubicBezTo>
                  <a:pt x="16196" y="11568"/>
                  <a:pt x="16055" y="11567"/>
                  <a:pt x="16097" y="11525"/>
                </a:cubicBezTo>
                <a:cubicBezTo>
                  <a:pt x="16108" y="11525"/>
                  <a:pt x="16118" y="11525"/>
                  <a:pt x="16129" y="11525"/>
                </a:cubicBezTo>
              </a:path>
              <a:path w="1525" h="1651">
                <a:moveTo>
                  <a:pt x="16542" y="11589"/>
                </a:moveTo>
                <a:cubicBezTo>
                  <a:pt x="16583" y="11643"/>
                  <a:pt x="16574" y="11676"/>
                  <a:pt x="16574" y="11748"/>
                </a:cubicBezTo>
                <a:cubicBezTo>
                  <a:pt x="16574" y="11854"/>
                  <a:pt x="16574" y="11959"/>
                  <a:pt x="16574" y="12065"/>
                </a:cubicBezTo>
                <a:cubicBezTo>
                  <a:pt x="16590" y="12017"/>
                  <a:pt x="16612" y="12033"/>
                  <a:pt x="16669" y="12033"/>
                </a:cubicBezTo>
                <a:cubicBezTo>
                  <a:pt x="16738" y="12033"/>
                  <a:pt x="16771" y="12059"/>
                  <a:pt x="16828" y="12065"/>
                </a:cubicBezTo>
                <a:cubicBezTo>
                  <a:pt x="16869" y="12070"/>
                  <a:pt x="16913" y="12065"/>
                  <a:pt x="16954" y="12065"/>
                </a:cubicBezTo>
                <a:cubicBezTo>
                  <a:pt x="16974" y="12005"/>
                  <a:pt x="16986" y="12036"/>
                  <a:pt x="16986" y="11938"/>
                </a:cubicBezTo>
              </a:path>
              <a:path w="1525" h="1651">
                <a:moveTo>
                  <a:pt x="16859" y="11240"/>
                </a:moveTo>
                <a:cubicBezTo>
                  <a:pt x="16910" y="11323"/>
                  <a:pt x="16877" y="11394"/>
                  <a:pt x="16891" y="11494"/>
                </a:cubicBezTo>
                <a:cubicBezTo>
                  <a:pt x="16924" y="11727"/>
                  <a:pt x="16919" y="11958"/>
                  <a:pt x="16954" y="12192"/>
                </a:cubicBezTo>
                <a:cubicBezTo>
                  <a:pt x="16983" y="12391"/>
                  <a:pt x="16980" y="12600"/>
                  <a:pt x="17018" y="12795"/>
                </a:cubicBezTo>
                <a:cubicBezTo>
                  <a:pt x="17029" y="12827"/>
                  <a:pt x="17039" y="12858"/>
                  <a:pt x="17050" y="12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7"/>
          <p:cNvSpPr/>
          <p:nvPr/>
        </p:nvSpPr>
        <p:spPr>
          <a:xfrm>
            <a:off x="6377040" y="4264200"/>
            <a:ext cx="287280" cy="160200"/>
          </a:xfrm>
          <a:custGeom>
            <a:avLst/>
            <a:gdLst/>
            <a:ahLst/>
            <a:rect l="l" t="t" r="r" b="b"/>
            <a:pathLst>
              <a:path w="795" h="445">
                <a:moveTo>
                  <a:pt x="17716" y="12002"/>
                </a:moveTo>
                <a:cubicBezTo>
                  <a:pt x="17716" y="12012"/>
                  <a:pt x="17716" y="12023"/>
                  <a:pt x="17716" y="12033"/>
                </a:cubicBezTo>
                <a:cubicBezTo>
                  <a:pt x="17888" y="12033"/>
                  <a:pt x="18073" y="12019"/>
                  <a:pt x="18224" y="12065"/>
                </a:cubicBezTo>
                <a:cubicBezTo>
                  <a:pt x="18259" y="12076"/>
                  <a:pt x="18315" y="12065"/>
                  <a:pt x="18352" y="12065"/>
                </a:cubicBezTo>
              </a:path>
              <a:path w="795" h="445">
                <a:moveTo>
                  <a:pt x="18161" y="11843"/>
                </a:moveTo>
                <a:cubicBezTo>
                  <a:pt x="18202" y="11873"/>
                  <a:pt x="18251" y="11881"/>
                  <a:pt x="18288" y="11906"/>
                </a:cubicBezTo>
                <a:cubicBezTo>
                  <a:pt x="18330" y="11934"/>
                  <a:pt x="18364" y="11964"/>
                  <a:pt x="18415" y="11970"/>
                </a:cubicBezTo>
                <a:cubicBezTo>
                  <a:pt x="18456" y="11975"/>
                  <a:pt x="18471" y="11992"/>
                  <a:pt x="18510" y="12002"/>
                </a:cubicBezTo>
                <a:cubicBezTo>
                  <a:pt x="18500" y="12040"/>
                  <a:pt x="18487" y="12059"/>
                  <a:pt x="18478" y="12097"/>
                </a:cubicBezTo>
                <a:cubicBezTo>
                  <a:pt x="18422" y="12111"/>
                  <a:pt x="18395" y="12149"/>
                  <a:pt x="18352" y="12192"/>
                </a:cubicBezTo>
                <a:cubicBezTo>
                  <a:pt x="18316" y="12228"/>
                  <a:pt x="18319" y="12247"/>
                  <a:pt x="18288" y="12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8"/>
          <p:cNvSpPr/>
          <p:nvPr/>
        </p:nvSpPr>
        <p:spPr>
          <a:xfrm>
            <a:off x="6800760" y="4079880"/>
            <a:ext cx="1086120" cy="617400"/>
          </a:xfrm>
          <a:custGeom>
            <a:avLst/>
            <a:gdLst/>
            <a:ahLst/>
            <a:rect l="l" t="t" r="r" b="b"/>
            <a:pathLst>
              <a:path w="3018" h="1715">
                <a:moveTo>
                  <a:pt x="19050" y="11335"/>
                </a:moveTo>
                <a:cubicBezTo>
                  <a:pt x="19105" y="11425"/>
                  <a:pt x="19066" y="11460"/>
                  <a:pt x="19050" y="11557"/>
                </a:cubicBezTo>
                <a:cubicBezTo>
                  <a:pt x="19029" y="11679"/>
                  <a:pt x="19022" y="11815"/>
                  <a:pt x="19018" y="11938"/>
                </a:cubicBezTo>
                <a:cubicBezTo>
                  <a:pt x="19014" y="12070"/>
                  <a:pt x="18969" y="12190"/>
                  <a:pt x="18955" y="12319"/>
                </a:cubicBezTo>
                <a:cubicBezTo>
                  <a:pt x="18943" y="12428"/>
                  <a:pt x="18939" y="12533"/>
                  <a:pt x="18923" y="12636"/>
                </a:cubicBezTo>
                <a:cubicBezTo>
                  <a:pt x="18912" y="12705"/>
                  <a:pt x="18953" y="12806"/>
                  <a:pt x="18891" y="12827"/>
                </a:cubicBezTo>
              </a:path>
              <a:path w="3018" h="1715">
                <a:moveTo>
                  <a:pt x="19304" y="12192"/>
                </a:moveTo>
                <a:cubicBezTo>
                  <a:pt x="19293" y="12192"/>
                  <a:pt x="19283" y="12192"/>
                  <a:pt x="19272" y="12192"/>
                </a:cubicBezTo>
                <a:cubicBezTo>
                  <a:pt x="19374" y="12260"/>
                  <a:pt x="19234" y="12156"/>
                  <a:pt x="19336" y="12224"/>
                </a:cubicBezTo>
                <a:cubicBezTo>
                  <a:pt x="19380" y="12191"/>
                  <a:pt x="19415" y="12181"/>
                  <a:pt x="19463" y="12160"/>
                </a:cubicBezTo>
                <a:cubicBezTo>
                  <a:pt x="19516" y="12137"/>
                  <a:pt x="19608" y="12124"/>
                  <a:pt x="19653" y="12097"/>
                </a:cubicBezTo>
                <a:cubicBezTo>
                  <a:pt x="19693" y="12073"/>
                  <a:pt x="19827" y="12065"/>
                  <a:pt x="19780" y="12065"/>
                </a:cubicBezTo>
                <a:cubicBezTo>
                  <a:pt x="19769" y="12065"/>
                  <a:pt x="19759" y="12065"/>
                  <a:pt x="19748" y="12065"/>
                </a:cubicBezTo>
              </a:path>
              <a:path w="3018" h="1715">
                <a:moveTo>
                  <a:pt x="19907" y="12573"/>
                </a:moveTo>
                <a:cubicBezTo>
                  <a:pt x="19868" y="12586"/>
                  <a:pt x="19860" y="12643"/>
                  <a:pt x="19876" y="12700"/>
                </a:cubicBezTo>
                <a:cubicBezTo>
                  <a:pt x="19892" y="12756"/>
                  <a:pt x="19901" y="12814"/>
                  <a:pt x="19939" y="12827"/>
                </a:cubicBezTo>
                <a:cubicBezTo>
                  <a:pt x="19939" y="12759"/>
                  <a:pt x="19967" y="12725"/>
                  <a:pt x="19971" y="12668"/>
                </a:cubicBezTo>
                <a:cubicBezTo>
                  <a:pt x="19971" y="12615"/>
                  <a:pt x="19971" y="12605"/>
                  <a:pt x="19971" y="12573"/>
                </a:cubicBezTo>
                <a:cubicBezTo>
                  <a:pt x="19928" y="12630"/>
                  <a:pt x="19968" y="12674"/>
                  <a:pt x="19939" y="12732"/>
                </a:cubicBezTo>
                <a:cubicBezTo>
                  <a:pt x="19909" y="12792"/>
                  <a:pt x="19896" y="12819"/>
                  <a:pt x="19971" y="12764"/>
                </a:cubicBezTo>
              </a:path>
              <a:path w="3018" h="1715">
                <a:moveTo>
                  <a:pt x="20384" y="11652"/>
                </a:moveTo>
                <a:cubicBezTo>
                  <a:pt x="20384" y="11620"/>
                  <a:pt x="20384" y="11589"/>
                  <a:pt x="20384" y="11557"/>
                </a:cubicBezTo>
                <a:cubicBezTo>
                  <a:pt x="20330" y="11575"/>
                  <a:pt x="20323" y="11647"/>
                  <a:pt x="20320" y="11716"/>
                </a:cubicBezTo>
                <a:cubicBezTo>
                  <a:pt x="20314" y="11856"/>
                  <a:pt x="20288" y="11984"/>
                  <a:pt x="20288" y="12128"/>
                </a:cubicBezTo>
                <a:cubicBezTo>
                  <a:pt x="20288" y="12260"/>
                  <a:pt x="20274" y="12385"/>
                  <a:pt x="20320" y="12510"/>
                </a:cubicBezTo>
                <a:cubicBezTo>
                  <a:pt x="20352" y="12596"/>
                  <a:pt x="20385" y="12621"/>
                  <a:pt x="20447" y="12668"/>
                </a:cubicBezTo>
                <a:cubicBezTo>
                  <a:pt x="20494" y="12656"/>
                  <a:pt x="20544" y="12619"/>
                  <a:pt x="20574" y="12573"/>
                </a:cubicBezTo>
                <a:cubicBezTo>
                  <a:pt x="20632" y="12484"/>
                  <a:pt x="20606" y="12358"/>
                  <a:pt x="20606" y="12256"/>
                </a:cubicBezTo>
                <a:cubicBezTo>
                  <a:pt x="20606" y="12112"/>
                  <a:pt x="20592" y="11946"/>
                  <a:pt x="20542" y="11811"/>
                </a:cubicBezTo>
                <a:cubicBezTo>
                  <a:pt x="20518" y="11745"/>
                  <a:pt x="20488" y="11660"/>
                  <a:pt x="20415" y="11652"/>
                </a:cubicBezTo>
                <a:cubicBezTo>
                  <a:pt x="20405" y="11652"/>
                  <a:pt x="20394" y="11652"/>
                  <a:pt x="20384" y="11652"/>
                </a:cubicBezTo>
              </a:path>
              <a:path w="3018" h="1715">
                <a:moveTo>
                  <a:pt x="20796" y="11589"/>
                </a:moveTo>
                <a:cubicBezTo>
                  <a:pt x="20796" y="11756"/>
                  <a:pt x="20861" y="12094"/>
                  <a:pt x="20764" y="12224"/>
                </a:cubicBezTo>
                <a:cubicBezTo>
                  <a:pt x="20771" y="12203"/>
                  <a:pt x="20794" y="12145"/>
                  <a:pt x="20828" y="12128"/>
                </a:cubicBezTo>
                <a:cubicBezTo>
                  <a:pt x="20869" y="12108"/>
                  <a:pt x="20861" y="12097"/>
                  <a:pt x="20923" y="12097"/>
                </a:cubicBezTo>
                <a:cubicBezTo>
                  <a:pt x="20996" y="12097"/>
                  <a:pt x="21034" y="12144"/>
                  <a:pt x="21082" y="12192"/>
                </a:cubicBezTo>
                <a:cubicBezTo>
                  <a:pt x="21092" y="12202"/>
                  <a:pt x="21212" y="12300"/>
                  <a:pt x="21209" y="12287"/>
                </a:cubicBezTo>
                <a:cubicBezTo>
                  <a:pt x="21198" y="12277"/>
                  <a:pt x="21188" y="12266"/>
                  <a:pt x="21177" y="12256"/>
                </a:cubicBezTo>
              </a:path>
              <a:path w="3018" h="1715">
                <a:moveTo>
                  <a:pt x="21082" y="11430"/>
                </a:moveTo>
                <a:cubicBezTo>
                  <a:pt x="21082" y="11657"/>
                  <a:pt x="21092" y="11874"/>
                  <a:pt x="21114" y="12097"/>
                </a:cubicBezTo>
                <a:cubicBezTo>
                  <a:pt x="21128" y="12244"/>
                  <a:pt x="21133" y="12396"/>
                  <a:pt x="21146" y="12541"/>
                </a:cubicBezTo>
                <a:cubicBezTo>
                  <a:pt x="21160" y="12708"/>
                  <a:pt x="21146" y="12881"/>
                  <a:pt x="21146" y="13049"/>
                </a:cubicBezTo>
              </a:path>
              <a:path w="3018" h="1715">
                <a:moveTo>
                  <a:pt x="21558" y="12097"/>
                </a:moveTo>
                <a:cubicBezTo>
                  <a:pt x="21616" y="12097"/>
                  <a:pt x="21634" y="12122"/>
                  <a:pt x="21685" y="12128"/>
                </a:cubicBezTo>
                <a:cubicBezTo>
                  <a:pt x="21758" y="12136"/>
                  <a:pt x="21887" y="12097"/>
                  <a:pt x="21908" y="12160"/>
                </a:cubicBezTo>
              </a:path>
              <a:path w="3018" h="1715">
                <a:moveTo>
                  <a:pt x="21526" y="12605"/>
                </a:moveTo>
                <a:cubicBezTo>
                  <a:pt x="21584" y="12591"/>
                  <a:pt x="21616" y="12573"/>
                  <a:pt x="21685" y="12573"/>
                </a:cubicBezTo>
                <a:cubicBezTo>
                  <a:pt x="21731" y="12573"/>
                  <a:pt x="21768" y="12596"/>
                  <a:pt x="21812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9"/>
          <p:cNvSpPr/>
          <p:nvPr/>
        </p:nvSpPr>
        <p:spPr>
          <a:xfrm>
            <a:off x="8093160" y="4057560"/>
            <a:ext cx="547560" cy="560520"/>
          </a:xfrm>
          <a:custGeom>
            <a:avLst/>
            <a:gdLst/>
            <a:ahLst/>
            <a:rect l="l" t="t" r="r" b="b"/>
            <a:pathLst>
              <a:path w="1525" h="1557">
                <a:moveTo>
                  <a:pt x="22479" y="12605"/>
                </a:moveTo>
                <a:cubicBezTo>
                  <a:pt x="22479" y="12671"/>
                  <a:pt x="22513" y="12626"/>
                  <a:pt x="22542" y="12605"/>
                </a:cubicBezTo>
              </a:path>
              <a:path w="1525" h="1557">
                <a:moveTo>
                  <a:pt x="23082" y="11716"/>
                </a:moveTo>
                <a:cubicBezTo>
                  <a:pt x="23145" y="11637"/>
                  <a:pt x="23146" y="11593"/>
                  <a:pt x="23146" y="11494"/>
                </a:cubicBezTo>
                <a:cubicBezTo>
                  <a:pt x="23146" y="11397"/>
                  <a:pt x="23115" y="11385"/>
                  <a:pt x="23082" y="11303"/>
                </a:cubicBezTo>
                <a:cubicBezTo>
                  <a:pt x="23064" y="11257"/>
                  <a:pt x="22971" y="11252"/>
                  <a:pt x="22924" y="11303"/>
                </a:cubicBezTo>
                <a:cubicBezTo>
                  <a:pt x="22857" y="11375"/>
                  <a:pt x="22775" y="11498"/>
                  <a:pt x="22733" y="11589"/>
                </a:cubicBezTo>
                <a:cubicBezTo>
                  <a:pt x="22679" y="11706"/>
                  <a:pt x="22701" y="11845"/>
                  <a:pt x="22701" y="11970"/>
                </a:cubicBezTo>
                <a:cubicBezTo>
                  <a:pt x="22701" y="12088"/>
                  <a:pt x="22729" y="12179"/>
                  <a:pt x="22860" y="12192"/>
                </a:cubicBezTo>
                <a:cubicBezTo>
                  <a:pt x="22923" y="12198"/>
                  <a:pt x="23026" y="12087"/>
                  <a:pt x="23050" y="12033"/>
                </a:cubicBezTo>
                <a:cubicBezTo>
                  <a:pt x="23108" y="11905"/>
                  <a:pt x="23164" y="11787"/>
                  <a:pt x="23209" y="11652"/>
                </a:cubicBezTo>
                <a:cubicBezTo>
                  <a:pt x="23217" y="11629"/>
                  <a:pt x="23277" y="11407"/>
                  <a:pt x="23273" y="11398"/>
                </a:cubicBezTo>
                <a:cubicBezTo>
                  <a:pt x="23241" y="11398"/>
                  <a:pt x="23230" y="11398"/>
                  <a:pt x="23241" y="11430"/>
                </a:cubicBezTo>
                <a:cubicBezTo>
                  <a:pt x="23199" y="11500"/>
                  <a:pt x="23209" y="11565"/>
                  <a:pt x="23209" y="11652"/>
                </a:cubicBezTo>
                <a:cubicBezTo>
                  <a:pt x="23209" y="11807"/>
                  <a:pt x="23191" y="11946"/>
                  <a:pt x="23178" y="12097"/>
                </a:cubicBezTo>
                <a:cubicBezTo>
                  <a:pt x="23164" y="12269"/>
                  <a:pt x="23166" y="12435"/>
                  <a:pt x="23146" y="12605"/>
                </a:cubicBezTo>
                <a:cubicBezTo>
                  <a:pt x="23139" y="12667"/>
                  <a:pt x="23146" y="12733"/>
                  <a:pt x="23146" y="12795"/>
                </a:cubicBezTo>
              </a:path>
              <a:path w="1525" h="1557">
                <a:moveTo>
                  <a:pt x="23527" y="11398"/>
                </a:moveTo>
                <a:cubicBezTo>
                  <a:pt x="23527" y="11509"/>
                  <a:pt x="23503" y="11607"/>
                  <a:pt x="23495" y="11716"/>
                </a:cubicBezTo>
                <a:cubicBezTo>
                  <a:pt x="23482" y="11889"/>
                  <a:pt x="23438" y="12081"/>
                  <a:pt x="23463" y="12256"/>
                </a:cubicBezTo>
                <a:cubicBezTo>
                  <a:pt x="23477" y="12353"/>
                  <a:pt x="23482" y="12560"/>
                  <a:pt x="23558" y="12636"/>
                </a:cubicBezTo>
                <a:cubicBezTo>
                  <a:pt x="23637" y="12714"/>
                  <a:pt x="23673" y="12683"/>
                  <a:pt x="23749" y="12668"/>
                </a:cubicBezTo>
                <a:cubicBezTo>
                  <a:pt x="23832" y="12651"/>
                  <a:pt x="23892" y="12592"/>
                  <a:pt x="23940" y="12510"/>
                </a:cubicBezTo>
                <a:cubicBezTo>
                  <a:pt x="23974" y="12452"/>
                  <a:pt x="24018" y="12291"/>
                  <a:pt x="24003" y="12224"/>
                </a:cubicBezTo>
                <a:cubicBezTo>
                  <a:pt x="23989" y="12160"/>
                  <a:pt x="23963" y="12096"/>
                  <a:pt x="23940" y="12033"/>
                </a:cubicBezTo>
                <a:cubicBezTo>
                  <a:pt x="23860" y="12033"/>
                  <a:pt x="23839" y="12020"/>
                  <a:pt x="23781" y="12097"/>
                </a:cubicBezTo>
                <a:cubicBezTo>
                  <a:pt x="23705" y="12198"/>
                  <a:pt x="23689" y="12361"/>
                  <a:pt x="23654" y="12478"/>
                </a:cubicBezTo>
                <a:cubicBezTo>
                  <a:pt x="23615" y="12607"/>
                  <a:pt x="23590" y="12693"/>
                  <a:pt x="23590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0"/>
          <p:cNvSpPr/>
          <p:nvPr/>
        </p:nvSpPr>
        <p:spPr>
          <a:xfrm>
            <a:off x="4548240" y="5029200"/>
            <a:ext cx="1305000" cy="628560"/>
          </a:xfrm>
          <a:custGeom>
            <a:avLst/>
            <a:gdLst/>
            <a:ahLst/>
            <a:rect l="l" t="t" r="r" b="b"/>
            <a:pathLst>
              <a:path w="3621" h="1747">
                <a:moveTo>
                  <a:pt x="12795" y="14097"/>
                </a:moveTo>
                <a:cubicBezTo>
                  <a:pt x="12770" y="14129"/>
                  <a:pt x="12774" y="14150"/>
                  <a:pt x="12732" y="14192"/>
                </a:cubicBezTo>
                <a:cubicBezTo>
                  <a:pt x="12701" y="14223"/>
                  <a:pt x="12723" y="14243"/>
                  <a:pt x="12700" y="14288"/>
                </a:cubicBezTo>
                <a:cubicBezTo>
                  <a:pt x="12676" y="14335"/>
                  <a:pt x="12645" y="14419"/>
                  <a:pt x="12636" y="14478"/>
                </a:cubicBezTo>
                <a:cubicBezTo>
                  <a:pt x="12590" y="14771"/>
                  <a:pt x="12595" y="15214"/>
                  <a:pt x="12668" y="15494"/>
                </a:cubicBezTo>
                <a:cubicBezTo>
                  <a:pt x="12682" y="15549"/>
                  <a:pt x="12690" y="15695"/>
                  <a:pt x="12764" y="15716"/>
                </a:cubicBezTo>
                <a:cubicBezTo>
                  <a:pt x="12841" y="15738"/>
                  <a:pt x="12873" y="15701"/>
                  <a:pt x="12922" y="15653"/>
                </a:cubicBezTo>
                <a:cubicBezTo>
                  <a:pt x="12980" y="15595"/>
                  <a:pt x="13019" y="15540"/>
                  <a:pt x="13049" y="15462"/>
                </a:cubicBezTo>
                <a:cubicBezTo>
                  <a:pt x="13104" y="15322"/>
                  <a:pt x="13104" y="15191"/>
                  <a:pt x="13144" y="15050"/>
                </a:cubicBezTo>
                <a:cubicBezTo>
                  <a:pt x="13161" y="14990"/>
                  <a:pt x="13215" y="14822"/>
                  <a:pt x="13208" y="14764"/>
                </a:cubicBezTo>
                <a:cubicBezTo>
                  <a:pt x="13203" y="14717"/>
                  <a:pt x="13167" y="14672"/>
                  <a:pt x="13144" y="14637"/>
                </a:cubicBezTo>
                <a:cubicBezTo>
                  <a:pt x="13104" y="14657"/>
                  <a:pt x="13048" y="14658"/>
                  <a:pt x="13018" y="14700"/>
                </a:cubicBezTo>
                <a:cubicBezTo>
                  <a:pt x="12966" y="14774"/>
                  <a:pt x="12907" y="14863"/>
                  <a:pt x="12890" y="14954"/>
                </a:cubicBezTo>
                <a:cubicBezTo>
                  <a:pt x="12870" y="15058"/>
                  <a:pt x="12843" y="15169"/>
                  <a:pt x="12827" y="15272"/>
                </a:cubicBezTo>
                <a:cubicBezTo>
                  <a:pt x="12815" y="15353"/>
                  <a:pt x="12829" y="15400"/>
                  <a:pt x="12859" y="15462"/>
                </a:cubicBezTo>
                <a:cubicBezTo>
                  <a:pt x="12883" y="15511"/>
                  <a:pt x="12883" y="15498"/>
                  <a:pt x="12922" y="15526"/>
                </a:cubicBezTo>
              </a:path>
              <a:path w="3621" h="1747">
                <a:moveTo>
                  <a:pt x="13335" y="15399"/>
                </a:moveTo>
                <a:cubicBezTo>
                  <a:pt x="13335" y="15456"/>
                  <a:pt x="13315" y="15476"/>
                  <a:pt x="13303" y="15526"/>
                </a:cubicBezTo>
              </a:path>
              <a:path w="3621" h="1747">
                <a:moveTo>
                  <a:pt x="13494" y="14351"/>
                </a:moveTo>
                <a:cubicBezTo>
                  <a:pt x="13504" y="14321"/>
                  <a:pt x="13547" y="14283"/>
                  <a:pt x="13589" y="14256"/>
                </a:cubicBezTo>
                <a:cubicBezTo>
                  <a:pt x="13665" y="14207"/>
                  <a:pt x="13714" y="14163"/>
                  <a:pt x="13780" y="14097"/>
                </a:cubicBezTo>
                <a:cubicBezTo>
                  <a:pt x="13825" y="14052"/>
                  <a:pt x="13908" y="13991"/>
                  <a:pt x="13970" y="13970"/>
                </a:cubicBezTo>
                <a:cubicBezTo>
                  <a:pt x="14026" y="13951"/>
                  <a:pt x="14061" y="13982"/>
                  <a:pt x="14065" y="14034"/>
                </a:cubicBezTo>
                <a:cubicBezTo>
                  <a:pt x="14071" y="14120"/>
                  <a:pt x="14030" y="14209"/>
                  <a:pt x="14002" y="14288"/>
                </a:cubicBezTo>
                <a:cubicBezTo>
                  <a:pt x="13957" y="14418"/>
                  <a:pt x="13934" y="14539"/>
                  <a:pt x="13906" y="14668"/>
                </a:cubicBezTo>
                <a:cubicBezTo>
                  <a:pt x="13876" y="14807"/>
                  <a:pt x="13817" y="14944"/>
                  <a:pt x="13780" y="15081"/>
                </a:cubicBezTo>
                <a:cubicBezTo>
                  <a:pt x="13750" y="15192"/>
                  <a:pt x="13722" y="15317"/>
                  <a:pt x="13716" y="15430"/>
                </a:cubicBezTo>
                <a:cubicBezTo>
                  <a:pt x="13716" y="15483"/>
                  <a:pt x="13716" y="15494"/>
                  <a:pt x="13716" y="15526"/>
                </a:cubicBezTo>
              </a:path>
              <a:path w="3621" h="1747">
                <a:moveTo>
                  <a:pt x="14414" y="14256"/>
                </a:moveTo>
                <a:cubicBezTo>
                  <a:pt x="14373" y="14242"/>
                  <a:pt x="14383" y="14209"/>
                  <a:pt x="14383" y="14256"/>
                </a:cubicBezTo>
              </a:path>
              <a:path w="3621" h="1747">
                <a:moveTo>
                  <a:pt x="14034" y="14637"/>
                </a:moveTo>
                <a:cubicBezTo>
                  <a:pt x="14034" y="14647"/>
                  <a:pt x="14034" y="14658"/>
                  <a:pt x="14034" y="14668"/>
                </a:cubicBezTo>
                <a:cubicBezTo>
                  <a:pt x="14111" y="14668"/>
                  <a:pt x="14162" y="14650"/>
                  <a:pt x="14224" y="14637"/>
                </a:cubicBezTo>
                <a:cubicBezTo>
                  <a:pt x="14292" y="14623"/>
                  <a:pt x="14349" y="14610"/>
                  <a:pt x="14414" y="14605"/>
                </a:cubicBezTo>
                <a:cubicBezTo>
                  <a:pt x="14477" y="14600"/>
                  <a:pt x="14542" y="14605"/>
                  <a:pt x="14605" y="14605"/>
                </a:cubicBezTo>
              </a:path>
              <a:path w="3621" h="1747">
                <a:moveTo>
                  <a:pt x="14160" y="15145"/>
                </a:moveTo>
                <a:cubicBezTo>
                  <a:pt x="14160" y="15213"/>
                  <a:pt x="14136" y="15348"/>
                  <a:pt x="14192" y="15367"/>
                </a:cubicBezTo>
              </a:path>
              <a:path w="3621" h="1747">
                <a:moveTo>
                  <a:pt x="14732" y="14192"/>
                </a:moveTo>
                <a:cubicBezTo>
                  <a:pt x="14732" y="14295"/>
                  <a:pt x="14711" y="14379"/>
                  <a:pt x="14700" y="14478"/>
                </a:cubicBezTo>
                <a:cubicBezTo>
                  <a:pt x="14687" y="14593"/>
                  <a:pt x="14664" y="14713"/>
                  <a:pt x="14637" y="14827"/>
                </a:cubicBezTo>
                <a:cubicBezTo>
                  <a:pt x="14603" y="14966"/>
                  <a:pt x="14578" y="15096"/>
                  <a:pt x="14573" y="15240"/>
                </a:cubicBezTo>
                <a:cubicBezTo>
                  <a:pt x="14569" y="15363"/>
                  <a:pt x="14547" y="15409"/>
                  <a:pt x="14573" y="15526"/>
                </a:cubicBezTo>
                <a:cubicBezTo>
                  <a:pt x="14585" y="15578"/>
                  <a:pt x="14591" y="15567"/>
                  <a:pt x="14605" y="15526"/>
                </a:cubicBezTo>
              </a:path>
              <a:path w="3621" h="1747">
                <a:moveTo>
                  <a:pt x="14954" y="14446"/>
                </a:moveTo>
                <a:cubicBezTo>
                  <a:pt x="14936" y="14538"/>
                  <a:pt x="14912" y="14640"/>
                  <a:pt x="14891" y="14732"/>
                </a:cubicBezTo>
                <a:cubicBezTo>
                  <a:pt x="14862" y="14863"/>
                  <a:pt x="14859" y="14977"/>
                  <a:pt x="14859" y="15113"/>
                </a:cubicBezTo>
                <a:cubicBezTo>
                  <a:pt x="14859" y="15231"/>
                  <a:pt x="14851" y="15305"/>
                  <a:pt x="14922" y="15399"/>
                </a:cubicBezTo>
                <a:cubicBezTo>
                  <a:pt x="14933" y="15409"/>
                  <a:pt x="14943" y="15420"/>
                  <a:pt x="14954" y="15430"/>
                </a:cubicBezTo>
                <a:cubicBezTo>
                  <a:pt x="15018" y="15367"/>
                  <a:pt x="15032" y="15356"/>
                  <a:pt x="15050" y="15272"/>
                </a:cubicBezTo>
                <a:cubicBezTo>
                  <a:pt x="15083" y="15122"/>
                  <a:pt x="15130" y="14980"/>
                  <a:pt x="15145" y="14827"/>
                </a:cubicBezTo>
                <a:cubicBezTo>
                  <a:pt x="15160" y="14676"/>
                  <a:pt x="15143" y="14524"/>
                  <a:pt x="15113" y="14383"/>
                </a:cubicBezTo>
                <a:cubicBezTo>
                  <a:pt x="15102" y="14333"/>
                  <a:pt x="15071" y="14351"/>
                  <a:pt x="15018" y="14351"/>
                </a:cubicBezTo>
                <a:cubicBezTo>
                  <a:pt x="14956" y="14351"/>
                  <a:pt x="14953" y="14405"/>
                  <a:pt x="14922" y="14446"/>
                </a:cubicBezTo>
              </a:path>
              <a:path w="3621" h="1747">
                <a:moveTo>
                  <a:pt x="15399" y="14288"/>
                </a:moveTo>
                <a:cubicBezTo>
                  <a:pt x="15385" y="14342"/>
                  <a:pt x="15346" y="14386"/>
                  <a:pt x="15335" y="14446"/>
                </a:cubicBezTo>
                <a:cubicBezTo>
                  <a:pt x="15319" y="14539"/>
                  <a:pt x="15284" y="14642"/>
                  <a:pt x="15272" y="14732"/>
                </a:cubicBezTo>
                <a:cubicBezTo>
                  <a:pt x="15254" y="14865"/>
                  <a:pt x="15288" y="14991"/>
                  <a:pt x="15304" y="15113"/>
                </a:cubicBezTo>
                <a:cubicBezTo>
                  <a:pt x="15314" y="15187"/>
                  <a:pt x="15313" y="15265"/>
                  <a:pt x="15399" y="15304"/>
                </a:cubicBezTo>
                <a:cubicBezTo>
                  <a:pt x="15434" y="15320"/>
                  <a:pt x="15504" y="15287"/>
                  <a:pt x="15526" y="15272"/>
                </a:cubicBezTo>
                <a:cubicBezTo>
                  <a:pt x="15596" y="15226"/>
                  <a:pt x="15603" y="15117"/>
                  <a:pt x="15621" y="15050"/>
                </a:cubicBezTo>
                <a:cubicBezTo>
                  <a:pt x="15654" y="14928"/>
                  <a:pt x="15653" y="14828"/>
                  <a:pt x="15653" y="14700"/>
                </a:cubicBezTo>
                <a:cubicBezTo>
                  <a:pt x="15653" y="14603"/>
                  <a:pt x="15604" y="14556"/>
                  <a:pt x="15558" y="14478"/>
                </a:cubicBezTo>
                <a:cubicBezTo>
                  <a:pt x="15511" y="14400"/>
                  <a:pt x="15490" y="14374"/>
                  <a:pt x="15399" y="14351"/>
                </a:cubicBezTo>
                <a:cubicBezTo>
                  <a:pt x="15367" y="14351"/>
                  <a:pt x="15356" y="14351"/>
                  <a:pt x="15335" y="14351"/>
                </a:cubicBezTo>
              </a:path>
              <a:path w="3621" h="1747">
                <a:moveTo>
                  <a:pt x="15875" y="14446"/>
                </a:moveTo>
                <a:cubicBezTo>
                  <a:pt x="15937" y="14384"/>
                  <a:pt x="15945" y="14383"/>
                  <a:pt x="16034" y="14383"/>
                </a:cubicBezTo>
                <a:cubicBezTo>
                  <a:pt x="16099" y="14383"/>
                  <a:pt x="16140" y="14399"/>
                  <a:pt x="16192" y="14414"/>
                </a:cubicBezTo>
                <a:cubicBezTo>
                  <a:pt x="16228" y="14414"/>
                  <a:pt x="16242" y="14417"/>
                  <a:pt x="16256" y="14446"/>
                </a:cubicBezTo>
              </a:path>
              <a:path w="3621" h="1747">
                <a:moveTo>
                  <a:pt x="15938" y="14922"/>
                </a:moveTo>
                <a:cubicBezTo>
                  <a:pt x="16032" y="14922"/>
                  <a:pt x="16105" y="14906"/>
                  <a:pt x="16192" y="14891"/>
                </a:cubicBezTo>
                <a:cubicBezTo>
                  <a:pt x="16213" y="14891"/>
                  <a:pt x="16235" y="14891"/>
                  <a:pt x="16256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1"/>
          <p:cNvSpPr/>
          <p:nvPr/>
        </p:nvSpPr>
        <p:spPr>
          <a:xfrm>
            <a:off x="6012000" y="5029200"/>
            <a:ext cx="1395360" cy="606600"/>
          </a:xfrm>
          <a:custGeom>
            <a:avLst/>
            <a:gdLst/>
            <a:ahLst/>
            <a:rect l="l" t="t" r="r" b="b"/>
            <a:pathLst>
              <a:path w="3875" h="1684">
                <a:moveTo>
                  <a:pt x="16700" y="15208"/>
                </a:moveTo>
                <a:lnTo>
                  <a:pt x="16700" y="15208"/>
                </a:lnTo>
              </a:path>
              <a:path w="3875" h="1684">
                <a:moveTo>
                  <a:pt x="17177" y="13970"/>
                </a:moveTo>
                <a:cubicBezTo>
                  <a:pt x="17103" y="13988"/>
                  <a:pt x="17115" y="14027"/>
                  <a:pt x="17082" y="14097"/>
                </a:cubicBezTo>
                <a:cubicBezTo>
                  <a:pt x="17027" y="14213"/>
                  <a:pt x="16971" y="14349"/>
                  <a:pt x="16954" y="14478"/>
                </a:cubicBezTo>
                <a:cubicBezTo>
                  <a:pt x="16935" y="14616"/>
                  <a:pt x="16923" y="14750"/>
                  <a:pt x="16923" y="14891"/>
                </a:cubicBezTo>
                <a:cubicBezTo>
                  <a:pt x="16923" y="15008"/>
                  <a:pt x="16942" y="15049"/>
                  <a:pt x="16986" y="15145"/>
                </a:cubicBezTo>
                <a:cubicBezTo>
                  <a:pt x="17049" y="15284"/>
                  <a:pt x="17011" y="15262"/>
                  <a:pt x="17113" y="15240"/>
                </a:cubicBezTo>
                <a:cubicBezTo>
                  <a:pt x="17201" y="15221"/>
                  <a:pt x="17252" y="15111"/>
                  <a:pt x="17304" y="15018"/>
                </a:cubicBezTo>
                <a:cubicBezTo>
                  <a:pt x="17361" y="14916"/>
                  <a:pt x="17386" y="14781"/>
                  <a:pt x="17399" y="14668"/>
                </a:cubicBezTo>
                <a:cubicBezTo>
                  <a:pt x="17411" y="14559"/>
                  <a:pt x="17399" y="14421"/>
                  <a:pt x="17367" y="14319"/>
                </a:cubicBezTo>
                <a:cubicBezTo>
                  <a:pt x="17344" y="14246"/>
                  <a:pt x="17285" y="14149"/>
                  <a:pt x="17208" y="14129"/>
                </a:cubicBezTo>
                <a:cubicBezTo>
                  <a:pt x="17155" y="14115"/>
                  <a:pt x="17074" y="14129"/>
                  <a:pt x="17018" y="14129"/>
                </a:cubicBezTo>
              </a:path>
              <a:path w="3875" h="1684">
                <a:moveTo>
                  <a:pt x="17494" y="14065"/>
                </a:moveTo>
                <a:cubicBezTo>
                  <a:pt x="17494" y="14133"/>
                  <a:pt x="17473" y="14159"/>
                  <a:pt x="17462" y="14224"/>
                </a:cubicBezTo>
                <a:cubicBezTo>
                  <a:pt x="17448" y="14303"/>
                  <a:pt x="17452" y="14401"/>
                  <a:pt x="17431" y="14478"/>
                </a:cubicBezTo>
                <a:cubicBezTo>
                  <a:pt x="17408" y="14561"/>
                  <a:pt x="17373" y="14672"/>
                  <a:pt x="17399" y="14764"/>
                </a:cubicBezTo>
                <a:cubicBezTo>
                  <a:pt x="17423" y="14851"/>
                  <a:pt x="17434" y="14938"/>
                  <a:pt x="17462" y="15018"/>
                </a:cubicBezTo>
                <a:cubicBezTo>
                  <a:pt x="17483" y="15078"/>
                  <a:pt x="17528" y="15138"/>
                  <a:pt x="17590" y="15145"/>
                </a:cubicBezTo>
                <a:cubicBezTo>
                  <a:pt x="17643" y="15151"/>
                  <a:pt x="17711" y="15113"/>
                  <a:pt x="17748" y="15081"/>
                </a:cubicBezTo>
                <a:cubicBezTo>
                  <a:pt x="17809" y="15028"/>
                  <a:pt x="17826" y="14968"/>
                  <a:pt x="17844" y="14891"/>
                </a:cubicBezTo>
                <a:cubicBezTo>
                  <a:pt x="17861" y="14819"/>
                  <a:pt x="17852" y="14834"/>
                  <a:pt x="17844" y="14764"/>
                </a:cubicBezTo>
                <a:cubicBezTo>
                  <a:pt x="17840" y="14725"/>
                  <a:pt x="17794" y="14705"/>
                  <a:pt x="17748" y="14700"/>
                </a:cubicBezTo>
                <a:cubicBezTo>
                  <a:pt x="17730" y="14698"/>
                  <a:pt x="17662" y="14766"/>
                  <a:pt x="17653" y="14796"/>
                </a:cubicBezTo>
                <a:cubicBezTo>
                  <a:pt x="17637" y="14851"/>
                  <a:pt x="17641" y="15240"/>
                  <a:pt x="17685" y="15240"/>
                </a:cubicBezTo>
                <a:cubicBezTo>
                  <a:pt x="17695" y="15229"/>
                  <a:pt x="17706" y="15219"/>
                  <a:pt x="17716" y="15208"/>
                </a:cubicBezTo>
              </a:path>
              <a:path w="3875" h="1684">
                <a:moveTo>
                  <a:pt x="17875" y="14097"/>
                </a:moveTo>
                <a:cubicBezTo>
                  <a:pt x="17884" y="14069"/>
                  <a:pt x="17925" y="14039"/>
                  <a:pt x="17970" y="14065"/>
                </a:cubicBezTo>
                <a:cubicBezTo>
                  <a:pt x="18029" y="14098"/>
                  <a:pt x="18053" y="14097"/>
                  <a:pt x="18129" y="14097"/>
                </a:cubicBezTo>
                <a:cubicBezTo>
                  <a:pt x="18224" y="14097"/>
                  <a:pt x="18320" y="14097"/>
                  <a:pt x="18415" y="14097"/>
                </a:cubicBezTo>
                <a:cubicBezTo>
                  <a:pt x="18415" y="14174"/>
                  <a:pt x="18416" y="14216"/>
                  <a:pt x="18383" y="14288"/>
                </a:cubicBezTo>
                <a:cubicBezTo>
                  <a:pt x="18331" y="14399"/>
                  <a:pt x="18322" y="14545"/>
                  <a:pt x="18288" y="14668"/>
                </a:cubicBezTo>
                <a:cubicBezTo>
                  <a:pt x="18233" y="14868"/>
                  <a:pt x="18196" y="15068"/>
                  <a:pt x="18161" y="15272"/>
                </a:cubicBezTo>
              </a:path>
              <a:path w="3875" h="1684">
                <a:moveTo>
                  <a:pt x="18510" y="14827"/>
                </a:moveTo>
                <a:cubicBezTo>
                  <a:pt x="18643" y="14827"/>
                  <a:pt x="18776" y="14834"/>
                  <a:pt x="18891" y="14796"/>
                </a:cubicBezTo>
                <a:cubicBezTo>
                  <a:pt x="18933" y="14782"/>
                  <a:pt x="18979" y="14777"/>
                  <a:pt x="19018" y="14764"/>
                </a:cubicBezTo>
                <a:cubicBezTo>
                  <a:pt x="19074" y="14745"/>
                  <a:pt x="19164" y="14758"/>
                  <a:pt x="19177" y="14796"/>
                </a:cubicBezTo>
              </a:path>
              <a:path w="3875" h="1684">
                <a:moveTo>
                  <a:pt x="19050" y="14542"/>
                </a:moveTo>
                <a:cubicBezTo>
                  <a:pt x="19097" y="14588"/>
                  <a:pt x="19144" y="14661"/>
                  <a:pt x="19209" y="14668"/>
                </a:cubicBezTo>
                <a:cubicBezTo>
                  <a:pt x="19266" y="14674"/>
                  <a:pt x="19270" y="14674"/>
                  <a:pt x="19304" y="14700"/>
                </a:cubicBezTo>
                <a:cubicBezTo>
                  <a:pt x="19351" y="14735"/>
                  <a:pt x="19354" y="14721"/>
                  <a:pt x="19368" y="14764"/>
                </a:cubicBezTo>
                <a:cubicBezTo>
                  <a:pt x="19355" y="14804"/>
                  <a:pt x="19326" y="14808"/>
                  <a:pt x="19304" y="14859"/>
                </a:cubicBezTo>
                <a:cubicBezTo>
                  <a:pt x="19260" y="14960"/>
                  <a:pt x="19196" y="14994"/>
                  <a:pt x="19145" y="15081"/>
                </a:cubicBezTo>
                <a:cubicBezTo>
                  <a:pt x="19108" y="15158"/>
                  <a:pt x="19089" y="15191"/>
                  <a:pt x="19050" y="15240"/>
                </a:cubicBezTo>
              </a:path>
              <a:path w="3875" h="1684">
                <a:moveTo>
                  <a:pt x="19717" y="14129"/>
                </a:moveTo>
                <a:cubicBezTo>
                  <a:pt x="19717" y="14273"/>
                  <a:pt x="19702" y="14407"/>
                  <a:pt x="19685" y="14542"/>
                </a:cubicBezTo>
                <a:cubicBezTo>
                  <a:pt x="19668" y="14675"/>
                  <a:pt x="19665" y="14823"/>
                  <a:pt x="19653" y="14954"/>
                </a:cubicBezTo>
                <a:cubicBezTo>
                  <a:pt x="19638" y="15116"/>
                  <a:pt x="19646" y="15275"/>
                  <a:pt x="19622" y="15430"/>
                </a:cubicBezTo>
                <a:cubicBezTo>
                  <a:pt x="19616" y="15468"/>
                  <a:pt x="19622" y="15518"/>
                  <a:pt x="19622" y="15558"/>
                </a:cubicBezTo>
              </a:path>
              <a:path w="3875" h="1684">
                <a:moveTo>
                  <a:pt x="19907" y="14764"/>
                </a:moveTo>
                <a:cubicBezTo>
                  <a:pt x="19957" y="14776"/>
                  <a:pt x="19977" y="14796"/>
                  <a:pt x="20034" y="14796"/>
                </a:cubicBezTo>
                <a:cubicBezTo>
                  <a:pt x="20092" y="14796"/>
                  <a:pt x="20109" y="14770"/>
                  <a:pt x="20161" y="14764"/>
                </a:cubicBezTo>
                <a:cubicBezTo>
                  <a:pt x="20223" y="14757"/>
                  <a:pt x="20290" y="14764"/>
                  <a:pt x="20352" y="14764"/>
                </a:cubicBezTo>
              </a:path>
              <a:path w="3875" h="1684">
                <a:moveTo>
                  <a:pt x="20542" y="15558"/>
                </a:moveTo>
                <a:cubicBezTo>
                  <a:pt x="20549" y="15584"/>
                  <a:pt x="20574" y="15691"/>
                  <a:pt x="20574" y="15621"/>
                </a:cubicBezTo>
                <a:cubicBezTo>
                  <a:pt x="20574" y="15579"/>
                  <a:pt x="20574" y="15536"/>
                  <a:pt x="20574" y="15494"/>
                </a:cubicBezTo>
                <a:cubicBezTo>
                  <a:pt x="20565" y="15560"/>
                  <a:pt x="20519" y="15603"/>
                  <a:pt x="20574" y="15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2"/>
          <p:cNvSpPr/>
          <p:nvPr/>
        </p:nvSpPr>
        <p:spPr>
          <a:xfrm>
            <a:off x="7543800" y="5143680"/>
            <a:ext cx="617400" cy="446040"/>
          </a:xfrm>
          <a:custGeom>
            <a:avLst/>
            <a:gdLst/>
            <a:ahLst/>
            <a:rect l="l" t="t" r="r" b="b"/>
            <a:pathLst>
              <a:path w="1716" h="1239">
                <a:moveTo>
                  <a:pt x="21114" y="14319"/>
                </a:moveTo>
                <a:cubicBezTo>
                  <a:pt x="21032" y="14340"/>
                  <a:pt x="21051" y="14402"/>
                  <a:pt x="21018" y="14478"/>
                </a:cubicBezTo>
                <a:cubicBezTo>
                  <a:pt x="20977" y="14572"/>
                  <a:pt x="20959" y="14693"/>
                  <a:pt x="20955" y="14796"/>
                </a:cubicBezTo>
                <a:cubicBezTo>
                  <a:pt x="20948" y="14964"/>
                  <a:pt x="20938" y="15148"/>
                  <a:pt x="20987" y="15304"/>
                </a:cubicBezTo>
                <a:cubicBezTo>
                  <a:pt x="20999" y="15342"/>
                  <a:pt x="21039" y="15472"/>
                  <a:pt x="21082" y="15494"/>
                </a:cubicBezTo>
                <a:cubicBezTo>
                  <a:pt x="21132" y="15519"/>
                  <a:pt x="21165" y="15488"/>
                  <a:pt x="21177" y="15462"/>
                </a:cubicBezTo>
                <a:cubicBezTo>
                  <a:pt x="21229" y="15350"/>
                  <a:pt x="21188" y="15265"/>
                  <a:pt x="21209" y="15145"/>
                </a:cubicBezTo>
                <a:cubicBezTo>
                  <a:pt x="21232" y="15016"/>
                  <a:pt x="21209" y="14903"/>
                  <a:pt x="21209" y="14764"/>
                </a:cubicBezTo>
                <a:cubicBezTo>
                  <a:pt x="21209" y="14673"/>
                  <a:pt x="21223" y="14557"/>
                  <a:pt x="21177" y="14478"/>
                </a:cubicBezTo>
                <a:cubicBezTo>
                  <a:pt x="21140" y="14414"/>
                  <a:pt x="21145" y="14399"/>
                  <a:pt x="21082" y="14446"/>
                </a:cubicBezTo>
              </a:path>
              <a:path w="1716" h="1239">
                <a:moveTo>
                  <a:pt x="21463" y="14383"/>
                </a:moveTo>
                <a:cubicBezTo>
                  <a:pt x="21463" y="14506"/>
                  <a:pt x="21467" y="14613"/>
                  <a:pt x="21431" y="14732"/>
                </a:cubicBezTo>
                <a:cubicBezTo>
                  <a:pt x="21392" y="14860"/>
                  <a:pt x="21400" y="14979"/>
                  <a:pt x="21400" y="15113"/>
                </a:cubicBezTo>
                <a:cubicBezTo>
                  <a:pt x="21400" y="15243"/>
                  <a:pt x="21386" y="15351"/>
                  <a:pt x="21463" y="15462"/>
                </a:cubicBezTo>
                <a:cubicBezTo>
                  <a:pt x="21487" y="15496"/>
                  <a:pt x="21525" y="15501"/>
                  <a:pt x="21558" y="15526"/>
                </a:cubicBezTo>
                <a:cubicBezTo>
                  <a:pt x="21611" y="15473"/>
                  <a:pt x="21649" y="15434"/>
                  <a:pt x="21685" y="15367"/>
                </a:cubicBezTo>
                <a:cubicBezTo>
                  <a:pt x="21740" y="15263"/>
                  <a:pt x="21749" y="15199"/>
                  <a:pt x="21749" y="15081"/>
                </a:cubicBezTo>
                <a:cubicBezTo>
                  <a:pt x="21749" y="14997"/>
                  <a:pt x="21766" y="14924"/>
                  <a:pt x="21717" y="14859"/>
                </a:cubicBezTo>
                <a:cubicBezTo>
                  <a:pt x="21667" y="14922"/>
                  <a:pt x="21635" y="15002"/>
                  <a:pt x="21622" y="15081"/>
                </a:cubicBezTo>
                <a:cubicBezTo>
                  <a:pt x="21604" y="15187"/>
                  <a:pt x="21590" y="15291"/>
                  <a:pt x="21590" y="15399"/>
                </a:cubicBezTo>
                <a:cubicBezTo>
                  <a:pt x="21590" y="15456"/>
                  <a:pt x="21586" y="15473"/>
                  <a:pt x="21622" y="15494"/>
                </a:cubicBezTo>
              </a:path>
              <a:path w="1716" h="1239">
                <a:moveTo>
                  <a:pt x="21876" y="14478"/>
                </a:moveTo>
                <a:cubicBezTo>
                  <a:pt x="21888" y="14431"/>
                  <a:pt x="21922" y="14399"/>
                  <a:pt x="21971" y="14383"/>
                </a:cubicBezTo>
                <a:cubicBezTo>
                  <a:pt x="22017" y="14368"/>
                  <a:pt x="22088" y="14340"/>
                  <a:pt x="22130" y="14319"/>
                </a:cubicBezTo>
                <a:cubicBezTo>
                  <a:pt x="22183" y="14293"/>
                  <a:pt x="22192" y="14288"/>
                  <a:pt x="22257" y="14288"/>
                </a:cubicBezTo>
                <a:cubicBezTo>
                  <a:pt x="22267" y="14288"/>
                  <a:pt x="22278" y="14288"/>
                  <a:pt x="22288" y="14288"/>
                </a:cubicBezTo>
                <a:cubicBezTo>
                  <a:pt x="22278" y="14327"/>
                  <a:pt x="22273" y="14409"/>
                  <a:pt x="22257" y="14446"/>
                </a:cubicBezTo>
                <a:cubicBezTo>
                  <a:pt x="22220" y="14534"/>
                  <a:pt x="22177" y="14595"/>
                  <a:pt x="22162" y="14700"/>
                </a:cubicBezTo>
                <a:cubicBezTo>
                  <a:pt x="22145" y="14825"/>
                  <a:pt x="22110" y="14957"/>
                  <a:pt x="22098" y="15081"/>
                </a:cubicBezTo>
                <a:cubicBezTo>
                  <a:pt x="22086" y="15209"/>
                  <a:pt x="22066" y="15333"/>
                  <a:pt x="22066" y="15462"/>
                </a:cubicBezTo>
              </a:path>
              <a:path w="1716" h="1239">
                <a:moveTo>
                  <a:pt x="22416" y="14859"/>
                </a:moveTo>
                <a:cubicBezTo>
                  <a:pt x="22456" y="14819"/>
                  <a:pt x="22487" y="14770"/>
                  <a:pt x="22542" y="14764"/>
                </a:cubicBezTo>
                <a:cubicBezTo>
                  <a:pt x="22597" y="14758"/>
                  <a:pt x="22620" y="14744"/>
                  <a:pt x="22670" y="14732"/>
                </a:cubicBezTo>
              </a:path>
              <a:path w="1716" h="1239">
                <a:moveTo>
                  <a:pt x="22384" y="15145"/>
                </a:moveTo>
                <a:cubicBezTo>
                  <a:pt x="22384" y="15166"/>
                  <a:pt x="22384" y="15187"/>
                  <a:pt x="22384" y="15208"/>
                </a:cubicBezTo>
                <a:cubicBezTo>
                  <a:pt x="22487" y="15208"/>
                  <a:pt x="22434" y="15178"/>
                  <a:pt x="22511" y="15145"/>
                </a:cubicBezTo>
                <a:cubicBezTo>
                  <a:pt x="22535" y="15135"/>
                  <a:pt x="22644" y="15145"/>
                  <a:pt x="22670" y="15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3"/>
          <p:cNvSpPr/>
          <p:nvPr/>
        </p:nvSpPr>
        <p:spPr>
          <a:xfrm>
            <a:off x="8308800" y="5029200"/>
            <a:ext cx="641520" cy="595440"/>
          </a:xfrm>
          <a:custGeom>
            <a:avLst/>
            <a:gdLst/>
            <a:ahLst/>
            <a:rect l="l" t="t" r="r" b="b"/>
            <a:pathLst>
              <a:path w="1779" h="1652">
                <a:moveTo>
                  <a:pt x="23114" y="15399"/>
                </a:moveTo>
                <a:cubicBezTo>
                  <a:pt x="23114" y="15388"/>
                  <a:pt x="23114" y="15378"/>
                  <a:pt x="23114" y="15367"/>
                </a:cubicBezTo>
              </a:path>
              <a:path w="1779" h="1652">
                <a:moveTo>
                  <a:pt x="23114" y="15399"/>
                </a:moveTo>
                <a:cubicBezTo>
                  <a:pt x="23103" y="15399"/>
                  <a:pt x="23093" y="15399"/>
                  <a:pt x="23082" y="15399"/>
                </a:cubicBezTo>
              </a:path>
              <a:path w="1779" h="1652">
                <a:moveTo>
                  <a:pt x="23082" y="15399"/>
                </a:moveTo>
                <a:cubicBezTo>
                  <a:pt x="23082" y="15313"/>
                  <a:pt x="23082" y="15448"/>
                  <a:pt x="23082" y="15462"/>
                </a:cubicBezTo>
                <a:cubicBezTo>
                  <a:pt x="23082" y="15532"/>
                  <a:pt x="23107" y="15425"/>
                  <a:pt x="23114" y="15399"/>
                </a:cubicBezTo>
              </a:path>
              <a:path w="1779" h="1652">
                <a:moveTo>
                  <a:pt x="23781" y="14351"/>
                </a:moveTo>
                <a:cubicBezTo>
                  <a:pt x="23746" y="14305"/>
                  <a:pt x="23723" y="14254"/>
                  <a:pt x="23717" y="14192"/>
                </a:cubicBezTo>
                <a:cubicBezTo>
                  <a:pt x="23712" y="14144"/>
                  <a:pt x="23666" y="14112"/>
                  <a:pt x="23622" y="14097"/>
                </a:cubicBezTo>
                <a:cubicBezTo>
                  <a:pt x="23570" y="14080"/>
                  <a:pt x="23522" y="14119"/>
                  <a:pt x="23495" y="14160"/>
                </a:cubicBezTo>
                <a:cubicBezTo>
                  <a:pt x="23445" y="14237"/>
                  <a:pt x="23459" y="14332"/>
                  <a:pt x="23432" y="14414"/>
                </a:cubicBezTo>
                <a:cubicBezTo>
                  <a:pt x="23403" y="14500"/>
                  <a:pt x="23375" y="14606"/>
                  <a:pt x="23400" y="14700"/>
                </a:cubicBezTo>
                <a:cubicBezTo>
                  <a:pt x="23414" y="14751"/>
                  <a:pt x="23434" y="14789"/>
                  <a:pt x="23463" y="14827"/>
                </a:cubicBezTo>
                <a:cubicBezTo>
                  <a:pt x="23539" y="14827"/>
                  <a:pt x="23511" y="14817"/>
                  <a:pt x="23558" y="14764"/>
                </a:cubicBezTo>
                <a:cubicBezTo>
                  <a:pt x="23617" y="14697"/>
                  <a:pt x="23669" y="14599"/>
                  <a:pt x="23686" y="14510"/>
                </a:cubicBezTo>
                <a:cubicBezTo>
                  <a:pt x="23694" y="14470"/>
                  <a:pt x="23718" y="14344"/>
                  <a:pt x="23749" y="14319"/>
                </a:cubicBezTo>
                <a:cubicBezTo>
                  <a:pt x="23760" y="14319"/>
                  <a:pt x="23770" y="14319"/>
                  <a:pt x="23781" y="14319"/>
                </a:cubicBezTo>
                <a:cubicBezTo>
                  <a:pt x="23781" y="14556"/>
                  <a:pt x="23775" y="14787"/>
                  <a:pt x="23749" y="15018"/>
                </a:cubicBezTo>
                <a:cubicBezTo>
                  <a:pt x="23734" y="15153"/>
                  <a:pt x="23753" y="15280"/>
                  <a:pt x="23717" y="15399"/>
                </a:cubicBezTo>
                <a:cubicBezTo>
                  <a:pt x="23717" y="15430"/>
                  <a:pt x="23717" y="15440"/>
                  <a:pt x="23717" y="15399"/>
                </a:cubicBezTo>
              </a:path>
              <a:path w="1779" h="1652">
                <a:moveTo>
                  <a:pt x="24035" y="14256"/>
                </a:moveTo>
                <a:cubicBezTo>
                  <a:pt x="24049" y="14200"/>
                  <a:pt x="24069" y="14154"/>
                  <a:pt x="24098" y="14129"/>
                </a:cubicBezTo>
                <a:cubicBezTo>
                  <a:pt x="24113" y="14116"/>
                  <a:pt x="24204" y="14103"/>
                  <a:pt x="24225" y="14129"/>
                </a:cubicBezTo>
                <a:cubicBezTo>
                  <a:pt x="24249" y="14159"/>
                  <a:pt x="24257" y="14212"/>
                  <a:pt x="24257" y="14256"/>
                </a:cubicBezTo>
                <a:cubicBezTo>
                  <a:pt x="24257" y="14365"/>
                  <a:pt x="24233" y="14410"/>
                  <a:pt x="24194" y="14510"/>
                </a:cubicBezTo>
                <a:cubicBezTo>
                  <a:pt x="24157" y="14604"/>
                  <a:pt x="24096" y="14701"/>
                  <a:pt x="24066" y="14796"/>
                </a:cubicBezTo>
                <a:cubicBezTo>
                  <a:pt x="24055" y="14833"/>
                  <a:pt x="24019" y="14898"/>
                  <a:pt x="24035" y="14859"/>
                </a:cubicBezTo>
                <a:cubicBezTo>
                  <a:pt x="24053" y="14814"/>
                  <a:pt x="24051" y="14770"/>
                  <a:pt x="24098" y="14764"/>
                </a:cubicBezTo>
                <a:cubicBezTo>
                  <a:pt x="24170" y="14755"/>
                  <a:pt x="24196" y="14781"/>
                  <a:pt x="24225" y="14796"/>
                </a:cubicBezTo>
                <a:cubicBezTo>
                  <a:pt x="24283" y="14825"/>
                  <a:pt x="24315" y="14839"/>
                  <a:pt x="24320" y="14922"/>
                </a:cubicBezTo>
                <a:cubicBezTo>
                  <a:pt x="24327" y="15036"/>
                  <a:pt x="24304" y="15131"/>
                  <a:pt x="24289" y="15240"/>
                </a:cubicBezTo>
                <a:cubicBezTo>
                  <a:pt x="24273" y="15352"/>
                  <a:pt x="24240" y="15409"/>
                  <a:pt x="24162" y="15494"/>
                </a:cubicBezTo>
                <a:cubicBezTo>
                  <a:pt x="24105" y="15557"/>
                  <a:pt x="24098" y="15611"/>
                  <a:pt x="24003" y="15621"/>
                </a:cubicBezTo>
                <a:cubicBezTo>
                  <a:pt x="23947" y="15627"/>
                  <a:pt x="23912" y="15620"/>
                  <a:pt x="23908" y="15558"/>
                </a:cubicBezTo>
                <a:cubicBezTo>
                  <a:pt x="23908" y="15537"/>
                  <a:pt x="23908" y="15515"/>
                  <a:pt x="23908" y="15494"/>
                </a:cubicBezTo>
              </a:path>
              <a:path w="1779" h="1652">
                <a:moveTo>
                  <a:pt x="24448" y="14319"/>
                </a:moveTo>
                <a:cubicBezTo>
                  <a:pt x="24512" y="14255"/>
                  <a:pt x="24508" y="14230"/>
                  <a:pt x="24543" y="14160"/>
                </a:cubicBezTo>
                <a:cubicBezTo>
                  <a:pt x="24558" y="14129"/>
                  <a:pt x="24686" y="13981"/>
                  <a:pt x="24702" y="13970"/>
                </a:cubicBezTo>
                <a:cubicBezTo>
                  <a:pt x="24712" y="13970"/>
                  <a:pt x="24723" y="13970"/>
                  <a:pt x="24733" y="13970"/>
                </a:cubicBezTo>
                <a:cubicBezTo>
                  <a:pt x="24762" y="14018"/>
                  <a:pt x="24784" y="14095"/>
                  <a:pt x="24765" y="14160"/>
                </a:cubicBezTo>
                <a:cubicBezTo>
                  <a:pt x="24735" y="14262"/>
                  <a:pt x="24719" y="14348"/>
                  <a:pt x="24670" y="14446"/>
                </a:cubicBezTo>
                <a:cubicBezTo>
                  <a:pt x="24639" y="14507"/>
                  <a:pt x="24643" y="14525"/>
                  <a:pt x="24606" y="14573"/>
                </a:cubicBezTo>
                <a:cubicBezTo>
                  <a:pt x="24617" y="14519"/>
                  <a:pt x="24643" y="14441"/>
                  <a:pt x="24702" y="14414"/>
                </a:cubicBezTo>
                <a:cubicBezTo>
                  <a:pt x="24774" y="14381"/>
                  <a:pt x="24788" y="14487"/>
                  <a:pt x="24797" y="14510"/>
                </a:cubicBezTo>
                <a:cubicBezTo>
                  <a:pt x="24833" y="14607"/>
                  <a:pt x="24855" y="14691"/>
                  <a:pt x="24860" y="14796"/>
                </a:cubicBezTo>
                <a:cubicBezTo>
                  <a:pt x="24865" y="14906"/>
                  <a:pt x="24809" y="15006"/>
                  <a:pt x="24797" y="15113"/>
                </a:cubicBezTo>
                <a:cubicBezTo>
                  <a:pt x="24784" y="15226"/>
                  <a:pt x="24776" y="15296"/>
                  <a:pt x="24670" y="15367"/>
                </a:cubicBezTo>
                <a:cubicBezTo>
                  <a:pt x="24623" y="15398"/>
                  <a:pt x="24541" y="15461"/>
                  <a:pt x="24479" y="15430"/>
                </a:cubicBezTo>
                <a:cubicBezTo>
                  <a:pt x="24451" y="15402"/>
                  <a:pt x="24444" y="15391"/>
                  <a:pt x="24416" y="15399"/>
                </a:cubicBezTo>
                <a:cubicBezTo>
                  <a:pt x="24433" y="15347"/>
                  <a:pt x="24476" y="15341"/>
                  <a:pt x="24543" y="15335"/>
                </a:cubicBezTo>
                <a:cubicBezTo>
                  <a:pt x="24595" y="15331"/>
                  <a:pt x="24650" y="15335"/>
                  <a:pt x="24702" y="15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angered tiger population of 120,000 decreases by 7% each year.  If we do nothing to change the situation, how many tigers will be left after 5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growth or dec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4"/>
          <p:cNvSpPr/>
          <p:nvPr/>
        </p:nvSpPr>
        <p:spPr>
          <a:xfrm>
            <a:off x="2754360" y="2125800"/>
            <a:ext cx="1806480" cy="91800"/>
          </a:xfrm>
          <a:custGeom>
            <a:avLst/>
            <a:gdLst/>
            <a:ahLst/>
            <a:rect l="l" t="t" r="r" b="b"/>
            <a:pathLst>
              <a:path w="5017" h="255">
                <a:moveTo>
                  <a:pt x="7652" y="5906"/>
                </a:moveTo>
                <a:cubicBezTo>
                  <a:pt x="7659" y="5979"/>
                  <a:pt x="7662" y="6026"/>
                  <a:pt x="7684" y="6064"/>
                </a:cubicBezTo>
                <a:cubicBezTo>
                  <a:pt x="7694" y="6075"/>
                  <a:pt x="7705" y="6085"/>
                  <a:pt x="7715" y="6096"/>
                </a:cubicBezTo>
                <a:cubicBezTo>
                  <a:pt x="7741" y="6063"/>
                  <a:pt x="7787" y="5944"/>
                  <a:pt x="7810" y="5937"/>
                </a:cubicBezTo>
                <a:cubicBezTo>
                  <a:pt x="7849" y="5925"/>
                  <a:pt x="7913" y="5951"/>
                  <a:pt x="7938" y="5969"/>
                </a:cubicBezTo>
                <a:cubicBezTo>
                  <a:pt x="7959" y="5984"/>
                  <a:pt x="7999" y="6043"/>
                  <a:pt x="8033" y="6064"/>
                </a:cubicBezTo>
                <a:cubicBezTo>
                  <a:pt x="8069" y="6064"/>
                  <a:pt x="8082" y="6067"/>
                  <a:pt x="8096" y="6096"/>
                </a:cubicBezTo>
                <a:cubicBezTo>
                  <a:pt x="8144" y="6076"/>
                  <a:pt x="8211" y="6059"/>
                  <a:pt x="8255" y="6032"/>
                </a:cubicBezTo>
                <a:cubicBezTo>
                  <a:pt x="8314" y="5996"/>
                  <a:pt x="8328" y="5943"/>
                  <a:pt x="8414" y="5969"/>
                </a:cubicBezTo>
                <a:cubicBezTo>
                  <a:pt x="8472" y="5987"/>
                  <a:pt x="8487" y="6037"/>
                  <a:pt x="8541" y="6064"/>
                </a:cubicBezTo>
                <a:cubicBezTo>
                  <a:pt x="8582" y="6085"/>
                  <a:pt x="8617" y="6096"/>
                  <a:pt x="8668" y="6096"/>
                </a:cubicBezTo>
                <a:cubicBezTo>
                  <a:pt x="8719" y="6096"/>
                  <a:pt x="8773" y="6050"/>
                  <a:pt x="8826" y="6032"/>
                </a:cubicBezTo>
                <a:cubicBezTo>
                  <a:pt x="8892" y="6010"/>
                  <a:pt x="8947" y="5966"/>
                  <a:pt x="9017" y="5969"/>
                </a:cubicBezTo>
                <a:cubicBezTo>
                  <a:pt x="9070" y="5971"/>
                  <a:pt x="9120" y="6014"/>
                  <a:pt x="9176" y="6032"/>
                </a:cubicBezTo>
                <a:cubicBezTo>
                  <a:pt x="9239" y="6052"/>
                  <a:pt x="9259" y="6060"/>
                  <a:pt x="9334" y="6064"/>
                </a:cubicBezTo>
                <a:cubicBezTo>
                  <a:pt x="9422" y="6069"/>
                  <a:pt x="9477" y="6055"/>
                  <a:pt x="9557" y="6032"/>
                </a:cubicBezTo>
                <a:cubicBezTo>
                  <a:pt x="9622" y="6013"/>
                  <a:pt x="9670" y="5966"/>
                  <a:pt x="9747" y="5969"/>
                </a:cubicBezTo>
                <a:cubicBezTo>
                  <a:pt x="9805" y="5971"/>
                  <a:pt x="9854" y="6038"/>
                  <a:pt x="9906" y="6064"/>
                </a:cubicBezTo>
                <a:cubicBezTo>
                  <a:pt x="9950" y="6086"/>
                  <a:pt x="10019" y="6117"/>
                  <a:pt x="10065" y="6128"/>
                </a:cubicBezTo>
                <a:cubicBezTo>
                  <a:pt x="10139" y="6145"/>
                  <a:pt x="10222" y="6115"/>
                  <a:pt x="10287" y="6096"/>
                </a:cubicBezTo>
                <a:cubicBezTo>
                  <a:pt x="10366" y="6073"/>
                  <a:pt x="10422" y="6029"/>
                  <a:pt x="10509" y="6032"/>
                </a:cubicBezTo>
                <a:cubicBezTo>
                  <a:pt x="10577" y="6034"/>
                  <a:pt x="10615" y="6076"/>
                  <a:pt x="10668" y="6096"/>
                </a:cubicBezTo>
                <a:cubicBezTo>
                  <a:pt x="10712" y="6112"/>
                  <a:pt x="10784" y="6149"/>
                  <a:pt x="10827" y="6160"/>
                </a:cubicBezTo>
                <a:cubicBezTo>
                  <a:pt x="10925" y="6186"/>
                  <a:pt x="11090" y="6166"/>
                  <a:pt x="11176" y="6128"/>
                </a:cubicBezTo>
                <a:cubicBezTo>
                  <a:pt x="11230" y="6104"/>
                  <a:pt x="11299" y="6032"/>
                  <a:pt x="11366" y="6032"/>
                </a:cubicBezTo>
                <a:cubicBezTo>
                  <a:pt x="11403" y="6032"/>
                  <a:pt x="11454" y="6053"/>
                  <a:pt x="11494" y="6064"/>
                </a:cubicBezTo>
                <a:cubicBezTo>
                  <a:pt x="11533" y="6074"/>
                  <a:pt x="11604" y="6130"/>
                  <a:pt x="11652" y="6128"/>
                </a:cubicBezTo>
                <a:cubicBezTo>
                  <a:pt x="11712" y="6126"/>
                  <a:pt x="11755" y="6108"/>
                  <a:pt x="11811" y="6096"/>
                </a:cubicBezTo>
                <a:cubicBezTo>
                  <a:pt x="11890" y="6079"/>
                  <a:pt x="11956" y="6053"/>
                  <a:pt x="12033" y="6032"/>
                </a:cubicBezTo>
                <a:cubicBezTo>
                  <a:pt x="12093" y="6016"/>
                  <a:pt x="12229" y="5967"/>
                  <a:pt x="12287" y="5969"/>
                </a:cubicBezTo>
                <a:cubicBezTo>
                  <a:pt x="12366" y="5972"/>
                  <a:pt x="12384" y="5999"/>
                  <a:pt x="12446" y="6032"/>
                </a:cubicBezTo>
                <a:cubicBezTo>
                  <a:pt x="12499" y="6060"/>
                  <a:pt x="12552" y="6096"/>
                  <a:pt x="12605" y="6128"/>
                </a:cubicBezTo>
                <a:cubicBezTo>
                  <a:pt x="12633" y="6157"/>
                  <a:pt x="12639" y="6168"/>
                  <a:pt x="12668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4664160" y="4457880"/>
            <a:ext cx="971640" cy="80640"/>
          </a:xfrm>
          <a:custGeom>
            <a:avLst/>
            <a:gdLst/>
            <a:ahLst/>
            <a:rect l="l" t="t" r="r" b="b"/>
            <a:pathLst>
              <a:path w="2700" h="224">
                <a:moveTo>
                  <a:pt x="12986" y="12382"/>
                </a:moveTo>
                <a:cubicBezTo>
                  <a:pt x="13016" y="12412"/>
                  <a:pt x="13008" y="12372"/>
                  <a:pt x="13018" y="12414"/>
                </a:cubicBezTo>
                <a:cubicBezTo>
                  <a:pt x="13027" y="12455"/>
                  <a:pt x="12993" y="12520"/>
                  <a:pt x="13049" y="12541"/>
                </a:cubicBezTo>
                <a:cubicBezTo>
                  <a:pt x="13100" y="12560"/>
                  <a:pt x="13172" y="12505"/>
                  <a:pt x="13208" y="12478"/>
                </a:cubicBezTo>
                <a:cubicBezTo>
                  <a:pt x="13266" y="12435"/>
                  <a:pt x="13310" y="12438"/>
                  <a:pt x="13335" y="12446"/>
                </a:cubicBezTo>
                <a:cubicBezTo>
                  <a:pt x="13375" y="12458"/>
                  <a:pt x="13387" y="12470"/>
                  <a:pt x="13398" y="12510"/>
                </a:cubicBezTo>
                <a:cubicBezTo>
                  <a:pt x="13408" y="12545"/>
                  <a:pt x="13401" y="12608"/>
                  <a:pt x="13462" y="12605"/>
                </a:cubicBezTo>
                <a:cubicBezTo>
                  <a:pt x="13506" y="12603"/>
                  <a:pt x="13578" y="12588"/>
                  <a:pt x="13621" y="12573"/>
                </a:cubicBezTo>
                <a:cubicBezTo>
                  <a:pt x="13694" y="12548"/>
                  <a:pt x="13747" y="12496"/>
                  <a:pt x="13811" y="12541"/>
                </a:cubicBezTo>
                <a:cubicBezTo>
                  <a:pt x="13846" y="12565"/>
                  <a:pt x="13834" y="12593"/>
                  <a:pt x="13875" y="12605"/>
                </a:cubicBezTo>
                <a:cubicBezTo>
                  <a:pt x="13960" y="12630"/>
                  <a:pt x="14062" y="12587"/>
                  <a:pt x="14129" y="12573"/>
                </a:cubicBezTo>
                <a:cubicBezTo>
                  <a:pt x="14180" y="12563"/>
                  <a:pt x="14265" y="12524"/>
                  <a:pt x="14319" y="12541"/>
                </a:cubicBezTo>
                <a:cubicBezTo>
                  <a:pt x="14366" y="12556"/>
                  <a:pt x="14395" y="12594"/>
                  <a:pt x="14446" y="12605"/>
                </a:cubicBezTo>
                <a:cubicBezTo>
                  <a:pt x="14515" y="12620"/>
                  <a:pt x="14555" y="12581"/>
                  <a:pt x="14605" y="12573"/>
                </a:cubicBezTo>
                <a:cubicBezTo>
                  <a:pt x="14689" y="12560"/>
                  <a:pt x="14717" y="12528"/>
                  <a:pt x="14796" y="12510"/>
                </a:cubicBezTo>
                <a:cubicBezTo>
                  <a:pt x="14872" y="12492"/>
                  <a:pt x="14959" y="12509"/>
                  <a:pt x="15018" y="12541"/>
                </a:cubicBezTo>
                <a:cubicBezTo>
                  <a:pt x="15059" y="12563"/>
                  <a:pt x="15094" y="12570"/>
                  <a:pt x="15145" y="12573"/>
                </a:cubicBezTo>
                <a:cubicBezTo>
                  <a:pt x="15280" y="12581"/>
                  <a:pt x="15401" y="12562"/>
                  <a:pt x="15526" y="12541"/>
                </a:cubicBezTo>
                <a:cubicBezTo>
                  <a:pt x="15589" y="12541"/>
                  <a:pt x="15611" y="12541"/>
                  <a:pt x="15653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2149560" y="4640400"/>
            <a:ext cx="2319120" cy="514080"/>
          </a:xfrm>
          <a:custGeom>
            <a:avLst/>
            <a:gdLst/>
            <a:ahLst/>
            <a:rect l="l" t="t" r="r" b="b"/>
            <a:pathLst>
              <a:path w="6446" h="1430">
                <a:moveTo>
                  <a:pt x="5969" y="12922"/>
                </a:moveTo>
                <a:cubicBezTo>
                  <a:pt x="6000" y="12941"/>
                  <a:pt x="5997" y="12951"/>
                  <a:pt x="6064" y="12954"/>
                </a:cubicBezTo>
                <a:cubicBezTo>
                  <a:pt x="6190" y="12960"/>
                  <a:pt x="6298" y="12941"/>
                  <a:pt x="6414" y="12922"/>
                </a:cubicBezTo>
                <a:cubicBezTo>
                  <a:pt x="6516" y="12906"/>
                  <a:pt x="6709" y="12910"/>
                  <a:pt x="6763" y="12954"/>
                </a:cubicBezTo>
                <a:cubicBezTo>
                  <a:pt x="6820" y="13001"/>
                  <a:pt x="6779" y="13029"/>
                  <a:pt x="6763" y="13081"/>
                </a:cubicBezTo>
                <a:cubicBezTo>
                  <a:pt x="6743" y="13148"/>
                  <a:pt x="6684" y="13204"/>
                  <a:pt x="6668" y="13272"/>
                </a:cubicBezTo>
                <a:cubicBezTo>
                  <a:pt x="6644" y="13376"/>
                  <a:pt x="6612" y="13457"/>
                  <a:pt x="6572" y="13557"/>
                </a:cubicBezTo>
                <a:cubicBezTo>
                  <a:pt x="6529" y="13667"/>
                  <a:pt x="6511" y="13764"/>
                  <a:pt x="6477" y="13875"/>
                </a:cubicBezTo>
                <a:cubicBezTo>
                  <a:pt x="6447" y="13972"/>
                  <a:pt x="6422" y="14071"/>
                  <a:pt x="6382" y="14160"/>
                </a:cubicBezTo>
                <a:cubicBezTo>
                  <a:pt x="6355" y="14220"/>
                  <a:pt x="6327" y="14269"/>
                  <a:pt x="6286" y="14319"/>
                </a:cubicBezTo>
              </a:path>
              <a:path w="6446" h="1430">
                <a:moveTo>
                  <a:pt x="7302" y="13113"/>
                </a:moveTo>
                <a:cubicBezTo>
                  <a:pt x="7313" y="13102"/>
                  <a:pt x="7323" y="13092"/>
                  <a:pt x="7334" y="13081"/>
                </a:cubicBezTo>
                <a:cubicBezTo>
                  <a:pt x="7329" y="13101"/>
                  <a:pt x="7269" y="13197"/>
                  <a:pt x="7271" y="13208"/>
                </a:cubicBezTo>
                <a:cubicBezTo>
                  <a:pt x="7280" y="13252"/>
                  <a:pt x="7348" y="13213"/>
                  <a:pt x="7366" y="13176"/>
                </a:cubicBezTo>
                <a:cubicBezTo>
                  <a:pt x="7387" y="13134"/>
                  <a:pt x="7383" y="13157"/>
                  <a:pt x="7398" y="13113"/>
                </a:cubicBezTo>
                <a:cubicBezTo>
                  <a:pt x="7344" y="13113"/>
                  <a:pt x="7349" y="13100"/>
                  <a:pt x="7334" y="13144"/>
                </a:cubicBezTo>
              </a:path>
              <a:path w="6446" h="1430">
                <a:moveTo>
                  <a:pt x="7112" y="13621"/>
                </a:moveTo>
                <a:cubicBezTo>
                  <a:pt x="7171" y="13621"/>
                  <a:pt x="7187" y="13593"/>
                  <a:pt x="7239" y="13589"/>
                </a:cubicBezTo>
                <a:cubicBezTo>
                  <a:pt x="7354" y="13581"/>
                  <a:pt x="7451" y="13594"/>
                  <a:pt x="7556" y="13621"/>
                </a:cubicBezTo>
                <a:cubicBezTo>
                  <a:pt x="7599" y="13621"/>
                  <a:pt x="7620" y="13621"/>
                  <a:pt x="7652" y="13621"/>
                </a:cubicBezTo>
              </a:path>
              <a:path w="6446" h="1430">
                <a:moveTo>
                  <a:pt x="7302" y="13938"/>
                </a:moveTo>
                <a:cubicBezTo>
                  <a:pt x="7384" y="13938"/>
                  <a:pt x="7351" y="13936"/>
                  <a:pt x="7334" y="14002"/>
                </a:cubicBezTo>
                <a:cubicBezTo>
                  <a:pt x="7347" y="13962"/>
                  <a:pt x="7417" y="13900"/>
                  <a:pt x="7398" y="13938"/>
                </a:cubicBezTo>
                <a:cubicBezTo>
                  <a:pt x="7369" y="13967"/>
                  <a:pt x="7354" y="13978"/>
                  <a:pt x="7398" y="13970"/>
                </a:cubicBezTo>
              </a:path>
              <a:path w="6446" h="1430">
                <a:moveTo>
                  <a:pt x="8096" y="12890"/>
                </a:moveTo>
                <a:cubicBezTo>
                  <a:pt x="8084" y="12952"/>
                  <a:pt x="8078" y="13018"/>
                  <a:pt x="8064" y="13081"/>
                </a:cubicBezTo>
                <a:cubicBezTo>
                  <a:pt x="8036" y="13206"/>
                  <a:pt x="7986" y="13333"/>
                  <a:pt x="7969" y="13462"/>
                </a:cubicBezTo>
                <a:cubicBezTo>
                  <a:pt x="7951" y="13593"/>
                  <a:pt x="7893" y="13713"/>
                  <a:pt x="7874" y="13843"/>
                </a:cubicBezTo>
                <a:cubicBezTo>
                  <a:pt x="7862" y="13926"/>
                  <a:pt x="7842" y="14012"/>
                  <a:pt x="7842" y="14097"/>
                </a:cubicBezTo>
                <a:cubicBezTo>
                  <a:pt x="7842" y="14189"/>
                  <a:pt x="7894" y="14082"/>
                  <a:pt x="7906" y="14065"/>
                </a:cubicBezTo>
              </a:path>
              <a:path w="6446" h="1430">
                <a:moveTo>
                  <a:pt x="8382" y="12986"/>
                </a:moveTo>
                <a:cubicBezTo>
                  <a:pt x="8310" y="13058"/>
                  <a:pt x="8309" y="13126"/>
                  <a:pt x="8255" y="13208"/>
                </a:cubicBezTo>
                <a:cubicBezTo>
                  <a:pt x="8166" y="13343"/>
                  <a:pt x="8162" y="13432"/>
                  <a:pt x="8128" y="13589"/>
                </a:cubicBezTo>
                <a:cubicBezTo>
                  <a:pt x="8105" y="13693"/>
                  <a:pt x="8065" y="13775"/>
                  <a:pt x="8128" y="13875"/>
                </a:cubicBezTo>
                <a:cubicBezTo>
                  <a:pt x="8166" y="13936"/>
                  <a:pt x="8256" y="13965"/>
                  <a:pt x="8318" y="13970"/>
                </a:cubicBezTo>
                <a:cubicBezTo>
                  <a:pt x="8406" y="13977"/>
                  <a:pt x="8442" y="13908"/>
                  <a:pt x="8477" y="13843"/>
                </a:cubicBezTo>
                <a:cubicBezTo>
                  <a:pt x="8534" y="13736"/>
                  <a:pt x="8556" y="13611"/>
                  <a:pt x="8572" y="13494"/>
                </a:cubicBezTo>
                <a:cubicBezTo>
                  <a:pt x="8585" y="13393"/>
                  <a:pt x="8572" y="13269"/>
                  <a:pt x="8541" y="13176"/>
                </a:cubicBezTo>
                <a:cubicBezTo>
                  <a:pt x="8518" y="13109"/>
                  <a:pt x="8463" y="13066"/>
                  <a:pt x="8414" y="13018"/>
                </a:cubicBezTo>
                <a:cubicBezTo>
                  <a:pt x="8399" y="13003"/>
                  <a:pt x="8312" y="12955"/>
                  <a:pt x="8287" y="12986"/>
                </a:cubicBezTo>
                <a:cubicBezTo>
                  <a:pt x="8266" y="13013"/>
                  <a:pt x="8333" y="13037"/>
                  <a:pt x="8350" y="13049"/>
                </a:cubicBezTo>
              </a:path>
              <a:path w="6446" h="1430">
                <a:moveTo>
                  <a:pt x="8826" y="13113"/>
                </a:moveTo>
                <a:cubicBezTo>
                  <a:pt x="8789" y="13163"/>
                  <a:pt x="8763" y="13211"/>
                  <a:pt x="8731" y="13272"/>
                </a:cubicBezTo>
                <a:cubicBezTo>
                  <a:pt x="8683" y="13364"/>
                  <a:pt x="8648" y="13486"/>
                  <a:pt x="8636" y="13589"/>
                </a:cubicBezTo>
                <a:cubicBezTo>
                  <a:pt x="8622" y="13712"/>
                  <a:pt x="8626" y="13855"/>
                  <a:pt x="8668" y="13970"/>
                </a:cubicBezTo>
                <a:cubicBezTo>
                  <a:pt x="8696" y="14048"/>
                  <a:pt x="8741" y="14167"/>
                  <a:pt x="8826" y="14192"/>
                </a:cubicBezTo>
                <a:cubicBezTo>
                  <a:pt x="8913" y="14218"/>
                  <a:pt x="8953" y="14125"/>
                  <a:pt x="8985" y="14065"/>
                </a:cubicBezTo>
                <a:cubicBezTo>
                  <a:pt x="9037" y="13968"/>
                  <a:pt x="9045" y="13826"/>
                  <a:pt x="9049" y="13716"/>
                </a:cubicBezTo>
                <a:cubicBezTo>
                  <a:pt x="9053" y="13596"/>
                  <a:pt x="9060" y="13480"/>
                  <a:pt x="9017" y="13367"/>
                </a:cubicBezTo>
                <a:cubicBezTo>
                  <a:pt x="8993" y="13305"/>
                  <a:pt x="8958" y="13221"/>
                  <a:pt x="8922" y="13176"/>
                </a:cubicBezTo>
                <a:cubicBezTo>
                  <a:pt x="8893" y="13139"/>
                  <a:pt x="8837" y="13123"/>
                  <a:pt x="8795" y="13113"/>
                </a:cubicBezTo>
                <a:cubicBezTo>
                  <a:pt x="8795" y="13180"/>
                  <a:pt x="8810" y="13192"/>
                  <a:pt x="8858" y="13240"/>
                </a:cubicBezTo>
              </a:path>
              <a:path w="6446" h="1430">
                <a:moveTo>
                  <a:pt x="9334" y="13240"/>
                </a:moveTo>
                <a:cubicBezTo>
                  <a:pt x="9390" y="13198"/>
                  <a:pt x="9419" y="13208"/>
                  <a:pt x="9493" y="13208"/>
                </a:cubicBezTo>
                <a:cubicBezTo>
                  <a:pt x="9572" y="13208"/>
                  <a:pt x="9620" y="13219"/>
                  <a:pt x="9684" y="13240"/>
                </a:cubicBezTo>
                <a:cubicBezTo>
                  <a:pt x="9716" y="13240"/>
                  <a:pt x="9726" y="13240"/>
                  <a:pt x="9747" y="13240"/>
                </a:cubicBezTo>
              </a:path>
              <a:path w="6446" h="1430">
                <a:moveTo>
                  <a:pt x="9462" y="13652"/>
                </a:moveTo>
                <a:cubicBezTo>
                  <a:pt x="9462" y="13663"/>
                  <a:pt x="9462" y="13673"/>
                  <a:pt x="9462" y="13684"/>
                </a:cubicBezTo>
                <a:cubicBezTo>
                  <a:pt x="9503" y="13653"/>
                  <a:pt x="9566" y="13634"/>
                  <a:pt x="9620" y="13621"/>
                </a:cubicBezTo>
                <a:cubicBezTo>
                  <a:pt x="9668" y="13609"/>
                  <a:pt x="9731" y="13621"/>
                  <a:pt x="9779" y="13621"/>
                </a:cubicBezTo>
              </a:path>
              <a:path w="6446" h="1430">
                <a:moveTo>
                  <a:pt x="10128" y="14002"/>
                </a:moveTo>
                <a:cubicBezTo>
                  <a:pt x="10083" y="14017"/>
                  <a:pt x="10096" y="14011"/>
                  <a:pt x="10096" y="14065"/>
                </a:cubicBezTo>
                <a:cubicBezTo>
                  <a:pt x="10114" y="14120"/>
                  <a:pt x="10167" y="14089"/>
                  <a:pt x="10192" y="14034"/>
                </a:cubicBezTo>
                <a:cubicBezTo>
                  <a:pt x="10192" y="14002"/>
                  <a:pt x="10192" y="13991"/>
                  <a:pt x="10192" y="13970"/>
                </a:cubicBezTo>
                <a:cubicBezTo>
                  <a:pt x="10188" y="13971"/>
                  <a:pt x="10100" y="13998"/>
                  <a:pt x="10096" y="14002"/>
                </a:cubicBezTo>
                <a:cubicBezTo>
                  <a:pt x="10062" y="14045"/>
                  <a:pt x="10119" y="14087"/>
                  <a:pt x="10160" y="14065"/>
                </a:cubicBezTo>
                <a:cubicBezTo>
                  <a:pt x="10171" y="14055"/>
                  <a:pt x="10181" y="14044"/>
                  <a:pt x="10192" y="14034"/>
                </a:cubicBezTo>
              </a:path>
              <a:path w="6446" h="1430">
                <a:moveTo>
                  <a:pt x="10668" y="13113"/>
                </a:moveTo>
                <a:cubicBezTo>
                  <a:pt x="10668" y="13081"/>
                  <a:pt x="10668" y="13070"/>
                  <a:pt x="10668" y="13049"/>
                </a:cubicBezTo>
                <a:cubicBezTo>
                  <a:pt x="10612" y="13063"/>
                  <a:pt x="10584" y="13101"/>
                  <a:pt x="10541" y="13144"/>
                </a:cubicBezTo>
                <a:cubicBezTo>
                  <a:pt x="10458" y="13227"/>
                  <a:pt x="10400" y="13343"/>
                  <a:pt x="10382" y="13462"/>
                </a:cubicBezTo>
                <a:cubicBezTo>
                  <a:pt x="10362" y="13594"/>
                  <a:pt x="10396" y="13722"/>
                  <a:pt x="10446" y="13843"/>
                </a:cubicBezTo>
                <a:cubicBezTo>
                  <a:pt x="10484" y="13936"/>
                  <a:pt x="10541" y="13996"/>
                  <a:pt x="10636" y="14002"/>
                </a:cubicBezTo>
                <a:cubicBezTo>
                  <a:pt x="10724" y="14007"/>
                  <a:pt x="10780" y="13930"/>
                  <a:pt x="10795" y="13843"/>
                </a:cubicBezTo>
                <a:cubicBezTo>
                  <a:pt x="10818" y="13711"/>
                  <a:pt x="10775" y="13587"/>
                  <a:pt x="10763" y="13462"/>
                </a:cubicBezTo>
                <a:cubicBezTo>
                  <a:pt x="10751" y="13336"/>
                  <a:pt x="10755" y="13272"/>
                  <a:pt x="10668" y="13176"/>
                </a:cubicBezTo>
                <a:cubicBezTo>
                  <a:pt x="10655" y="13161"/>
                  <a:pt x="10585" y="13068"/>
                  <a:pt x="10604" y="13049"/>
                </a:cubicBezTo>
                <a:cubicBezTo>
                  <a:pt x="10615" y="13049"/>
                  <a:pt x="10625" y="13049"/>
                  <a:pt x="10636" y="13049"/>
                </a:cubicBezTo>
              </a:path>
              <a:path w="6446" h="1430">
                <a:moveTo>
                  <a:pt x="10795" y="13113"/>
                </a:moveTo>
                <a:cubicBezTo>
                  <a:pt x="10861" y="13113"/>
                  <a:pt x="10901" y="13097"/>
                  <a:pt x="10954" y="13081"/>
                </a:cubicBezTo>
                <a:cubicBezTo>
                  <a:pt x="11044" y="13054"/>
                  <a:pt x="11168" y="13091"/>
                  <a:pt x="11240" y="13113"/>
                </a:cubicBezTo>
                <a:cubicBezTo>
                  <a:pt x="11284" y="13126"/>
                  <a:pt x="11324" y="13133"/>
                  <a:pt x="11366" y="13144"/>
                </a:cubicBezTo>
                <a:cubicBezTo>
                  <a:pt x="11356" y="13184"/>
                  <a:pt x="11350" y="13232"/>
                  <a:pt x="11335" y="13272"/>
                </a:cubicBezTo>
                <a:cubicBezTo>
                  <a:pt x="11299" y="13372"/>
                  <a:pt x="11266" y="13450"/>
                  <a:pt x="11240" y="13557"/>
                </a:cubicBezTo>
                <a:cubicBezTo>
                  <a:pt x="11210" y="13681"/>
                  <a:pt x="11177" y="13819"/>
                  <a:pt x="11144" y="13938"/>
                </a:cubicBezTo>
                <a:cubicBezTo>
                  <a:pt x="11133" y="13959"/>
                  <a:pt x="11123" y="13981"/>
                  <a:pt x="11112" y="14002"/>
                </a:cubicBezTo>
              </a:path>
              <a:path w="6446" h="1430">
                <a:moveTo>
                  <a:pt x="11620" y="13557"/>
                </a:moveTo>
                <a:cubicBezTo>
                  <a:pt x="11692" y="13505"/>
                  <a:pt x="11708" y="13543"/>
                  <a:pt x="11779" y="13557"/>
                </a:cubicBezTo>
                <a:cubicBezTo>
                  <a:pt x="11877" y="13576"/>
                  <a:pt x="11949" y="13538"/>
                  <a:pt x="12033" y="13589"/>
                </a:cubicBezTo>
                <a:cubicBezTo>
                  <a:pt x="12054" y="13573"/>
                  <a:pt x="12154" y="13565"/>
                  <a:pt x="12160" y="13557"/>
                </a:cubicBezTo>
                <a:cubicBezTo>
                  <a:pt x="12160" y="13547"/>
                  <a:pt x="12160" y="13536"/>
                  <a:pt x="12160" y="13526"/>
                </a:cubicBezTo>
              </a:path>
              <a:path w="6446" h="1430">
                <a:moveTo>
                  <a:pt x="12065" y="13303"/>
                </a:moveTo>
                <a:cubicBezTo>
                  <a:pt x="12079" y="13360"/>
                  <a:pt x="12117" y="13415"/>
                  <a:pt x="12160" y="13462"/>
                </a:cubicBezTo>
                <a:cubicBezTo>
                  <a:pt x="12216" y="13525"/>
                  <a:pt x="12261" y="13511"/>
                  <a:pt x="12319" y="13557"/>
                </a:cubicBezTo>
                <a:cubicBezTo>
                  <a:pt x="12347" y="13579"/>
                  <a:pt x="12407" y="13608"/>
                  <a:pt x="12414" y="13621"/>
                </a:cubicBezTo>
                <a:cubicBezTo>
                  <a:pt x="12428" y="13648"/>
                  <a:pt x="12394" y="13739"/>
                  <a:pt x="12382" y="13748"/>
                </a:cubicBezTo>
                <a:cubicBezTo>
                  <a:pt x="12345" y="13773"/>
                  <a:pt x="12268" y="13828"/>
                  <a:pt x="12224" y="13843"/>
                </a:cubicBezTo>
                <a:cubicBezTo>
                  <a:pt x="12212" y="13847"/>
                  <a:pt x="12101" y="13870"/>
                  <a:pt x="12097" y="13875"/>
                </a:cubicBezTo>
                <a:cubicBezTo>
                  <a:pt x="12097" y="13906"/>
                  <a:pt x="12097" y="13917"/>
                  <a:pt x="12065" y="13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4754520" y="4675320"/>
            <a:ext cx="366840" cy="446040"/>
          </a:xfrm>
          <a:custGeom>
            <a:avLst/>
            <a:gdLst/>
            <a:ahLst/>
            <a:rect l="l" t="t" r="r" b="b"/>
            <a:pathLst>
              <a:path w="1017" h="1239">
                <a:moveTo>
                  <a:pt x="13335" y="12986"/>
                </a:moveTo>
                <a:cubicBezTo>
                  <a:pt x="13320" y="13046"/>
                  <a:pt x="13321" y="13111"/>
                  <a:pt x="13303" y="13176"/>
                </a:cubicBezTo>
                <a:cubicBezTo>
                  <a:pt x="13272" y="13292"/>
                  <a:pt x="13245" y="13401"/>
                  <a:pt x="13240" y="13526"/>
                </a:cubicBezTo>
                <a:cubicBezTo>
                  <a:pt x="13235" y="13647"/>
                  <a:pt x="13213" y="13756"/>
                  <a:pt x="13208" y="13875"/>
                </a:cubicBezTo>
                <a:cubicBezTo>
                  <a:pt x="13204" y="13968"/>
                  <a:pt x="13185" y="14088"/>
                  <a:pt x="13240" y="14160"/>
                </a:cubicBezTo>
                <a:cubicBezTo>
                  <a:pt x="13296" y="14142"/>
                  <a:pt x="13292" y="14135"/>
                  <a:pt x="13303" y="14065"/>
                </a:cubicBezTo>
              </a:path>
              <a:path w="1017" h="1239">
                <a:moveTo>
                  <a:pt x="13589" y="13367"/>
                </a:moveTo>
                <a:cubicBezTo>
                  <a:pt x="13638" y="13355"/>
                  <a:pt x="13686" y="13309"/>
                  <a:pt x="13748" y="13335"/>
                </a:cubicBezTo>
                <a:cubicBezTo>
                  <a:pt x="13806" y="13359"/>
                  <a:pt x="13917" y="13338"/>
                  <a:pt x="13970" y="13367"/>
                </a:cubicBezTo>
                <a:cubicBezTo>
                  <a:pt x="14068" y="13420"/>
                  <a:pt x="14007" y="13430"/>
                  <a:pt x="14097" y="13430"/>
                </a:cubicBezTo>
              </a:path>
              <a:path w="1017" h="1239">
                <a:moveTo>
                  <a:pt x="14160" y="14160"/>
                </a:moveTo>
                <a:cubicBezTo>
                  <a:pt x="14252" y="14101"/>
                  <a:pt x="14153" y="14199"/>
                  <a:pt x="14129" y="14224"/>
                </a:cubicBezTo>
                <a:cubicBezTo>
                  <a:pt x="14175" y="14212"/>
                  <a:pt x="14219" y="14203"/>
                  <a:pt x="14224" y="14160"/>
                </a:cubicBezTo>
                <a:cubicBezTo>
                  <a:pt x="14228" y="14130"/>
                  <a:pt x="14201" y="14046"/>
                  <a:pt x="14160" y="14097"/>
                </a:cubicBezTo>
                <a:cubicBezTo>
                  <a:pt x="14115" y="14153"/>
                  <a:pt x="14192" y="14160"/>
                  <a:pt x="14224" y="14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5280120" y="4789440"/>
            <a:ext cx="652320" cy="411120"/>
          </a:xfrm>
          <a:custGeom>
            <a:avLst/>
            <a:gdLst/>
            <a:ahLst/>
            <a:rect l="l" t="t" r="r" b="b"/>
            <a:pathLst>
              <a:path w="1811" h="1144">
                <a:moveTo>
                  <a:pt x="14859" y="13430"/>
                </a:moveTo>
                <a:cubicBezTo>
                  <a:pt x="14859" y="13334"/>
                  <a:pt x="14863" y="13346"/>
                  <a:pt x="14859" y="13335"/>
                </a:cubicBezTo>
                <a:cubicBezTo>
                  <a:pt x="14859" y="13324"/>
                  <a:pt x="14859" y="13314"/>
                  <a:pt x="14859" y="13303"/>
                </a:cubicBezTo>
                <a:cubicBezTo>
                  <a:pt x="14843" y="13365"/>
                  <a:pt x="14796" y="13431"/>
                  <a:pt x="14764" y="13494"/>
                </a:cubicBezTo>
                <a:cubicBezTo>
                  <a:pt x="14711" y="13600"/>
                  <a:pt x="14673" y="13694"/>
                  <a:pt x="14668" y="13811"/>
                </a:cubicBezTo>
                <a:cubicBezTo>
                  <a:pt x="14664" y="13926"/>
                  <a:pt x="14715" y="14026"/>
                  <a:pt x="14764" y="14129"/>
                </a:cubicBezTo>
                <a:cubicBezTo>
                  <a:pt x="14791" y="14186"/>
                  <a:pt x="14824" y="14251"/>
                  <a:pt x="14891" y="14256"/>
                </a:cubicBezTo>
                <a:cubicBezTo>
                  <a:pt x="14970" y="14262"/>
                  <a:pt x="15001" y="14182"/>
                  <a:pt x="15018" y="14097"/>
                </a:cubicBezTo>
                <a:cubicBezTo>
                  <a:pt x="15040" y="13990"/>
                  <a:pt x="15050" y="13894"/>
                  <a:pt x="15050" y="13780"/>
                </a:cubicBezTo>
                <a:cubicBezTo>
                  <a:pt x="15050" y="13704"/>
                  <a:pt x="15027" y="13592"/>
                  <a:pt x="14986" y="13526"/>
                </a:cubicBezTo>
                <a:cubicBezTo>
                  <a:pt x="14938" y="13449"/>
                  <a:pt x="14904" y="13463"/>
                  <a:pt x="14891" y="13367"/>
                </a:cubicBezTo>
              </a:path>
              <a:path w="1811" h="1144">
                <a:moveTo>
                  <a:pt x="15176" y="13430"/>
                </a:moveTo>
                <a:cubicBezTo>
                  <a:pt x="15232" y="13472"/>
                  <a:pt x="15261" y="13462"/>
                  <a:pt x="15335" y="13462"/>
                </a:cubicBezTo>
                <a:cubicBezTo>
                  <a:pt x="15415" y="13462"/>
                  <a:pt x="15451" y="13488"/>
                  <a:pt x="15526" y="13494"/>
                </a:cubicBezTo>
                <a:cubicBezTo>
                  <a:pt x="15584" y="13499"/>
                  <a:pt x="15600" y="13529"/>
                  <a:pt x="15621" y="13557"/>
                </a:cubicBezTo>
                <a:cubicBezTo>
                  <a:pt x="15650" y="13595"/>
                  <a:pt x="15680" y="13663"/>
                  <a:pt x="15653" y="13716"/>
                </a:cubicBezTo>
                <a:cubicBezTo>
                  <a:pt x="15618" y="13786"/>
                  <a:pt x="15614" y="13861"/>
                  <a:pt x="15589" y="13938"/>
                </a:cubicBezTo>
                <a:cubicBezTo>
                  <a:pt x="15557" y="14037"/>
                  <a:pt x="15532" y="14152"/>
                  <a:pt x="15526" y="14256"/>
                </a:cubicBezTo>
                <a:cubicBezTo>
                  <a:pt x="15523" y="14303"/>
                  <a:pt x="15519" y="14420"/>
                  <a:pt x="15558" y="14446"/>
                </a:cubicBezTo>
                <a:cubicBezTo>
                  <a:pt x="15568" y="14446"/>
                  <a:pt x="15579" y="14446"/>
                  <a:pt x="15589" y="14446"/>
                </a:cubicBezTo>
              </a:path>
              <a:path w="1811" h="1144">
                <a:moveTo>
                  <a:pt x="16034" y="13780"/>
                </a:moveTo>
                <a:cubicBezTo>
                  <a:pt x="16060" y="13726"/>
                  <a:pt x="16119" y="13689"/>
                  <a:pt x="16192" y="13684"/>
                </a:cubicBezTo>
                <a:cubicBezTo>
                  <a:pt x="16284" y="13678"/>
                  <a:pt x="16333" y="13704"/>
                  <a:pt x="16415" y="13716"/>
                </a:cubicBezTo>
              </a:path>
              <a:path w="1811" h="1144">
                <a:moveTo>
                  <a:pt x="16097" y="14034"/>
                </a:moveTo>
                <a:cubicBezTo>
                  <a:pt x="16158" y="14078"/>
                  <a:pt x="16218" y="14073"/>
                  <a:pt x="16288" y="14097"/>
                </a:cubicBezTo>
                <a:cubicBezTo>
                  <a:pt x="16363" y="14122"/>
                  <a:pt x="16396" y="14129"/>
                  <a:pt x="16478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6114960" y="4537080"/>
            <a:ext cx="628920" cy="663480"/>
          </a:xfrm>
          <a:custGeom>
            <a:avLst/>
            <a:gdLst/>
            <a:ahLst/>
            <a:rect l="l" t="t" r="r" b="b"/>
            <a:pathLst>
              <a:path w="1747" h="1842">
                <a:moveTo>
                  <a:pt x="17082" y="14351"/>
                </a:moveTo>
                <a:cubicBezTo>
                  <a:pt x="17082" y="14319"/>
                  <a:pt x="17082" y="14309"/>
                  <a:pt x="17082" y="14288"/>
                </a:cubicBezTo>
                <a:cubicBezTo>
                  <a:pt x="17067" y="14332"/>
                  <a:pt x="17012" y="14326"/>
                  <a:pt x="16986" y="14383"/>
                </a:cubicBezTo>
                <a:cubicBezTo>
                  <a:pt x="16956" y="14449"/>
                  <a:pt x="17030" y="14468"/>
                  <a:pt x="17082" y="14446"/>
                </a:cubicBezTo>
                <a:cubicBezTo>
                  <a:pt x="17110" y="14417"/>
                  <a:pt x="17116" y="14406"/>
                  <a:pt x="17145" y="14414"/>
                </a:cubicBezTo>
                <a:cubicBezTo>
                  <a:pt x="17131" y="14374"/>
                  <a:pt x="17008" y="14383"/>
                  <a:pt x="17050" y="14383"/>
                </a:cubicBezTo>
                <a:cubicBezTo>
                  <a:pt x="17090" y="14383"/>
                  <a:pt x="17134" y="14372"/>
                  <a:pt x="17145" y="14351"/>
                </a:cubicBezTo>
                <a:cubicBezTo>
                  <a:pt x="17160" y="14321"/>
                  <a:pt x="17208" y="14296"/>
                  <a:pt x="17145" y="14288"/>
                </a:cubicBezTo>
                <a:cubicBezTo>
                  <a:pt x="17109" y="14288"/>
                  <a:pt x="17096" y="14291"/>
                  <a:pt x="17082" y="14319"/>
                </a:cubicBezTo>
              </a:path>
              <a:path w="1747" h="1842">
                <a:moveTo>
                  <a:pt x="18034" y="13081"/>
                </a:moveTo>
                <a:cubicBezTo>
                  <a:pt x="18020" y="13040"/>
                  <a:pt x="18020" y="12961"/>
                  <a:pt x="18002" y="12922"/>
                </a:cubicBezTo>
                <a:cubicBezTo>
                  <a:pt x="17973" y="12859"/>
                  <a:pt x="17954" y="12795"/>
                  <a:pt x="17907" y="12732"/>
                </a:cubicBezTo>
                <a:cubicBezTo>
                  <a:pt x="17889" y="12708"/>
                  <a:pt x="17806" y="12633"/>
                  <a:pt x="17780" y="12636"/>
                </a:cubicBezTo>
                <a:cubicBezTo>
                  <a:pt x="17760" y="12638"/>
                  <a:pt x="17607" y="12744"/>
                  <a:pt x="17590" y="12764"/>
                </a:cubicBezTo>
                <a:cubicBezTo>
                  <a:pt x="17529" y="12835"/>
                  <a:pt x="17494" y="12964"/>
                  <a:pt x="17462" y="13049"/>
                </a:cubicBezTo>
                <a:cubicBezTo>
                  <a:pt x="17412" y="13183"/>
                  <a:pt x="17399" y="13288"/>
                  <a:pt x="17399" y="13430"/>
                </a:cubicBezTo>
                <a:cubicBezTo>
                  <a:pt x="17399" y="13475"/>
                  <a:pt x="17411" y="13599"/>
                  <a:pt x="17462" y="13621"/>
                </a:cubicBezTo>
                <a:cubicBezTo>
                  <a:pt x="17509" y="13641"/>
                  <a:pt x="17559" y="13615"/>
                  <a:pt x="17590" y="13589"/>
                </a:cubicBezTo>
                <a:cubicBezTo>
                  <a:pt x="17665" y="13528"/>
                  <a:pt x="17685" y="13456"/>
                  <a:pt x="17716" y="13367"/>
                </a:cubicBezTo>
                <a:cubicBezTo>
                  <a:pt x="17751" y="13264"/>
                  <a:pt x="17822" y="13154"/>
                  <a:pt x="17844" y="13049"/>
                </a:cubicBezTo>
                <a:cubicBezTo>
                  <a:pt x="17856" y="12994"/>
                  <a:pt x="17858" y="12970"/>
                  <a:pt x="17875" y="12922"/>
                </a:cubicBezTo>
                <a:cubicBezTo>
                  <a:pt x="17875" y="13037"/>
                  <a:pt x="17891" y="13129"/>
                  <a:pt x="17907" y="13240"/>
                </a:cubicBezTo>
                <a:cubicBezTo>
                  <a:pt x="17925" y="13363"/>
                  <a:pt x="17925" y="13499"/>
                  <a:pt x="17939" y="13621"/>
                </a:cubicBezTo>
                <a:cubicBezTo>
                  <a:pt x="17956" y="13775"/>
                  <a:pt x="17928" y="13918"/>
                  <a:pt x="17907" y="14065"/>
                </a:cubicBezTo>
                <a:cubicBezTo>
                  <a:pt x="17896" y="14142"/>
                  <a:pt x="17891" y="14144"/>
                  <a:pt x="17939" y="14129"/>
                </a:cubicBezTo>
              </a:path>
              <a:path w="1747" h="1842">
                <a:moveTo>
                  <a:pt x="18193" y="12922"/>
                </a:moveTo>
                <a:cubicBezTo>
                  <a:pt x="18230" y="12821"/>
                  <a:pt x="18240" y="12780"/>
                  <a:pt x="18320" y="12700"/>
                </a:cubicBezTo>
                <a:cubicBezTo>
                  <a:pt x="18361" y="12659"/>
                  <a:pt x="18390" y="12611"/>
                  <a:pt x="18447" y="12605"/>
                </a:cubicBezTo>
                <a:cubicBezTo>
                  <a:pt x="18510" y="12598"/>
                  <a:pt x="18517" y="12603"/>
                  <a:pt x="18542" y="12636"/>
                </a:cubicBezTo>
                <a:cubicBezTo>
                  <a:pt x="18579" y="12685"/>
                  <a:pt x="18593" y="12760"/>
                  <a:pt x="18574" y="12827"/>
                </a:cubicBezTo>
                <a:cubicBezTo>
                  <a:pt x="18548" y="12920"/>
                  <a:pt x="18488" y="13026"/>
                  <a:pt x="18447" y="13113"/>
                </a:cubicBezTo>
                <a:cubicBezTo>
                  <a:pt x="18415" y="13180"/>
                  <a:pt x="18299" y="13356"/>
                  <a:pt x="18352" y="13303"/>
                </a:cubicBezTo>
                <a:cubicBezTo>
                  <a:pt x="18392" y="13263"/>
                  <a:pt x="18403" y="13221"/>
                  <a:pt x="18447" y="13176"/>
                </a:cubicBezTo>
                <a:cubicBezTo>
                  <a:pt x="18479" y="13143"/>
                  <a:pt x="18529" y="13118"/>
                  <a:pt x="18574" y="13113"/>
                </a:cubicBezTo>
                <a:cubicBezTo>
                  <a:pt x="18631" y="13107"/>
                  <a:pt x="18689" y="13191"/>
                  <a:pt x="18701" y="13240"/>
                </a:cubicBezTo>
                <a:cubicBezTo>
                  <a:pt x="18723" y="13334"/>
                  <a:pt x="18748" y="13497"/>
                  <a:pt x="18732" y="13589"/>
                </a:cubicBezTo>
                <a:cubicBezTo>
                  <a:pt x="18713" y="13699"/>
                  <a:pt x="18709" y="13829"/>
                  <a:pt x="18669" y="13938"/>
                </a:cubicBezTo>
                <a:cubicBezTo>
                  <a:pt x="18649" y="13994"/>
                  <a:pt x="18594" y="14064"/>
                  <a:pt x="18542" y="14097"/>
                </a:cubicBezTo>
                <a:cubicBezTo>
                  <a:pt x="18481" y="14136"/>
                  <a:pt x="18418" y="14143"/>
                  <a:pt x="18383" y="14065"/>
                </a:cubicBezTo>
                <a:cubicBezTo>
                  <a:pt x="18374" y="14045"/>
                  <a:pt x="18383" y="13993"/>
                  <a:pt x="18383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5075280" y="5257800"/>
            <a:ext cx="2538360" cy="1017720"/>
          </a:xfrm>
          <a:custGeom>
            <a:avLst/>
            <a:gdLst/>
            <a:ahLst/>
            <a:rect l="l" t="t" r="r" b="b"/>
            <a:pathLst>
              <a:path w="7050" h="2827">
                <a:moveTo>
                  <a:pt x="14160" y="15399"/>
                </a:moveTo>
                <a:cubicBezTo>
                  <a:pt x="14108" y="15416"/>
                  <a:pt x="14129" y="15462"/>
                  <a:pt x="14129" y="15526"/>
                </a:cubicBezTo>
                <a:cubicBezTo>
                  <a:pt x="14129" y="15886"/>
                  <a:pt x="14145" y="16253"/>
                  <a:pt x="14097" y="16605"/>
                </a:cubicBezTo>
                <a:cubicBezTo>
                  <a:pt x="14083" y="16707"/>
                  <a:pt x="14097" y="16820"/>
                  <a:pt x="14097" y="16923"/>
                </a:cubicBezTo>
              </a:path>
              <a:path w="7050" h="2827">
                <a:moveTo>
                  <a:pt x="14351" y="15748"/>
                </a:moveTo>
                <a:cubicBezTo>
                  <a:pt x="14351" y="15681"/>
                  <a:pt x="14366" y="15670"/>
                  <a:pt x="14414" y="15621"/>
                </a:cubicBezTo>
                <a:cubicBezTo>
                  <a:pt x="14462" y="15572"/>
                  <a:pt x="14446" y="15554"/>
                  <a:pt x="14510" y="15526"/>
                </a:cubicBezTo>
                <a:cubicBezTo>
                  <a:pt x="14568" y="15501"/>
                  <a:pt x="14613" y="15476"/>
                  <a:pt x="14668" y="15462"/>
                </a:cubicBezTo>
                <a:cubicBezTo>
                  <a:pt x="14711" y="15451"/>
                  <a:pt x="14757" y="15526"/>
                  <a:pt x="14764" y="15558"/>
                </a:cubicBezTo>
                <a:cubicBezTo>
                  <a:pt x="14788" y="15666"/>
                  <a:pt x="14742" y="15773"/>
                  <a:pt x="14732" y="15875"/>
                </a:cubicBezTo>
                <a:cubicBezTo>
                  <a:pt x="14718" y="16026"/>
                  <a:pt x="14685" y="16142"/>
                  <a:pt x="14637" y="16288"/>
                </a:cubicBezTo>
                <a:cubicBezTo>
                  <a:pt x="14578" y="16466"/>
                  <a:pt x="14533" y="16655"/>
                  <a:pt x="14478" y="16828"/>
                </a:cubicBezTo>
                <a:cubicBezTo>
                  <a:pt x="14465" y="16868"/>
                  <a:pt x="14380" y="16939"/>
                  <a:pt x="14414" y="16891"/>
                </a:cubicBezTo>
                <a:cubicBezTo>
                  <a:pt x="14461" y="16825"/>
                  <a:pt x="14525" y="16764"/>
                  <a:pt x="14573" y="16700"/>
                </a:cubicBezTo>
                <a:cubicBezTo>
                  <a:pt x="14601" y="16662"/>
                  <a:pt x="14689" y="16648"/>
                  <a:pt x="14732" y="16669"/>
                </a:cubicBezTo>
                <a:cubicBezTo>
                  <a:pt x="14796" y="16700"/>
                  <a:pt x="14843" y="16726"/>
                  <a:pt x="14891" y="16764"/>
                </a:cubicBezTo>
                <a:cubicBezTo>
                  <a:pt x="14945" y="16807"/>
                  <a:pt x="14931" y="16805"/>
                  <a:pt x="14986" y="16764"/>
                </a:cubicBezTo>
              </a:path>
              <a:path w="7050" h="2827">
                <a:moveTo>
                  <a:pt x="15113" y="15621"/>
                </a:moveTo>
                <a:cubicBezTo>
                  <a:pt x="15058" y="15635"/>
                  <a:pt x="15027" y="15682"/>
                  <a:pt x="15018" y="15748"/>
                </a:cubicBezTo>
                <a:cubicBezTo>
                  <a:pt x="15002" y="15861"/>
                  <a:pt x="14990" y="15984"/>
                  <a:pt x="14986" y="16097"/>
                </a:cubicBezTo>
                <a:cubicBezTo>
                  <a:pt x="14981" y="16222"/>
                  <a:pt x="15015" y="16359"/>
                  <a:pt x="15050" y="16478"/>
                </a:cubicBezTo>
                <a:cubicBezTo>
                  <a:pt x="15081" y="16583"/>
                  <a:pt x="15123" y="16617"/>
                  <a:pt x="15176" y="16700"/>
                </a:cubicBezTo>
                <a:cubicBezTo>
                  <a:pt x="15187" y="16721"/>
                  <a:pt x="15197" y="16743"/>
                  <a:pt x="15208" y="16764"/>
                </a:cubicBezTo>
                <a:cubicBezTo>
                  <a:pt x="15290" y="16764"/>
                  <a:pt x="15282" y="16728"/>
                  <a:pt x="15335" y="16669"/>
                </a:cubicBezTo>
                <a:cubicBezTo>
                  <a:pt x="15412" y="16583"/>
                  <a:pt x="15426" y="16496"/>
                  <a:pt x="15430" y="16383"/>
                </a:cubicBezTo>
                <a:cubicBezTo>
                  <a:pt x="15435" y="16239"/>
                  <a:pt x="15413" y="16108"/>
                  <a:pt x="15399" y="15970"/>
                </a:cubicBezTo>
                <a:cubicBezTo>
                  <a:pt x="15387" y="15855"/>
                  <a:pt x="15373" y="15752"/>
                  <a:pt x="15304" y="15653"/>
                </a:cubicBezTo>
                <a:cubicBezTo>
                  <a:pt x="15278" y="15616"/>
                  <a:pt x="15193" y="15562"/>
                  <a:pt x="15145" y="15589"/>
                </a:cubicBezTo>
                <a:cubicBezTo>
                  <a:pt x="15127" y="15599"/>
                  <a:pt x="15023" y="15645"/>
                  <a:pt x="15018" y="15653"/>
                </a:cubicBezTo>
                <a:cubicBezTo>
                  <a:pt x="15018" y="15663"/>
                  <a:pt x="15018" y="15674"/>
                  <a:pt x="15018" y="15684"/>
                </a:cubicBezTo>
              </a:path>
              <a:path w="7050" h="2827">
                <a:moveTo>
                  <a:pt x="15621" y="16542"/>
                </a:moveTo>
                <a:cubicBezTo>
                  <a:pt x="15608" y="16592"/>
                  <a:pt x="15589" y="16612"/>
                  <a:pt x="15589" y="16669"/>
                </a:cubicBezTo>
                <a:cubicBezTo>
                  <a:pt x="15589" y="16896"/>
                  <a:pt x="15618" y="17162"/>
                  <a:pt x="15558" y="17367"/>
                </a:cubicBezTo>
                <a:cubicBezTo>
                  <a:pt x="15558" y="17399"/>
                  <a:pt x="15558" y="17410"/>
                  <a:pt x="15558" y="17431"/>
                </a:cubicBezTo>
              </a:path>
              <a:path w="7050" h="2827">
                <a:moveTo>
                  <a:pt x="15812" y="15907"/>
                </a:moveTo>
                <a:cubicBezTo>
                  <a:pt x="15837" y="15855"/>
                  <a:pt x="15848" y="15847"/>
                  <a:pt x="15843" y="15812"/>
                </a:cubicBezTo>
                <a:cubicBezTo>
                  <a:pt x="15831" y="15913"/>
                  <a:pt x="15812" y="15991"/>
                  <a:pt x="15812" y="16097"/>
                </a:cubicBezTo>
                <a:cubicBezTo>
                  <a:pt x="15812" y="16273"/>
                  <a:pt x="15825" y="16435"/>
                  <a:pt x="15843" y="16605"/>
                </a:cubicBezTo>
                <a:cubicBezTo>
                  <a:pt x="15853" y="16694"/>
                  <a:pt x="15853" y="16882"/>
                  <a:pt x="15907" y="16954"/>
                </a:cubicBezTo>
                <a:cubicBezTo>
                  <a:pt x="15943" y="16954"/>
                  <a:pt x="15956" y="16957"/>
                  <a:pt x="15970" y="16986"/>
                </a:cubicBezTo>
                <a:cubicBezTo>
                  <a:pt x="16009" y="16935"/>
                  <a:pt x="16056" y="16867"/>
                  <a:pt x="16066" y="16796"/>
                </a:cubicBezTo>
                <a:cubicBezTo>
                  <a:pt x="16086" y="16648"/>
                  <a:pt x="16097" y="16503"/>
                  <a:pt x="16097" y="16351"/>
                </a:cubicBezTo>
                <a:cubicBezTo>
                  <a:pt x="16097" y="16223"/>
                  <a:pt x="16085" y="16120"/>
                  <a:pt x="16066" y="16002"/>
                </a:cubicBezTo>
                <a:cubicBezTo>
                  <a:pt x="16053" y="15919"/>
                  <a:pt x="16031" y="15874"/>
                  <a:pt x="15938" y="15843"/>
                </a:cubicBezTo>
                <a:cubicBezTo>
                  <a:pt x="15905" y="15832"/>
                  <a:pt x="15847" y="15843"/>
                  <a:pt x="15812" y="15843"/>
                </a:cubicBezTo>
              </a:path>
              <a:path w="7050" h="2827">
                <a:moveTo>
                  <a:pt x="16320" y="15780"/>
                </a:moveTo>
                <a:cubicBezTo>
                  <a:pt x="16280" y="15846"/>
                  <a:pt x="16276" y="15896"/>
                  <a:pt x="16256" y="15970"/>
                </a:cubicBezTo>
                <a:cubicBezTo>
                  <a:pt x="16223" y="16092"/>
                  <a:pt x="16224" y="16192"/>
                  <a:pt x="16224" y="16320"/>
                </a:cubicBezTo>
                <a:cubicBezTo>
                  <a:pt x="16224" y="16441"/>
                  <a:pt x="16232" y="16553"/>
                  <a:pt x="16256" y="16669"/>
                </a:cubicBezTo>
                <a:cubicBezTo>
                  <a:pt x="16271" y="16740"/>
                  <a:pt x="16301" y="16855"/>
                  <a:pt x="16383" y="16891"/>
                </a:cubicBezTo>
                <a:cubicBezTo>
                  <a:pt x="16452" y="16922"/>
                  <a:pt x="16499" y="16871"/>
                  <a:pt x="16542" y="16828"/>
                </a:cubicBezTo>
                <a:cubicBezTo>
                  <a:pt x="16612" y="16759"/>
                  <a:pt x="16614" y="16660"/>
                  <a:pt x="16637" y="16574"/>
                </a:cubicBezTo>
                <a:cubicBezTo>
                  <a:pt x="16668" y="16457"/>
                  <a:pt x="16692" y="16316"/>
                  <a:pt x="16669" y="16192"/>
                </a:cubicBezTo>
                <a:cubicBezTo>
                  <a:pt x="16649" y="16086"/>
                  <a:pt x="16638" y="15968"/>
                  <a:pt x="16574" y="15875"/>
                </a:cubicBezTo>
                <a:cubicBezTo>
                  <a:pt x="16547" y="15836"/>
                  <a:pt x="16467" y="15759"/>
                  <a:pt x="16415" y="15780"/>
                </a:cubicBezTo>
                <a:cubicBezTo>
                  <a:pt x="16368" y="15799"/>
                  <a:pt x="16327" y="15836"/>
                  <a:pt x="16288" y="15875"/>
                </a:cubicBezTo>
              </a:path>
              <a:path w="7050" h="2827">
                <a:moveTo>
                  <a:pt x="16732" y="15716"/>
                </a:moveTo>
                <a:cubicBezTo>
                  <a:pt x="16802" y="15739"/>
                  <a:pt x="16736" y="15731"/>
                  <a:pt x="16732" y="15780"/>
                </a:cubicBezTo>
                <a:cubicBezTo>
                  <a:pt x="16725" y="15870"/>
                  <a:pt x="16680" y="15947"/>
                  <a:pt x="16669" y="16034"/>
                </a:cubicBezTo>
                <a:cubicBezTo>
                  <a:pt x="16651" y="16176"/>
                  <a:pt x="16688" y="16311"/>
                  <a:pt x="16700" y="16446"/>
                </a:cubicBezTo>
                <a:cubicBezTo>
                  <a:pt x="16712" y="16580"/>
                  <a:pt x="16719" y="16709"/>
                  <a:pt x="16796" y="16828"/>
                </a:cubicBezTo>
                <a:cubicBezTo>
                  <a:pt x="16815" y="16858"/>
                  <a:pt x="16889" y="16878"/>
                  <a:pt x="16923" y="16859"/>
                </a:cubicBezTo>
                <a:cubicBezTo>
                  <a:pt x="16991" y="16822"/>
                  <a:pt x="17063" y="16708"/>
                  <a:pt x="17082" y="16637"/>
                </a:cubicBezTo>
                <a:cubicBezTo>
                  <a:pt x="17112" y="16525"/>
                  <a:pt x="17113" y="16406"/>
                  <a:pt x="17113" y="16288"/>
                </a:cubicBezTo>
                <a:cubicBezTo>
                  <a:pt x="17113" y="16159"/>
                  <a:pt x="17100" y="16060"/>
                  <a:pt x="17050" y="15938"/>
                </a:cubicBezTo>
                <a:cubicBezTo>
                  <a:pt x="17005" y="15829"/>
                  <a:pt x="16975" y="15831"/>
                  <a:pt x="16891" y="15780"/>
                </a:cubicBezTo>
                <a:cubicBezTo>
                  <a:pt x="16872" y="15769"/>
                  <a:pt x="16755" y="15751"/>
                  <a:pt x="16732" y="15780"/>
                </a:cubicBezTo>
                <a:cubicBezTo>
                  <a:pt x="16732" y="15791"/>
                  <a:pt x="16732" y="15801"/>
                  <a:pt x="16732" y="15812"/>
                </a:cubicBezTo>
              </a:path>
              <a:path w="7050" h="2827">
                <a:moveTo>
                  <a:pt x="17462" y="16256"/>
                </a:moveTo>
                <a:cubicBezTo>
                  <a:pt x="17462" y="16307"/>
                  <a:pt x="17474" y="16239"/>
                  <a:pt x="17431" y="16224"/>
                </a:cubicBezTo>
                <a:cubicBezTo>
                  <a:pt x="17431" y="16277"/>
                  <a:pt x="17431" y="16330"/>
                  <a:pt x="17431" y="16383"/>
                </a:cubicBezTo>
              </a:path>
              <a:path w="7050" h="2827">
                <a:moveTo>
                  <a:pt x="17970" y="16796"/>
                </a:moveTo>
                <a:cubicBezTo>
                  <a:pt x="17923" y="16812"/>
                  <a:pt x="17939" y="16835"/>
                  <a:pt x="17939" y="16891"/>
                </a:cubicBezTo>
                <a:cubicBezTo>
                  <a:pt x="17939" y="16933"/>
                  <a:pt x="17939" y="16976"/>
                  <a:pt x="17939" y="17018"/>
                </a:cubicBezTo>
                <a:cubicBezTo>
                  <a:pt x="17974" y="17000"/>
                  <a:pt x="17939" y="16988"/>
                  <a:pt x="17939" y="16923"/>
                </a:cubicBezTo>
                <a:cubicBezTo>
                  <a:pt x="17939" y="16901"/>
                  <a:pt x="17907" y="16833"/>
                  <a:pt x="17907" y="16891"/>
                </a:cubicBezTo>
                <a:cubicBezTo>
                  <a:pt x="17907" y="16959"/>
                  <a:pt x="17882" y="17031"/>
                  <a:pt x="17939" y="17050"/>
                </a:cubicBezTo>
              </a:path>
              <a:path w="7050" h="2827">
                <a:moveTo>
                  <a:pt x="18669" y="15748"/>
                </a:moveTo>
                <a:cubicBezTo>
                  <a:pt x="18669" y="15707"/>
                  <a:pt x="18659" y="15664"/>
                  <a:pt x="18637" y="15653"/>
                </a:cubicBezTo>
                <a:cubicBezTo>
                  <a:pt x="18602" y="15636"/>
                  <a:pt x="18542" y="15639"/>
                  <a:pt x="18510" y="15621"/>
                </a:cubicBezTo>
                <a:cubicBezTo>
                  <a:pt x="18479" y="15604"/>
                  <a:pt x="18429" y="15563"/>
                  <a:pt x="18383" y="15589"/>
                </a:cubicBezTo>
                <a:cubicBezTo>
                  <a:pt x="18309" y="15631"/>
                  <a:pt x="18310" y="15685"/>
                  <a:pt x="18288" y="15748"/>
                </a:cubicBezTo>
                <a:cubicBezTo>
                  <a:pt x="18253" y="15848"/>
                  <a:pt x="18256" y="15924"/>
                  <a:pt x="18256" y="16034"/>
                </a:cubicBezTo>
                <a:cubicBezTo>
                  <a:pt x="18256" y="16111"/>
                  <a:pt x="18284" y="16193"/>
                  <a:pt x="18320" y="16224"/>
                </a:cubicBezTo>
                <a:cubicBezTo>
                  <a:pt x="18331" y="16235"/>
                  <a:pt x="18341" y="16245"/>
                  <a:pt x="18352" y="16256"/>
                </a:cubicBezTo>
                <a:cubicBezTo>
                  <a:pt x="18422" y="16238"/>
                  <a:pt x="18443" y="16195"/>
                  <a:pt x="18478" y="16129"/>
                </a:cubicBezTo>
                <a:cubicBezTo>
                  <a:pt x="18519" y="16052"/>
                  <a:pt x="18541" y="15960"/>
                  <a:pt x="18574" y="15875"/>
                </a:cubicBezTo>
                <a:cubicBezTo>
                  <a:pt x="18610" y="15784"/>
                  <a:pt x="18608" y="15729"/>
                  <a:pt x="18669" y="15653"/>
                </a:cubicBezTo>
                <a:cubicBezTo>
                  <a:pt x="18669" y="15879"/>
                  <a:pt x="18676" y="16099"/>
                  <a:pt x="18701" y="16320"/>
                </a:cubicBezTo>
                <a:cubicBezTo>
                  <a:pt x="18719" y="16485"/>
                  <a:pt x="18701" y="16662"/>
                  <a:pt x="18701" y="16828"/>
                </a:cubicBezTo>
              </a:path>
              <a:path w="7050" h="2827">
                <a:moveTo>
                  <a:pt x="18860" y="15653"/>
                </a:moveTo>
                <a:cubicBezTo>
                  <a:pt x="18868" y="15619"/>
                  <a:pt x="18886" y="15544"/>
                  <a:pt x="18923" y="15526"/>
                </a:cubicBezTo>
                <a:cubicBezTo>
                  <a:pt x="18970" y="15503"/>
                  <a:pt x="19003" y="15446"/>
                  <a:pt x="19050" y="15399"/>
                </a:cubicBezTo>
                <a:cubicBezTo>
                  <a:pt x="19069" y="15380"/>
                  <a:pt x="19184" y="15335"/>
                  <a:pt x="19209" y="15367"/>
                </a:cubicBezTo>
                <a:cubicBezTo>
                  <a:pt x="19246" y="15413"/>
                  <a:pt x="19240" y="15495"/>
                  <a:pt x="19240" y="15558"/>
                </a:cubicBezTo>
                <a:cubicBezTo>
                  <a:pt x="19240" y="15668"/>
                  <a:pt x="19198" y="15807"/>
                  <a:pt x="19145" y="15907"/>
                </a:cubicBezTo>
                <a:cubicBezTo>
                  <a:pt x="19131" y="15933"/>
                  <a:pt x="19065" y="16056"/>
                  <a:pt x="19050" y="16066"/>
                </a:cubicBezTo>
                <a:cubicBezTo>
                  <a:pt x="19039" y="16066"/>
                  <a:pt x="19029" y="16066"/>
                  <a:pt x="19018" y="16066"/>
                </a:cubicBezTo>
                <a:cubicBezTo>
                  <a:pt x="19031" y="16027"/>
                  <a:pt x="19043" y="15986"/>
                  <a:pt x="19082" y="15938"/>
                </a:cubicBezTo>
                <a:cubicBezTo>
                  <a:pt x="19124" y="15886"/>
                  <a:pt x="19146" y="15875"/>
                  <a:pt x="19209" y="15875"/>
                </a:cubicBezTo>
                <a:cubicBezTo>
                  <a:pt x="19254" y="15875"/>
                  <a:pt x="19320" y="15882"/>
                  <a:pt x="19336" y="15938"/>
                </a:cubicBezTo>
                <a:cubicBezTo>
                  <a:pt x="19357" y="16011"/>
                  <a:pt x="19389" y="16117"/>
                  <a:pt x="19399" y="16192"/>
                </a:cubicBezTo>
                <a:cubicBezTo>
                  <a:pt x="19411" y="16289"/>
                  <a:pt x="19396" y="16420"/>
                  <a:pt x="19368" y="16510"/>
                </a:cubicBezTo>
                <a:cubicBezTo>
                  <a:pt x="19345" y="16584"/>
                  <a:pt x="19254" y="16719"/>
                  <a:pt x="19209" y="16764"/>
                </a:cubicBezTo>
                <a:cubicBezTo>
                  <a:pt x="19172" y="16801"/>
                  <a:pt x="19072" y="16855"/>
                  <a:pt x="19018" y="16828"/>
                </a:cubicBezTo>
                <a:cubicBezTo>
                  <a:pt x="18947" y="16793"/>
                  <a:pt x="18955" y="16784"/>
                  <a:pt x="18955" y="16700"/>
                </a:cubicBezTo>
                <a:cubicBezTo>
                  <a:pt x="18955" y="16690"/>
                  <a:pt x="18955" y="16679"/>
                  <a:pt x="18955" y="16669"/>
                </a:cubicBezTo>
              </a:path>
              <a:path w="7050" h="2827">
                <a:moveTo>
                  <a:pt x="19876" y="14605"/>
                </a:moveTo>
                <a:cubicBezTo>
                  <a:pt x="19826" y="14618"/>
                  <a:pt x="19795" y="14653"/>
                  <a:pt x="19748" y="14668"/>
                </a:cubicBezTo>
                <a:cubicBezTo>
                  <a:pt x="19709" y="14681"/>
                  <a:pt x="19659" y="14696"/>
                  <a:pt x="19622" y="14700"/>
                </a:cubicBezTo>
                <a:cubicBezTo>
                  <a:pt x="19555" y="14707"/>
                  <a:pt x="19558" y="14737"/>
                  <a:pt x="19558" y="14796"/>
                </a:cubicBezTo>
                <a:cubicBezTo>
                  <a:pt x="19558" y="14870"/>
                  <a:pt x="19558" y="14944"/>
                  <a:pt x="19558" y="15018"/>
                </a:cubicBezTo>
                <a:cubicBezTo>
                  <a:pt x="19621" y="15002"/>
                  <a:pt x="19657" y="14942"/>
                  <a:pt x="19717" y="14922"/>
                </a:cubicBezTo>
                <a:cubicBezTo>
                  <a:pt x="19750" y="14911"/>
                  <a:pt x="19820" y="14965"/>
                  <a:pt x="19844" y="14986"/>
                </a:cubicBezTo>
                <a:cubicBezTo>
                  <a:pt x="19879" y="15017"/>
                  <a:pt x="19900" y="15161"/>
                  <a:pt x="19907" y="15208"/>
                </a:cubicBezTo>
                <a:cubicBezTo>
                  <a:pt x="19917" y="15279"/>
                  <a:pt x="19869" y="15368"/>
                  <a:pt x="19844" y="15430"/>
                </a:cubicBezTo>
                <a:cubicBezTo>
                  <a:pt x="19818" y="15495"/>
                  <a:pt x="19752" y="15551"/>
                  <a:pt x="19685" y="15558"/>
                </a:cubicBezTo>
                <a:cubicBezTo>
                  <a:pt x="19654" y="15561"/>
                  <a:pt x="19621" y="15558"/>
                  <a:pt x="19590" y="15558"/>
                </a:cubicBezTo>
              </a:path>
              <a:path w="7050" h="2827">
                <a:moveTo>
                  <a:pt x="20320" y="15780"/>
                </a:moveTo>
                <a:cubicBezTo>
                  <a:pt x="20341" y="15717"/>
                  <a:pt x="20357" y="15769"/>
                  <a:pt x="20415" y="15748"/>
                </a:cubicBezTo>
                <a:cubicBezTo>
                  <a:pt x="20474" y="15727"/>
                  <a:pt x="20554" y="15695"/>
                  <a:pt x="20606" y="15684"/>
                </a:cubicBezTo>
                <a:cubicBezTo>
                  <a:pt x="20707" y="15664"/>
                  <a:pt x="20810" y="15698"/>
                  <a:pt x="20892" y="15716"/>
                </a:cubicBezTo>
                <a:cubicBezTo>
                  <a:pt x="20970" y="15733"/>
                  <a:pt x="20961" y="15722"/>
                  <a:pt x="21018" y="15780"/>
                </a:cubicBezTo>
              </a:path>
              <a:path w="7050" h="2827">
                <a:moveTo>
                  <a:pt x="20574" y="16192"/>
                </a:moveTo>
                <a:cubicBezTo>
                  <a:pt x="20642" y="16192"/>
                  <a:pt x="20664" y="16167"/>
                  <a:pt x="20733" y="16161"/>
                </a:cubicBezTo>
                <a:cubicBezTo>
                  <a:pt x="20849" y="16152"/>
                  <a:pt x="20943" y="16168"/>
                  <a:pt x="21050" y="16192"/>
                </a:cubicBezTo>
                <a:cubicBezTo>
                  <a:pt x="21095" y="16192"/>
                  <a:pt x="21118" y="16198"/>
                  <a:pt x="21146" y="1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7737480" y="5268960"/>
            <a:ext cx="1120680" cy="743040"/>
          </a:xfrm>
          <a:custGeom>
            <a:avLst/>
            <a:gdLst/>
            <a:ahLst/>
            <a:rect l="l" t="t" r="r" b="b"/>
            <a:pathLst>
              <a:path w="3112" h="2064">
                <a:moveTo>
                  <a:pt x="22066" y="15272"/>
                </a:moveTo>
                <a:cubicBezTo>
                  <a:pt x="22048" y="15225"/>
                  <a:pt x="22012" y="15159"/>
                  <a:pt x="22003" y="15113"/>
                </a:cubicBezTo>
                <a:cubicBezTo>
                  <a:pt x="21993" y="15063"/>
                  <a:pt x="21991" y="15031"/>
                  <a:pt x="21971" y="14986"/>
                </a:cubicBezTo>
                <a:cubicBezTo>
                  <a:pt x="21947" y="14932"/>
                  <a:pt x="21940" y="14906"/>
                  <a:pt x="21876" y="14891"/>
                </a:cubicBezTo>
                <a:cubicBezTo>
                  <a:pt x="21823" y="14879"/>
                  <a:pt x="21787" y="14892"/>
                  <a:pt x="21749" y="14922"/>
                </a:cubicBezTo>
                <a:cubicBezTo>
                  <a:pt x="21703" y="14959"/>
                  <a:pt x="21668" y="14972"/>
                  <a:pt x="21622" y="15018"/>
                </a:cubicBezTo>
                <a:cubicBezTo>
                  <a:pt x="21586" y="15054"/>
                  <a:pt x="21543" y="15065"/>
                  <a:pt x="21526" y="15113"/>
                </a:cubicBezTo>
                <a:cubicBezTo>
                  <a:pt x="21514" y="15146"/>
                  <a:pt x="21493" y="15227"/>
                  <a:pt x="21495" y="15240"/>
                </a:cubicBezTo>
                <a:cubicBezTo>
                  <a:pt x="21502" y="15274"/>
                  <a:pt x="21523" y="15300"/>
                  <a:pt x="21558" y="15335"/>
                </a:cubicBezTo>
                <a:cubicBezTo>
                  <a:pt x="21579" y="15356"/>
                  <a:pt x="21596" y="15390"/>
                  <a:pt x="21622" y="15430"/>
                </a:cubicBezTo>
                <a:cubicBezTo>
                  <a:pt x="21672" y="15507"/>
                  <a:pt x="21713" y="15573"/>
                  <a:pt x="21749" y="15653"/>
                </a:cubicBezTo>
                <a:cubicBezTo>
                  <a:pt x="21780" y="15723"/>
                  <a:pt x="21831" y="15810"/>
                  <a:pt x="21844" y="15875"/>
                </a:cubicBezTo>
                <a:cubicBezTo>
                  <a:pt x="21862" y="15963"/>
                  <a:pt x="21872" y="16073"/>
                  <a:pt x="21876" y="16161"/>
                </a:cubicBezTo>
                <a:cubicBezTo>
                  <a:pt x="21881" y="16268"/>
                  <a:pt x="21911" y="16458"/>
                  <a:pt x="21844" y="16542"/>
                </a:cubicBezTo>
                <a:cubicBezTo>
                  <a:pt x="21825" y="16566"/>
                  <a:pt x="21808" y="16594"/>
                  <a:pt x="21749" y="16574"/>
                </a:cubicBezTo>
                <a:cubicBezTo>
                  <a:pt x="21687" y="16553"/>
                  <a:pt x="21696" y="16367"/>
                  <a:pt x="21685" y="16320"/>
                </a:cubicBezTo>
                <a:cubicBezTo>
                  <a:pt x="21655" y="16189"/>
                  <a:pt x="21654" y="16074"/>
                  <a:pt x="21654" y="15938"/>
                </a:cubicBezTo>
                <a:cubicBezTo>
                  <a:pt x="21654" y="15804"/>
                  <a:pt x="21650" y="15654"/>
                  <a:pt x="21685" y="15526"/>
                </a:cubicBezTo>
                <a:cubicBezTo>
                  <a:pt x="21712" y="15427"/>
                  <a:pt x="21732" y="15363"/>
                  <a:pt x="21780" y="15272"/>
                </a:cubicBezTo>
                <a:cubicBezTo>
                  <a:pt x="21812" y="15208"/>
                  <a:pt x="21822" y="15187"/>
                  <a:pt x="21844" y="15145"/>
                </a:cubicBezTo>
              </a:path>
              <a:path w="3112" h="2064">
                <a:moveTo>
                  <a:pt x="22193" y="15145"/>
                </a:moveTo>
                <a:cubicBezTo>
                  <a:pt x="22193" y="15098"/>
                  <a:pt x="22202" y="15052"/>
                  <a:pt x="22225" y="15018"/>
                </a:cubicBezTo>
                <a:cubicBezTo>
                  <a:pt x="22259" y="14967"/>
                  <a:pt x="22279" y="14913"/>
                  <a:pt x="22320" y="14859"/>
                </a:cubicBezTo>
                <a:cubicBezTo>
                  <a:pt x="22364" y="14800"/>
                  <a:pt x="22408" y="14729"/>
                  <a:pt x="22479" y="14700"/>
                </a:cubicBezTo>
                <a:cubicBezTo>
                  <a:pt x="22534" y="14678"/>
                  <a:pt x="22567" y="14719"/>
                  <a:pt x="22606" y="14732"/>
                </a:cubicBezTo>
                <a:cubicBezTo>
                  <a:pt x="22659" y="14750"/>
                  <a:pt x="22638" y="14793"/>
                  <a:pt x="22638" y="14859"/>
                </a:cubicBezTo>
                <a:cubicBezTo>
                  <a:pt x="22638" y="14960"/>
                  <a:pt x="22631" y="15051"/>
                  <a:pt x="22606" y="15145"/>
                </a:cubicBezTo>
                <a:cubicBezTo>
                  <a:pt x="22593" y="15194"/>
                  <a:pt x="22552" y="15373"/>
                  <a:pt x="22511" y="15399"/>
                </a:cubicBezTo>
                <a:cubicBezTo>
                  <a:pt x="22478" y="15420"/>
                  <a:pt x="22487" y="15420"/>
                  <a:pt x="22447" y="15430"/>
                </a:cubicBezTo>
                <a:cubicBezTo>
                  <a:pt x="22472" y="15398"/>
                  <a:pt x="22472" y="15379"/>
                  <a:pt x="22511" y="15335"/>
                </a:cubicBezTo>
                <a:cubicBezTo>
                  <a:pt x="22541" y="15301"/>
                  <a:pt x="22539" y="15304"/>
                  <a:pt x="22606" y="15304"/>
                </a:cubicBezTo>
                <a:cubicBezTo>
                  <a:pt x="22684" y="15304"/>
                  <a:pt x="22696" y="15368"/>
                  <a:pt x="22701" y="15430"/>
                </a:cubicBezTo>
                <a:cubicBezTo>
                  <a:pt x="22709" y="15526"/>
                  <a:pt x="22710" y="15599"/>
                  <a:pt x="22701" y="15684"/>
                </a:cubicBezTo>
                <a:cubicBezTo>
                  <a:pt x="22689" y="15798"/>
                  <a:pt x="22696" y="15842"/>
                  <a:pt x="22638" y="15938"/>
                </a:cubicBezTo>
                <a:cubicBezTo>
                  <a:pt x="22594" y="16012"/>
                  <a:pt x="22562" y="16093"/>
                  <a:pt x="22511" y="16161"/>
                </a:cubicBezTo>
                <a:cubicBezTo>
                  <a:pt x="22480" y="16203"/>
                  <a:pt x="22400" y="16253"/>
                  <a:pt x="22352" y="16256"/>
                </a:cubicBezTo>
                <a:cubicBezTo>
                  <a:pt x="22276" y="16261"/>
                  <a:pt x="22224" y="16266"/>
                  <a:pt x="22193" y="16224"/>
                </a:cubicBezTo>
                <a:cubicBezTo>
                  <a:pt x="22156" y="16173"/>
                  <a:pt x="22173" y="16186"/>
                  <a:pt x="22162" y="16129"/>
                </a:cubicBezTo>
              </a:path>
              <a:path w="3112" h="2064">
                <a:moveTo>
                  <a:pt x="22860" y="15780"/>
                </a:moveTo>
                <a:cubicBezTo>
                  <a:pt x="22873" y="15830"/>
                  <a:pt x="22892" y="15850"/>
                  <a:pt x="22892" y="15907"/>
                </a:cubicBezTo>
                <a:cubicBezTo>
                  <a:pt x="22892" y="16171"/>
                  <a:pt x="22892" y="16436"/>
                  <a:pt x="22892" y="16700"/>
                </a:cubicBezTo>
              </a:path>
              <a:path w="3112" h="2064">
                <a:moveTo>
                  <a:pt x="23178" y="14827"/>
                </a:moveTo>
                <a:cubicBezTo>
                  <a:pt x="23178" y="15059"/>
                  <a:pt x="23113" y="15378"/>
                  <a:pt x="23146" y="15589"/>
                </a:cubicBezTo>
                <a:cubicBezTo>
                  <a:pt x="23153" y="15635"/>
                  <a:pt x="23135" y="15670"/>
                  <a:pt x="23178" y="15653"/>
                </a:cubicBezTo>
                <a:cubicBezTo>
                  <a:pt x="23238" y="15629"/>
                  <a:pt x="23264" y="15589"/>
                  <a:pt x="23336" y="15589"/>
                </a:cubicBezTo>
                <a:cubicBezTo>
                  <a:pt x="23383" y="15589"/>
                  <a:pt x="23429" y="15598"/>
                  <a:pt x="23463" y="15621"/>
                </a:cubicBezTo>
                <a:cubicBezTo>
                  <a:pt x="23492" y="15650"/>
                  <a:pt x="23498" y="15661"/>
                  <a:pt x="23527" y="15653"/>
                </a:cubicBezTo>
              </a:path>
              <a:path w="3112" h="2064">
                <a:moveTo>
                  <a:pt x="23527" y="14732"/>
                </a:moveTo>
                <a:cubicBezTo>
                  <a:pt x="23491" y="14828"/>
                  <a:pt x="23474" y="14947"/>
                  <a:pt x="23463" y="15050"/>
                </a:cubicBezTo>
                <a:cubicBezTo>
                  <a:pt x="23440" y="15254"/>
                  <a:pt x="23478" y="15454"/>
                  <a:pt x="23495" y="15653"/>
                </a:cubicBezTo>
                <a:cubicBezTo>
                  <a:pt x="23513" y="15863"/>
                  <a:pt x="23570" y="16333"/>
                  <a:pt x="23463" y="16510"/>
                </a:cubicBezTo>
              </a:path>
              <a:path w="3112" h="2064">
                <a:moveTo>
                  <a:pt x="24003" y="14859"/>
                </a:moveTo>
                <a:cubicBezTo>
                  <a:pt x="24003" y="14793"/>
                  <a:pt x="24006" y="14796"/>
                  <a:pt x="23940" y="14796"/>
                </a:cubicBezTo>
                <a:cubicBezTo>
                  <a:pt x="23889" y="14796"/>
                  <a:pt x="23821" y="14803"/>
                  <a:pt x="23781" y="14827"/>
                </a:cubicBezTo>
                <a:cubicBezTo>
                  <a:pt x="23728" y="14859"/>
                  <a:pt x="23706" y="14939"/>
                  <a:pt x="23686" y="14986"/>
                </a:cubicBezTo>
                <a:cubicBezTo>
                  <a:pt x="23651" y="15068"/>
                  <a:pt x="23654" y="15117"/>
                  <a:pt x="23654" y="15208"/>
                </a:cubicBezTo>
                <a:cubicBezTo>
                  <a:pt x="23654" y="15304"/>
                  <a:pt x="23649" y="15332"/>
                  <a:pt x="23717" y="15399"/>
                </a:cubicBezTo>
                <a:cubicBezTo>
                  <a:pt x="23798" y="15479"/>
                  <a:pt x="23887" y="15552"/>
                  <a:pt x="23940" y="15653"/>
                </a:cubicBezTo>
                <a:cubicBezTo>
                  <a:pt x="23970" y="15711"/>
                  <a:pt x="24018" y="15842"/>
                  <a:pt x="24003" y="15907"/>
                </a:cubicBezTo>
                <a:cubicBezTo>
                  <a:pt x="23988" y="15972"/>
                  <a:pt x="23953" y="16048"/>
                  <a:pt x="23908" y="16097"/>
                </a:cubicBezTo>
                <a:cubicBezTo>
                  <a:pt x="23873" y="16136"/>
                  <a:pt x="23858" y="16150"/>
                  <a:pt x="23812" y="16161"/>
                </a:cubicBezTo>
                <a:cubicBezTo>
                  <a:pt x="23746" y="16144"/>
                  <a:pt x="23726" y="16072"/>
                  <a:pt x="23717" y="16002"/>
                </a:cubicBezTo>
                <a:cubicBezTo>
                  <a:pt x="23700" y="15876"/>
                  <a:pt x="23725" y="15709"/>
                  <a:pt x="23749" y="15589"/>
                </a:cubicBezTo>
                <a:cubicBezTo>
                  <a:pt x="23778" y="15445"/>
                  <a:pt x="23801" y="15285"/>
                  <a:pt x="23844" y="15145"/>
                </a:cubicBezTo>
                <a:cubicBezTo>
                  <a:pt x="23880" y="15072"/>
                  <a:pt x="23894" y="15042"/>
                  <a:pt x="23908" y="14986"/>
                </a:cubicBezTo>
              </a:path>
              <a:path w="3112" h="2064">
                <a:moveTo>
                  <a:pt x="24257" y="15050"/>
                </a:moveTo>
                <a:cubicBezTo>
                  <a:pt x="24270" y="14999"/>
                  <a:pt x="24273" y="14946"/>
                  <a:pt x="24289" y="14891"/>
                </a:cubicBezTo>
                <a:cubicBezTo>
                  <a:pt x="24312" y="14809"/>
                  <a:pt x="24324" y="14733"/>
                  <a:pt x="24384" y="14668"/>
                </a:cubicBezTo>
                <a:cubicBezTo>
                  <a:pt x="24413" y="14640"/>
                  <a:pt x="24419" y="14630"/>
                  <a:pt x="24448" y="14637"/>
                </a:cubicBezTo>
                <a:cubicBezTo>
                  <a:pt x="24476" y="14674"/>
                  <a:pt x="24502" y="14748"/>
                  <a:pt x="24511" y="14796"/>
                </a:cubicBezTo>
                <a:cubicBezTo>
                  <a:pt x="24531" y="14906"/>
                  <a:pt x="24496" y="15038"/>
                  <a:pt x="24479" y="15145"/>
                </a:cubicBezTo>
                <a:cubicBezTo>
                  <a:pt x="24451" y="15319"/>
                  <a:pt x="24427" y="15482"/>
                  <a:pt x="24384" y="15653"/>
                </a:cubicBezTo>
                <a:cubicBezTo>
                  <a:pt x="24344" y="15811"/>
                  <a:pt x="24322" y="15973"/>
                  <a:pt x="24289" y="16129"/>
                </a:cubicBezTo>
                <a:cubicBezTo>
                  <a:pt x="24271" y="16212"/>
                  <a:pt x="24235" y="16270"/>
                  <a:pt x="24225" y="16351"/>
                </a:cubicBezTo>
                <a:cubicBezTo>
                  <a:pt x="24274" y="16291"/>
                  <a:pt x="24341" y="16252"/>
                  <a:pt x="24384" y="16192"/>
                </a:cubicBezTo>
                <a:cubicBezTo>
                  <a:pt x="24431" y="16127"/>
                  <a:pt x="24490" y="16062"/>
                  <a:pt x="24574" y="16034"/>
                </a:cubicBezTo>
                <a:cubicBezTo>
                  <a:pt x="24585" y="16034"/>
                  <a:pt x="24595" y="16034"/>
                  <a:pt x="24606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00 rabbits in a lab.  Due to reproduction, they triple every 2 months.  How many will there be after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4"/>
          <p:cNvSpPr/>
          <p:nvPr/>
        </p:nvSpPr>
        <p:spPr>
          <a:xfrm>
            <a:off x="1943280" y="2811600"/>
            <a:ext cx="1795320" cy="799920"/>
          </a:xfrm>
          <a:custGeom>
            <a:avLst/>
            <a:gdLst/>
            <a:ahLst/>
            <a:rect l="l" t="t" r="r" b="b"/>
            <a:pathLst>
              <a:path w="4985" h="2224">
                <a:moveTo>
                  <a:pt x="5683" y="8414"/>
                </a:moveTo>
                <a:cubicBezTo>
                  <a:pt x="5683" y="8515"/>
                  <a:pt x="5693" y="8607"/>
                  <a:pt x="5652" y="8700"/>
                </a:cubicBezTo>
                <a:cubicBezTo>
                  <a:pt x="5611" y="8793"/>
                  <a:pt x="5602" y="8889"/>
                  <a:pt x="5556" y="8985"/>
                </a:cubicBezTo>
                <a:cubicBezTo>
                  <a:pt x="5511" y="9079"/>
                  <a:pt x="5467" y="9151"/>
                  <a:pt x="5429" y="9239"/>
                </a:cubicBezTo>
                <a:cubicBezTo>
                  <a:pt x="5429" y="9275"/>
                  <a:pt x="5426" y="9289"/>
                  <a:pt x="5398" y="9303"/>
                </a:cubicBezTo>
                <a:cubicBezTo>
                  <a:pt x="5415" y="9234"/>
                  <a:pt x="5444" y="9252"/>
                  <a:pt x="5493" y="9208"/>
                </a:cubicBezTo>
                <a:cubicBezTo>
                  <a:pt x="5523" y="9181"/>
                  <a:pt x="5607" y="9151"/>
                  <a:pt x="5652" y="9176"/>
                </a:cubicBezTo>
                <a:cubicBezTo>
                  <a:pt x="5711" y="9209"/>
                  <a:pt x="5749" y="9232"/>
                  <a:pt x="5810" y="9271"/>
                </a:cubicBezTo>
                <a:cubicBezTo>
                  <a:pt x="5886" y="9320"/>
                  <a:pt x="5959" y="9332"/>
                  <a:pt x="6032" y="9366"/>
                </a:cubicBezTo>
                <a:cubicBezTo>
                  <a:pt x="6075" y="9386"/>
                  <a:pt x="6126" y="9509"/>
                  <a:pt x="6191" y="9462"/>
                </a:cubicBezTo>
                <a:cubicBezTo>
                  <a:pt x="6245" y="9423"/>
                  <a:pt x="6273" y="9389"/>
                  <a:pt x="6286" y="9334"/>
                </a:cubicBezTo>
              </a:path>
              <a:path w="4985" h="2224">
                <a:moveTo>
                  <a:pt x="6191" y="8572"/>
                </a:moveTo>
                <a:cubicBezTo>
                  <a:pt x="6156" y="8632"/>
                  <a:pt x="6137" y="8751"/>
                  <a:pt x="6128" y="8826"/>
                </a:cubicBezTo>
                <a:cubicBezTo>
                  <a:pt x="6110" y="8983"/>
                  <a:pt x="6111" y="9147"/>
                  <a:pt x="6096" y="9303"/>
                </a:cubicBezTo>
                <a:cubicBezTo>
                  <a:pt x="6082" y="9450"/>
                  <a:pt x="6080" y="9607"/>
                  <a:pt x="6032" y="9747"/>
                </a:cubicBezTo>
                <a:cubicBezTo>
                  <a:pt x="6021" y="9780"/>
                  <a:pt x="5918" y="10039"/>
                  <a:pt x="6001" y="9874"/>
                </a:cubicBezTo>
              </a:path>
              <a:path w="4985" h="2224">
                <a:moveTo>
                  <a:pt x="6540" y="8668"/>
                </a:moveTo>
                <a:cubicBezTo>
                  <a:pt x="6446" y="8715"/>
                  <a:pt x="6467" y="8793"/>
                  <a:pt x="6445" y="8890"/>
                </a:cubicBezTo>
                <a:cubicBezTo>
                  <a:pt x="6413" y="9029"/>
                  <a:pt x="6339" y="9190"/>
                  <a:pt x="6350" y="9334"/>
                </a:cubicBezTo>
                <a:cubicBezTo>
                  <a:pt x="6360" y="9463"/>
                  <a:pt x="6393" y="9619"/>
                  <a:pt x="6445" y="9747"/>
                </a:cubicBezTo>
                <a:cubicBezTo>
                  <a:pt x="6484" y="9843"/>
                  <a:pt x="6536" y="9868"/>
                  <a:pt x="6636" y="9874"/>
                </a:cubicBezTo>
                <a:cubicBezTo>
                  <a:pt x="6748" y="9880"/>
                  <a:pt x="6838" y="9741"/>
                  <a:pt x="6890" y="9652"/>
                </a:cubicBezTo>
                <a:cubicBezTo>
                  <a:pt x="6984" y="9489"/>
                  <a:pt x="7043" y="9329"/>
                  <a:pt x="7048" y="9144"/>
                </a:cubicBezTo>
                <a:cubicBezTo>
                  <a:pt x="7052" y="8993"/>
                  <a:pt x="7022" y="8874"/>
                  <a:pt x="6922" y="8763"/>
                </a:cubicBezTo>
                <a:cubicBezTo>
                  <a:pt x="6849" y="8682"/>
                  <a:pt x="6742" y="8642"/>
                  <a:pt x="6636" y="8636"/>
                </a:cubicBezTo>
                <a:cubicBezTo>
                  <a:pt x="6518" y="8629"/>
                  <a:pt x="6536" y="8681"/>
                  <a:pt x="6572" y="8763"/>
                </a:cubicBezTo>
              </a:path>
              <a:path w="4985" h="2224">
                <a:moveTo>
                  <a:pt x="7525" y="8731"/>
                </a:moveTo>
                <a:cubicBezTo>
                  <a:pt x="7525" y="8700"/>
                  <a:pt x="7525" y="8689"/>
                  <a:pt x="7525" y="8668"/>
                </a:cubicBezTo>
                <a:cubicBezTo>
                  <a:pt x="7456" y="8668"/>
                  <a:pt x="7427" y="8698"/>
                  <a:pt x="7398" y="8763"/>
                </a:cubicBezTo>
                <a:cubicBezTo>
                  <a:pt x="7343" y="8884"/>
                  <a:pt x="7306" y="9016"/>
                  <a:pt x="7271" y="9144"/>
                </a:cubicBezTo>
                <a:cubicBezTo>
                  <a:pt x="7227" y="9307"/>
                  <a:pt x="7227" y="9457"/>
                  <a:pt x="7271" y="9620"/>
                </a:cubicBezTo>
                <a:cubicBezTo>
                  <a:pt x="7298" y="9721"/>
                  <a:pt x="7383" y="9843"/>
                  <a:pt x="7493" y="9874"/>
                </a:cubicBezTo>
                <a:cubicBezTo>
                  <a:pt x="7615" y="9908"/>
                  <a:pt x="7748" y="9851"/>
                  <a:pt x="7842" y="9779"/>
                </a:cubicBezTo>
                <a:cubicBezTo>
                  <a:pt x="7953" y="9694"/>
                  <a:pt x="8045" y="9534"/>
                  <a:pt x="8064" y="9398"/>
                </a:cubicBezTo>
                <a:cubicBezTo>
                  <a:pt x="8088" y="9231"/>
                  <a:pt x="8054" y="9094"/>
                  <a:pt x="7969" y="8954"/>
                </a:cubicBezTo>
                <a:cubicBezTo>
                  <a:pt x="7891" y="8824"/>
                  <a:pt x="7769" y="8758"/>
                  <a:pt x="7620" y="8731"/>
                </a:cubicBezTo>
                <a:cubicBezTo>
                  <a:pt x="7527" y="8714"/>
                  <a:pt x="7467" y="8739"/>
                  <a:pt x="7398" y="8795"/>
                </a:cubicBezTo>
              </a:path>
              <a:path w="4985" h="2224">
                <a:moveTo>
                  <a:pt x="8541" y="9208"/>
                </a:moveTo>
                <a:cubicBezTo>
                  <a:pt x="8504" y="9220"/>
                  <a:pt x="8483" y="9251"/>
                  <a:pt x="8477" y="9303"/>
                </a:cubicBezTo>
                <a:cubicBezTo>
                  <a:pt x="8470" y="9365"/>
                  <a:pt x="8530" y="9334"/>
                  <a:pt x="8541" y="9303"/>
                </a:cubicBezTo>
                <a:cubicBezTo>
                  <a:pt x="8541" y="9267"/>
                  <a:pt x="8538" y="9259"/>
                  <a:pt x="8509" y="9303"/>
                </a:cubicBezTo>
              </a:path>
              <a:path w="4985" h="2224">
                <a:moveTo>
                  <a:pt x="8922" y="8668"/>
                </a:moveTo>
                <a:cubicBezTo>
                  <a:pt x="8935" y="8576"/>
                  <a:pt x="8937" y="8601"/>
                  <a:pt x="9017" y="8541"/>
                </a:cubicBezTo>
                <a:cubicBezTo>
                  <a:pt x="9075" y="8498"/>
                  <a:pt x="9162" y="8481"/>
                  <a:pt x="9239" y="8477"/>
                </a:cubicBezTo>
                <a:cubicBezTo>
                  <a:pt x="9339" y="8471"/>
                  <a:pt x="9422" y="8512"/>
                  <a:pt x="9493" y="8572"/>
                </a:cubicBezTo>
                <a:cubicBezTo>
                  <a:pt x="9560" y="8628"/>
                  <a:pt x="9520" y="8699"/>
                  <a:pt x="9493" y="8763"/>
                </a:cubicBezTo>
                <a:cubicBezTo>
                  <a:pt x="9451" y="8864"/>
                  <a:pt x="9408" y="8885"/>
                  <a:pt x="9334" y="8954"/>
                </a:cubicBezTo>
                <a:cubicBezTo>
                  <a:pt x="9268" y="9016"/>
                  <a:pt x="9241" y="9012"/>
                  <a:pt x="9176" y="9049"/>
                </a:cubicBezTo>
                <a:cubicBezTo>
                  <a:pt x="9213" y="9059"/>
                  <a:pt x="9303" y="9061"/>
                  <a:pt x="9334" y="9080"/>
                </a:cubicBezTo>
                <a:cubicBezTo>
                  <a:pt x="9429" y="9139"/>
                  <a:pt x="9476" y="9205"/>
                  <a:pt x="9525" y="9303"/>
                </a:cubicBezTo>
                <a:cubicBezTo>
                  <a:pt x="9566" y="9384"/>
                  <a:pt x="9642" y="9455"/>
                  <a:pt x="9620" y="9557"/>
                </a:cubicBezTo>
                <a:cubicBezTo>
                  <a:pt x="9600" y="9649"/>
                  <a:pt x="9575" y="9749"/>
                  <a:pt x="9493" y="9811"/>
                </a:cubicBezTo>
                <a:cubicBezTo>
                  <a:pt x="9413" y="9872"/>
                  <a:pt x="9298" y="9923"/>
                  <a:pt x="9208" y="9970"/>
                </a:cubicBezTo>
                <a:cubicBezTo>
                  <a:pt x="9131" y="10010"/>
                  <a:pt x="9045" y="10059"/>
                  <a:pt x="8954" y="10033"/>
                </a:cubicBezTo>
                <a:cubicBezTo>
                  <a:pt x="8881" y="10013"/>
                  <a:pt x="8836" y="9946"/>
                  <a:pt x="8826" y="9874"/>
                </a:cubicBezTo>
                <a:cubicBezTo>
                  <a:pt x="8826" y="9821"/>
                  <a:pt x="8826" y="9789"/>
                  <a:pt x="8826" y="9747"/>
                </a:cubicBezTo>
              </a:path>
              <a:path w="4985" h="2224">
                <a:moveTo>
                  <a:pt x="9779" y="7810"/>
                </a:moveTo>
                <a:cubicBezTo>
                  <a:pt x="9779" y="7965"/>
                  <a:pt x="9769" y="8105"/>
                  <a:pt x="9747" y="8255"/>
                </a:cubicBezTo>
                <a:cubicBezTo>
                  <a:pt x="9729" y="8382"/>
                  <a:pt x="9736" y="8513"/>
                  <a:pt x="9716" y="8636"/>
                </a:cubicBezTo>
                <a:cubicBezTo>
                  <a:pt x="9705" y="8705"/>
                  <a:pt x="9699" y="8735"/>
                  <a:pt x="9684" y="8795"/>
                </a:cubicBezTo>
              </a:path>
              <a:path w="4985" h="2224">
                <a:moveTo>
                  <a:pt x="10255" y="8001"/>
                </a:moveTo>
                <a:cubicBezTo>
                  <a:pt x="10291" y="7965"/>
                  <a:pt x="10302" y="7948"/>
                  <a:pt x="10287" y="7906"/>
                </a:cubicBezTo>
                <a:cubicBezTo>
                  <a:pt x="10205" y="7885"/>
                  <a:pt x="10236" y="7881"/>
                  <a:pt x="10160" y="7906"/>
                </a:cubicBezTo>
                <a:cubicBezTo>
                  <a:pt x="10087" y="7930"/>
                  <a:pt x="10036" y="7955"/>
                  <a:pt x="10001" y="8033"/>
                </a:cubicBezTo>
                <a:cubicBezTo>
                  <a:pt x="9957" y="8131"/>
                  <a:pt x="9910" y="8219"/>
                  <a:pt x="9970" y="8318"/>
                </a:cubicBezTo>
                <a:cubicBezTo>
                  <a:pt x="10014" y="8390"/>
                  <a:pt x="10091" y="8382"/>
                  <a:pt x="10160" y="8350"/>
                </a:cubicBezTo>
                <a:cubicBezTo>
                  <a:pt x="10213" y="8325"/>
                  <a:pt x="10303" y="8250"/>
                  <a:pt x="10319" y="8192"/>
                </a:cubicBezTo>
                <a:cubicBezTo>
                  <a:pt x="10343" y="8104"/>
                  <a:pt x="10336" y="8054"/>
                  <a:pt x="10319" y="7969"/>
                </a:cubicBezTo>
                <a:cubicBezTo>
                  <a:pt x="10264" y="7983"/>
                  <a:pt x="10206" y="7997"/>
                  <a:pt x="10160" y="8033"/>
                </a:cubicBezTo>
                <a:cubicBezTo>
                  <a:pt x="10149" y="8043"/>
                  <a:pt x="10139" y="8054"/>
                  <a:pt x="10128" y="8064"/>
                </a:cubicBezTo>
              </a:path>
              <a:path w="4985" h="2224">
                <a:moveTo>
                  <a:pt x="10224" y="8318"/>
                </a:moveTo>
                <a:cubicBezTo>
                  <a:pt x="10191" y="8326"/>
                  <a:pt x="10114" y="8345"/>
                  <a:pt x="10096" y="8382"/>
                </a:cubicBezTo>
                <a:cubicBezTo>
                  <a:pt x="10072" y="8430"/>
                  <a:pt x="10043" y="8514"/>
                  <a:pt x="10033" y="8572"/>
                </a:cubicBezTo>
                <a:cubicBezTo>
                  <a:pt x="10021" y="8646"/>
                  <a:pt x="10021" y="8740"/>
                  <a:pt x="10065" y="8795"/>
                </a:cubicBezTo>
                <a:cubicBezTo>
                  <a:pt x="10113" y="8855"/>
                  <a:pt x="10171" y="8823"/>
                  <a:pt x="10224" y="8795"/>
                </a:cubicBezTo>
                <a:cubicBezTo>
                  <a:pt x="10299" y="8755"/>
                  <a:pt x="10362" y="8660"/>
                  <a:pt x="10382" y="8572"/>
                </a:cubicBezTo>
                <a:cubicBezTo>
                  <a:pt x="10402" y="8483"/>
                  <a:pt x="10331" y="8382"/>
                  <a:pt x="10255" y="8350"/>
                </a:cubicBezTo>
                <a:cubicBezTo>
                  <a:pt x="10184" y="8320"/>
                  <a:pt x="10140" y="8370"/>
                  <a:pt x="10096" y="8414"/>
                </a:cubicBezTo>
                <a:cubicBezTo>
                  <a:pt x="10086" y="8425"/>
                  <a:pt x="10075" y="8435"/>
                  <a:pt x="10065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5"/>
          <p:cNvSpPr/>
          <p:nvPr/>
        </p:nvSpPr>
        <p:spPr>
          <a:xfrm>
            <a:off x="1954080" y="3932280"/>
            <a:ext cx="1727280" cy="708120"/>
          </a:xfrm>
          <a:custGeom>
            <a:avLst/>
            <a:gdLst/>
            <a:ahLst/>
            <a:rect l="l" t="t" r="r" b="b"/>
            <a:pathLst>
              <a:path w="4796" h="1969">
                <a:moveTo>
                  <a:pt x="5937" y="12446"/>
                </a:moveTo>
                <a:cubicBezTo>
                  <a:pt x="5937" y="12504"/>
                  <a:pt x="5912" y="12521"/>
                  <a:pt x="5906" y="12573"/>
                </a:cubicBezTo>
                <a:cubicBezTo>
                  <a:pt x="5900" y="12631"/>
                  <a:pt x="5905" y="12656"/>
                  <a:pt x="5937" y="12700"/>
                </a:cubicBezTo>
                <a:cubicBezTo>
                  <a:pt x="5993" y="12700"/>
                  <a:pt x="6001" y="12692"/>
                  <a:pt x="6032" y="12668"/>
                </a:cubicBezTo>
                <a:cubicBezTo>
                  <a:pt x="6094" y="12621"/>
                  <a:pt x="6073" y="12549"/>
                  <a:pt x="6064" y="12510"/>
                </a:cubicBezTo>
                <a:cubicBezTo>
                  <a:pt x="6055" y="12471"/>
                  <a:pt x="6025" y="12415"/>
                  <a:pt x="5969" y="12446"/>
                </a:cubicBezTo>
                <a:cubicBezTo>
                  <a:pt x="5901" y="12484"/>
                  <a:pt x="5881" y="12488"/>
                  <a:pt x="5874" y="12573"/>
                </a:cubicBezTo>
                <a:cubicBezTo>
                  <a:pt x="5871" y="12604"/>
                  <a:pt x="5874" y="12637"/>
                  <a:pt x="5874" y="12668"/>
                </a:cubicBezTo>
                <a:cubicBezTo>
                  <a:pt x="5933" y="12668"/>
                  <a:pt x="5956" y="12676"/>
                  <a:pt x="6001" y="12636"/>
                </a:cubicBezTo>
                <a:cubicBezTo>
                  <a:pt x="6028" y="12612"/>
                  <a:pt x="6053" y="12548"/>
                  <a:pt x="6032" y="12510"/>
                </a:cubicBezTo>
                <a:cubicBezTo>
                  <a:pt x="6022" y="12499"/>
                  <a:pt x="6011" y="12489"/>
                  <a:pt x="6001" y="12478"/>
                </a:cubicBezTo>
                <a:cubicBezTo>
                  <a:pt x="5953" y="12494"/>
                  <a:pt x="5963" y="12506"/>
                  <a:pt x="5937" y="12541"/>
                </a:cubicBezTo>
                <a:cubicBezTo>
                  <a:pt x="5911" y="12577"/>
                  <a:pt x="5937" y="12664"/>
                  <a:pt x="6001" y="12636"/>
                </a:cubicBezTo>
                <a:cubicBezTo>
                  <a:pt x="6029" y="12608"/>
                  <a:pt x="6036" y="12597"/>
                  <a:pt x="6064" y="12605"/>
                </a:cubicBezTo>
                <a:cubicBezTo>
                  <a:pt x="6134" y="12582"/>
                  <a:pt x="6081" y="12573"/>
                  <a:pt x="6032" y="12573"/>
                </a:cubicBezTo>
              </a:path>
              <a:path w="4796" h="1969">
                <a:moveTo>
                  <a:pt x="5683" y="10922"/>
                </a:moveTo>
                <a:cubicBezTo>
                  <a:pt x="5675" y="11009"/>
                  <a:pt x="5669" y="11090"/>
                  <a:pt x="5652" y="11176"/>
                </a:cubicBezTo>
                <a:cubicBezTo>
                  <a:pt x="5611" y="11387"/>
                  <a:pt x="5621" y="11600"/>
                  <a:pt x="5588" y="11811"/>
                </a:cubicBezTo>
                <a:cubicBezTo>
                  <a:pt x="5560" y="11989"/>
                  <a:pt x="5512" y="12172"/>
                  <a:pt x="5493" y="12351"/>
                </a:cubicBezTo>
                <a:cubicBezTo>
                  <a:pt x="5478" y="12490"/>
                  <a:pt x="5436" y="12624"/>
                  <a:pt x="5429" y="12764"/>
                </a:cubicBezTo>
                <a:cubicBezTo>
                  <a:pt x="5427" y="12806"/>
                  <a:pt x="5429" y="12848"/>
                  <a:pt x="5429" y="12890"/>
                </a:cubicBezTo>
              </a:path>
              <a:path w="4796" h="1969">
                <a:moveTo>
                  <a:pt x="7271" y="11112"/>
                </a:moveTo>
                <a:cubicBezTo>
                  <a:pt x="7281" y="11112"/>
                  <a:pt x="7292" y="11112"/>
                  <a:pt x="7302" y="11112"/>
                </a:cubicBezTo>
                <a:cubicBezTo>
                  <a:pt x="7264" y="11135"/>
                  <a:pt x="7229" y="11144"/>
                  <a:pt x="7144" y="11144"/>
                </a:cubicBezTo>
                <a:cubicBezTo>
                  <a:pt x="7055" y="11144"/>
                  <a:pt x="6984" y="11176"/>
                  <a:pt x="6890" y="11176"/>
                </a:cubicBezTo>
                <a:cubicBezTo>
                  <a:pt x="6798" y="11176"/>
                  <a:pt x="6744" y="11171"/>
                  <a:pt x="6699" y="11208"/>
                </a:cubicBezTo>
                <a:cubicBezTo>
                  <a:pt x="6637" y="11258"/>
                  <a:pt x="6682" y="11330"/>
                  <a:pt x="6668" y="11398"/>
                </a:cubicBezTo>
                <a:cubicBezTo>
                  <a:pt x="6653" y="11472"/>
                  <a:pt x="6616" y="11547"/>
                  <a:pt x="6604" y="11620"/>
                </a:cubicBezTo>
                <a:cubicBezTo>
                  <a:pt x="6593" y="11687"/>
                  <a:pt x="6584" y="11746"/>
                  <a:pt x="6572" y="11811"/>
                </a:cubicBezTo>
                <a:cubicBezTo>
                  <a:pt x="6572" y="11822"/>
                  <a:pt x="6572" y="11832"/>
                  <a:pt x="6572" y="11843"/>
                </a:cubicBezTo>
                <a:cubicBezTo>
                  <a:pt x="6619" y="11796"/>
                  <a:pt x="6647" y="11721"/>
                  <a:pt x="6699" y="11684"/>
                </a:cubicBezTo>
                <a:cubicBezTo>
                  <a:pt x="6771" y="11632"/>
                  <a:pt x="6832" y="11594"/>
                  <a:pt x="6922" y="11589"/>
                </a:cubicBezTo>
                <a:cubicBezTo>
                  <a:pt x="7027" y="11583"/>
                  <a:pt x="7078" y="11591"/>
                  <a:pt x="7144" y="11684"/>
                </a:cubicBezTo>
                <a:cubicBezTo>
                  <a:pt x="7206" y="11772"/>
                  <a:pt x="7236" y="11866"/>
                  <a:pt x="7239" y="11970"/>
                </a:cubicBezTo>
                <a:cubicBezTo>
                  <a:pt x="7243" y="12080"/>
                  <a:pt x="7253" y="12250"/>
                  <a:pt x="7207" y="12351"/>
                </a:cubicBezTo>
                <a:cubicBezTo>
                  <a:pt x="7161" y="12452"/>
                  <a:pt x="7089" y="12560"/>
                  <a:pt x="6985" y="12605"/>
                </a:cubicBezTo>
                <a:cubicBezTo>
                  <a:pt x="6885" y="12648"/>
                  <a:pt x="6779" y="12689"/>
                  <a:pt x="6668" y="12668"/>
                </a:cubicBezTo>
                <a:cubicBezTo>
                  <a:pt x="6622" y="12659"/>
                  <a:pt x="6526" y="12632"/>
                  <a:pt x="6509" y="12573"/>
                </a:cubicBezTo>
                <a:cubicBezTo>
                  <a:pt x="6490" y="12506"/>
                  <a:pt x="6545" y="12437"/>
                  <a:pt x="6572" y="12382"/>
                </a:cubicBezTo>
              </a:path>
              <a:path w="4796" h="1969">
                <a:moveTo>
                  <a:pt x="8160" y="11240"/>
                </a:moveTo>
                <a:cubicBezTo>
                  <a:pt x="8211" y="11257"/>
                  <a:pt x="8173" y="11254"/>
                  <a:pt x="8223" y="11271"/>
                </a:cubicBezTo>
                <a:cubicBezTo>
                  <a:pt x="8064" y="11271"/>
                  <a:pt x="7906" y="11271"/>
                  <a:pt x="7747" y="11271"/>
                </a:cubicBezTo>
                <a:cubicBezTo>
                  <a:pt x="7747" y="11336"/>
                  <a:pt x="7733" y="11346"/>
                  <a:pt x="7715" y="11398"/>
                </a:cubicBezTo>
                <a:cubicBezTo>
                  <a:pt x="7700" y="11444"/>
                  <a:pt x="7673" y="11516"/>
                  <a:pt x="7652" y="11557"/>
                </a:cubicBezTo>
                <a:cubicBezTo>
                  <a:pt x="7627" y="11606"/>
                  <a:pt x="7573" y="11633"/>
                  <a:pt x="7556" y="11684"/>
                </a:cubicBezTo>
                <a:cubicBezTo>
                  <a:pt x="7556" y="11716"/>
                  <a:pt x="7556" y="11727"/>
                  <a:pt x="7556" y="11748"/>
                </a:cubicBezTo>
                <a:cubicBezTo>
                  <a:pt x="7624" y="11748"/>
                  <a:pt x="7636" y="11733"/>
                  <a:pt x="7684" y="11684"/>
                </a:cubicBezTo>
                <a:cubicBezTo>
                  <a:pt x="7727" y="11640"/>
                  <a:pt x="7793" y="11649"/>
                  <a:pt x="7842" y="11620"/>
                </a:cubicBezTo>
                <a:cubicBezTo>
                  <a:pt x="7909" y="11581"/>
                  <a:pt x="7935" y="11591"/>
                  <a:pt x="8001" y="11620"/>
                </a:cubicBezTo>
                <a:cubicBezTo>
                  <a:pt x="8058" y="11644"/>
                  <a:pt x="8166" y="11735"/>
                  <a:pt x="8192" y="11779"/>
                </a:cubicBezTo>
                <a:cubicBezTo>
                  <a:pt x="8249" y="11874"/>
                  <a:pt x="8262" y="11995"/>
                  <a:pt x="8287" y="12097"/>
                </a:cubicBezTo>
                <a:cubicBezTo>
                  <a:pt x="8307" y="12179"/>
                  <a:pt x="8324" y="12340"/>
                  <a:pt x="8255" y="12414"/>
                </a:cubicBezTo>
                <a:cubicBezTo>
                  <a:pt x="8185" y="12490"/>
                  <a:pt x="8070" y="12527"/>
                  <a:pt x="7969" y="12541"/>
                </a:cubicBezTo>
                <a:cubicBezTo>
                  <a:pt x="7883" y="12553"/>
                  <a:pt x="7730" y="12539"/>
                  <a:pt x="7652" y="12510"/>
                </a:cubicBezTo>
                <a:cubicBezTo>
                  <a:pt x="7629" y="12501"/>
                  <a:pt x="7505" y="12423"/>
                  <a:pt x="7556" y="12382"/>
                </a:cubicBezTo>
                <a:cubicBezTo>
                  <a:pt x="7567" y="12382"/>
                  <a:pt x="7577" y="12382"/>
                  <a:pt x="7588" y="12382"/>
                </a:cubicBezTo>
              </a:path>
              <a:path w="4796" h="1969">
                <a:moveTo>
                  <a:pt x="8922" y="12128"/>
                </a:moveTo>
                <a:cubicBezTo>
                  <a:pt x="8865" y="12110"/>
                  <a:pt x="8904" y="12076"/>
                  <a:pt x="8954" y="12065"/>
                </a:cubicBezTo>
                <a:cubicBezTo>
                  <a:pt x="9024" y="12050"/>
                  <a:pt x="9068" y="12033"/>
                  <a:pt x="9144" y="12033"/>
                </a:cubicBezTo>
                <a:cubicBezTo>
                  <a:pt x="9313" y="12033"/>
                  <a:pt x="9483" y="12033"/>
                  <a:pt x="9652" y="12033"/>
                </a:cubicBezTo>
                <a:cubicBezTo>
                  <a:pt x="9637" y="11991"/>
                  <a:pt x="9607" y="11994"/>
                  <a:pt x="9588" y="11938"/>
                </a:cubicBezTo>
                <a:cubicBezTo>
                  <a:pt x="9570" y="11885"/>
                  <a:pt x="9541" y="11830"/>
                  <a:pt x="9525" y="11779"/>
                </a:cubicBezTo>
                <a:cubicBezTo>
                  <a:pt x="9494" y="11678"/>
                  <a:pt x="9479" y="11680"/>
                  <a:pt x="9398" y="11620"/>
                </a:cubicBezTo>
                <a:cubicBezTo>
                  <a:pt x="9335" y="11573"/>
                  <a:pt x="9306" y="11584"/>
                  <a:pt x="9239" y="11620"/>
                </a:cubicBezTo>
                <a:cubicBezTo>
                  <a:pt x="9143" y="11671"/>
                  <a:pt x="9092" y="11740"/>
                  <a:pt x="9049" y="11843"/>
                </a:cubicBezTo>
                <a:cubicBezTo>
                  <a:pt x="8998" y="11966"/>
                  <a:pt x="8959" y="12092"/>
                  <a:pt x="8954" y="12224"/>
                </a:cubicBezTo>
                <a:cubicBezTo>
                  <a:pt x="8951" y="12311"/>
                  <a:pt x="8983" y="12475"/>
                  <a:pt x="9049" y="12541"/>
                </a:cubicBezTo>
                <a:cubicBezTo>
                  <a:pt x="9131" y="12624"/>
                  <a:pt x="9220" y="12663"/>
                  <a:pt x="9334" y="12668"/>
                </a:cubicBezTo>
                <a:cubicBezTo>
                  <a:pt x="9432" y="12673"/>
                  <a:pt x="9509" y="12660"/>
                  <a:pt x="9588" y="12636"/>
                </a:cubicBezTo>
                <a:cubicBezTo>
                  <a:pt x="9651" y="12617"/>
                  <a:pt x="9652" y="12608"/>
                  <a:pt x="9652" y="12541"/>
                </a:cubicBezTo>
                <a:cubicBezTo>
                  <a:pt x="9652" y="12509"/>
                  <a:pt x="9652" y="12478"/>
                  <a:pt x="9652" y="12446"/>
                </a:cubicBezTo>
              </a:path>
              <a:path w="4796" h="1969">
                <a:moveTo>
                  <a:pt x="9906" y="10986"/>
                </a:moveTo>
                <a:cubicBezTo>
                  <a:pt x="9906" y="11072"/>
                  <a:pt x="9925" y="11130"/>
                  <a:pt x="9938" y="11208"/>
                </a:cubicBezTo>
                <a:cubicBezTo>
                  <a:pt x="9952" y="11292"/>
                  <a:pt x="9896" y="11616"/>
                  <a:pt x="9970" y="11494"/>
                </a:cubicBezTo>
              </a:path>
              <a:path w="4796" h="1969">
                <a:moveTo>
                  <a:pt x="10160" y="10954"/>
                </a:moveTo>
                <a:cubicBezTo>
                  <a:pt x="10160" y="11065"/>
                  <a:pt x="10180" y="11164"/>
                  <a:pt x="10192" y="11271"/>
                </a:cubicBezTo>
                <a:cubicBezTo>
                  <a:pt x="10204" y="11377"/>
                  <a:pt x="10198" y="11453"/>
                  <a:pt x="10224" y="11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6"/>
          <p:cNvSpPr/>
          <p:nvPr/>
        </p:nvSpPr>
        <p:spPr>
          <a:xfrm>
            <a:off x="6365880" y="2011320"/>
            <a:ext cx="1841400" cy="698400"/>
          </a:xfrm>
          <a:custGeom>
            <a:avLst/>
            <a:gdLst/>
            <a:ahLst/>
            <a:rect l="l" t="t" r="r" b="b"/>
            <a:pathLst>
              <a:path w="5112" h="1938">
                <a:moveTo>
                  <a:pt x="18161" y="6001"/>
                </a:moveTo>
                <a:cubicBezTo>
                  <a:pt x="18383" y="6001"/>
                  <a:pt x="18612" y="6005"/>
                  <a:pt x="18828" y="5969"/>
                </a:cubicBezTo>
                <a:cubicBezTo>
                  <a:pt x="18998" y="5940"/>
                  <a:pt x="19160" y="5937"/>
                  <a:pt x="19336" y="5937"/>
                </a:cubicBezTo>
                <a:cubicBezTo>
                  <a:pt x="19539" y="5937"/>
                  <a:pt x="19770" y="5931"/>
                  <a:pt x="19971" y="5906"/>
                </a:cubicBezTo>
                <a:cubicBezTo>
                  <a:pt x="20170" y="5881"/>
                  <a:pt x="20375" y="5869"/>
                  <a:pt x="20574" y="5842"/>
                </a:cubicBezTo>
                <a:cubicBezTo>
                  <a:pt x="20775" y="5815"/>
                  <a:pt x="20978" y="5808"/>
                  <a:pt x="21177" y="5778"/>
                </a:cubicBezTo>
                <a:cubicBezTo>
                  <a:pt x="21356" y="5751"/>
                  <a:pt x="21540" y="5745"/>
                  <a:pt x="21717" y="5715"/>
                </a:cubicBezTo>
                <a:cubicBezTo>
                  <a:pt x="21914" y="5682"/>
                  <a:pt x="22120" y="5659"/>
                  <a:pt x="22320" y="5652"/>
                </a:cubicBezTo>
                <a:cubicBezTo>
                  <a:pt x="22440" y="5648"/>
                  <a:pt x="22559" y="5630"/>
                  <a:pt x="22670" y="5620"/>
                </a:cubicBezTo>
                <a:cubicBezTo>
                  <a:pt x="22778" y="5610"/>
                  <a:pt x="22760" y="5591"/>
                  <a:pt x="22765" y="5588"/>
                </a:cubicBezTo>
              </a:path>
              <a:path w="5112" h="1938">
                <a:moveTo>
                  <a:pt x="17685" y="7525"/>
                </a:moveTo>
                <a:cubicBezTo>
                  <a:pt x="17761" y="7519"/>
                  <a:pt x="17803" y="7496"/>
                  <a:pt x="17875" y="7493"/>
                </a:cubicBezTo>
                <a:cubicBezTo>
                  <a:pt x="17997" y="7488"/>
                  <a:pt x="18134" y="7480"/>
                  <a:pt x="18256" y="7461"/>
                </a:cubicBezTo>
                <a:cubicBezTo>
                  <a:pt x="18437" y="7433"/>
                  <a:pt x="18616" y="7453"/>
                  <a:pt x="18796" y="7430"/>
                </a:cubicBezTo>
                <a:cubicBezTo>
                  <a:pt x="19009" y="7402"/>
                  <a:pt x="19213" y="7398"/>
                  <a:pt x="19431" y="7398"/>
                </a:cubicBezTo>
                <a:cubicBezTo>
                  <a:pt x="19655" y="7398"/>
                  <a:pt x="19872" y="7366"/>
                  <a:pt x="20098" y="7366"/>
                </a:cubicBezTo>
                <a:cubicBezTo>
                  <a:pt x="20486" y="7366"/>
                  <a:pt x="20896" y="7338"/>
                  <a:pt x="21272" y="7398"/>
                </a:cubicBezTo>
                <a:cubicBezTo>
                  <a:pt x="21325" y="7398"/>
                  <a:pt x="21336" y="7398"/>
                  <a:pt x="21368" y="7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7"/>
          <p:cNvSpPr/>
          <p:nvPr/>
        </p:nvSpPr>
        <p:spPr>
          <a:xfrm>
            <a:off x="6149880" y="2846520"/>
            <a:ext cx="1989360" cy="720720"/>
          </a:xfrm>
          <a:custGeom>
            <a:avLst/>
            <a:gdLst/>
            <a:ahLst/>
            <a:rect l="l" t="t" r="r" b="b"/>
            <a:pathLst>
              <a:path w="5525" h="2001">
                <a:moveTo>
                  <a:pt x="17113" y="8382"/>
                </a:moveTo>
                <a:cubicBezTo>
                  <a:pt x="17113" y="8799"/>
                  <a:pt x="17225" y="9391"/>
                  <a:pt x="17082" y="9779"/>
                </a:cubicBezTo>
                <a:cubicBezTo>
                  <a:pt x="17082" y="9860"/>
                  <a:pt x="17108" y="9637"/>
                  <a:pt x="17113" y="9620"/>
                </a:cubicBezTo>
              </a:path>
              <a:path w="5525" h="2001">
                <a:moveTo>
                  <a:pt x="17240" y="8954"/>
                </a:moveTo>
                <a:cubicBezTo>
                  <a:pt x="17276" y="8847"/>
                  <a:pt x="17292" y="8736"/>
                  <a:pt x="17336" y="8636"/>
                </a:cubicBezTo>
                <a:cubicBezTo>
                  <a:pt x="17378" y="8541"/>
                  <a:pt x="17421" y="8487"/>
                  <a:pt x="17494" y="8414"/>
                </a:cubicBezTo>
                <a:cubicBezTo>
                  <a:pt x="17538" y="8370"/>
                  <a:pt x="17578" y="8348"/>
                  <a:pt x="17621" y="8382"/>
                </a:cubicBezTo>
                <a:cubicBezTo>
                  <a:pt x="17719" y="8459"/>
                  <a:pt x="17680" y="8528"/>
                  <a:pt x="17653" y="8636"/>
                </a:cubicBezTo>
                <a:cubicBezTo>
                  <a:pt x="17589" y="8888"/>
                  <a:pt x="17531" y="9131"/>
                  <a:pt x="17431" y="9366"/>
                </a:cubicBezTo>
                <a:cubicBezTo>
                  <a:pt x="17408" y="9419"/>
                  <a:pt x="17380" y="9590"/>
                  <a:pt x="17336" y="9620"/>
                </a:cubicBezTo>
                <a:cubicBezTo>
                  <a:pt x="17325" y="9620"/>
                  <a:pt x="17315" y="9620"/>
                  <a:pt x="17304" y="9620"/>
                </a:cubicBezTo>
                <a:cubicBezTo>
                  <a:pt x="17316" y="9573"/>
                  <a:pt x="17333" y="9531"/>
                  <a:pt x="17367" y="9493"/>
                </a:cubicBezTo>
                <a:cubicBezTo>
                  <a:pt x="17395" y="9462"/>
                  <a:pt x="17450" y="9447"/>
                  <a:pt x="17494" y="9462"/>
                </a:cubicBezTo>
                <a:cubicBezTo>
                  <a:pt x="17581" y="9492"/>
                  <a:pt x="17609" y="9581"/>
                  <a:pt x="17685" y="9620"/>
                </a:cubicBezTo>
                <a:cubicBezTo>
                  <a:pt x="17756" y="9656"/>
                  <a:pt x="17775" y="9641"/>
                  <a:pt x="17844" y="9620"/>
                </a:cubicBezTo>
                <a:cubicBezTo>
                  <a:pt x="17888" y="9620"/>
                  <a:pt x="17905" y="9608"/>
                  <a:pt x="17907" y="9557"/>
                </a:cubicBezTo>
              </a:path>
              <a:path w="5525" h="2001">
                <a:moveTo>
                  <a:pt x="18034" y="8858"/>
                </a:moveTo>
                <a:cubicBezTo>
                  <a:pt x="18068" y="8904"/>
                  <a:pt x="18090" y="8991"/>
                  <a:pt x="18098" y="9049"/>
                </a:cubicBezTo>
                <a:cubicBezTo>
                  <a:pt x="18113" y="9161"/>
                  <a:pt x="18138" y="9258"/>
                  <a:pt x="18161" y="9366"/>
                </a:cubicBezTo>
                <a:cubicBezTo>
                  <a:pt x="18166" y="9390"/>
                  <a:pt x="18161" y="9541"/>
                  <a:pt x="18161" y="9462"/>
                </a:cubicBezTo>
                <a:cubicBezTo>
                  <a:pt x="18161" y="9350"/>
                  <a:pt x="18140" y="9254"/>
                  <a:pt x="18129" y="9144"/>
                </a:cubicBezTo>
                <a:cubicBezTo>
                  <a:pt x="18117" y="9024"/>
                  <a:pt x="18169" y="8906"/>
                  <a:pt x="18193" y="8795"/>
                </a:cubicBezTo>
                <a:cubicBezTo>
                  <a:pt x="18193" y="8784"/>
                  <a:pt x="18193" y="8774"/>
                  <a:pt x="18193" y="8763"/>
                </a:cubicBezTo>
                <a:cubicBezTo>
                  <a:pt x="18257" y="8763"/>
                  <a:pt x="18256" y="8771"/>
                  <a:pt x="18288" y="8826"/>
                </a:cubicBezTo>
                <a:cubicBezTo>
                  <a:pt x="18342" y="8920"/>
                  <a:pt x="18348" y="9069"/>
                  <a:pt x="18352" y="9176"/>
                </a:cubicBezTo>
                <a:cubicBezTo>
                  <a:pt x="18355" y="9252"/>
                  <a:pt x="18383" y="9474"/>
                  <a:pt x="18383" y="9398"/>
                </a:cubicBezTo>
                <a:cubicBezTo>
                  <a:pt x="18383" y="9387"/>
                  <a:pt x="18383" y="9377"/>
                  <a:pt x="18383" y="9366"/>
                </a:cubicBezTo>
                <a:cubicBezTo>
                  <a:pt x="18417" y="9233"/>
                  <a:pt x="18433" y="9089"/>
                  <a:pt x="18447" y="8954"/>
                </a:cubicBezTo>
                <a:cubicBezTo>
                  <a:pt x="18457" y="8862"/>
                  <a:pt x="18461" y="8865"/>
                  <a:pt x="18478" y="8795"/>
                </a:cubicBezTo>
                <a:cubicBezTo>
                  <a:pt x="18586" y="8821"/>
                  <a:pt x="18546" y="8860"/>
                  <a:pt x="18574" y="8954"/>
                </a:cubicBezTo>
                <a:cubicBezTo>
                  <a:pt x="18608" y="9065"/>
                  <a:pt x="18622" y="9186"/>
                  <a:pt x="18637" y="9303"/>
                </a:cubicBezTo>
                <a:cubicBezTo>
                  <a:pt x="18648" y="9392"/>
                  <a:pt x="18633" y="9488"/>
                  <a:pt x="18701" y="9398"/>
                </a:cubicBezTo>
              </a:path>
              <a:path w="5525" h="2001">
                <a:moveTo>
                  <a:pt x="18828" y="8795"/>
                </a:moveTo>
                <a:cubicBezTo>
                  <a:pt x="18810" y="8865"/>
                  <a:pt x="18776" y="8935"/>
                  <a:pt x="18764" y="9017"/>
                </a:cubicBezTo>
                <a:cubicBezTo>
                  <a:pt x="18752" y="9099"/>
                  <a:pt x="18749" y="9297"/>
                  <a:pt x="18796" y="9366"/>
                </a:cubicBezTo>
                <a:cubicBezTo>
                  <a:pt x="18828" y="9366"/>
                  <a:pt x="18839" y="9366"/>
                  <a:pt x="18860" y="9366"/>
                </a:cubicBezTo>
                <a:cubicBezTo>
                  <a:pt x="18960" y="9366"/>
                  <a:pt x="18934" y="9322"/>
                  <a:pt x="18955" y="9239"/>
                </a:cubicBezTo>
                <a:cubicBezTo>
                  <a:pt x="18993" y="9090"/>
                  <a:pt x="18971" y="9005"/>
                  <a:pt x="18955" y="8858"/>
                </a:cubicBezTo>
                <a:cubicBezTo>
                  <a:pt x="18955" y="8826"/>
                  <a:pt x="18955" y="8795"/>
                  <a:pt x="18955" y="8763"/>
                </a:cubicBezTo>
                <a:cubicBezTo>
                  <a:pt x="18882" y="8714"/>
                  <a:pt x="18938" y="8773"/>
                  <a:pt x="18955" y="8795"/>
                </a:cubicBezTo>
                <a:cubicBezTo>
                  <a:pt x="19000" y="8855"/>
                  <a:pt x="19045" y="8886"/>
                  <a:pt x="19082" y="8954"/>
                </a:cubicBezTo>
                <a:cubicBezTo>
                  <a:pt x="19136" y="9055"/>
                  <a:pt x="19200" y="9158"/>
                  <a:pt x="19209" y="9271"/>
                </a:cubicBezTo>
                <a:cubicBezTo>
                  <a:pt x="19210" y="9280"/>
                  <a:pt x="19209" y="9386"/>
                  <a:pt x="19209" y="9303"/>
                </a:cubicBezTo>
                <a:cubicBezTo>
                  <a:pt x="19209" y="9138"/>
                  <a:pt x="19220" y="8986"/>
                  <a:pt x="19240" y="8826"/>
                </a:cubicBezTo>
                <a:cubicBezTo>
                  <a:pt x="19240" y="8769"/>
                  <a:pt x="19236" y="8752"/>
                  <a:pt x="19272" y="8731"/>
                </a:cubicBezTo>
                <a:cubicBezTo>
                  <a:pt x="19348" y="8750"/>
                  <a:pt x="19359" y="8841"/>
                  <a:pt x="19368" y="8922"/>
                </a:cubicBezTo>
                <a:cubicBezTo>
                  <a:pt x="19382" y="9042"/>
                  <a:pt x="19414" y="9151"/>
                  <a:pt x="19431" y="9271"/>
                </a:cubicBezTo>
                <a:cubicBezTo>
                  <a:pt x="19431" y="9328"/>
                  <a:pt x="19427" y="9345"/>
                  <a:pt x="19463" y="9366"/>
                </a:cubicBezTo>
                <a:cubicBezTo>
                  <a:pt x="19534" y="9341"/>
                  <a:pt x="19524" y="9223"/>
                  <a:pt x="19526" y="9144"/>
                </a:cubicBezTo>
                <a:cubicBezTo>
                  <a:pt x="19526" y="9102"/>
                  <a:pt x="19526" y="9059"/>
                  <a:pt x="19526" y="9017"/>
                </a:cubicBezTo>
              </a:path>
              <a:path w="5525" h="2001">
                <a:moveTo>
                  <a:pt x="19622" y="8477"/>
                </a:moveTo>
                <a:cubicBezTo>
                  <a:pt x="19641" y="8575"/>
                  <a:pt x="19653" y="8657"/>
                  <a:pt x="19653" y="8763"/>
                </a:cubicBezTo>
                <a:cubicBezTo>
                  <a:pt x="19653" y="8932"/>
                  <a:pt x="19650" y="9107"/>
                  <a:pt x="19685" y="9271"/>
                </a:cubicBezTo>
                <a:cubicBezTo>
                  <a:pt x="19710" y="9344"/>
                  <a:pt x="19743" y="9376"/>
                  <a:pt x="19685" y="9366"/>
                </a:cubicBezTo>
              </a:path>
              <a:path w="5525" h="2001">
                <a:moveTo>
                  <a:pt x="19494" y="8985"/>
                </a:moveTo>
                <a:cubicBezTo>
                  <a:pt x="19494" y="8996"/>
                  <a:pt x="19494" y="9006"/>
                  <a:pt x="19494" y="9017"/>
                </a:cubicBezTo>
                <a:cubicBezTo>
                  <a:pt x="19558" y="9017"/>
                  <a:pt x="19595" y="9023"/>
                  <a:pt x="19653" y="8985"/>
                </a:cubicBezTo>
                <a:cubicBezTo>
                  <a:pt x="19732" y="8933"/>
                  <a:pt x="19795" y="8933"/>
                  <a:pt x="19876" y="8858"/>
                </a:cubicBezTo>
                <a:cubicBezTo>
                  <a:pt x="19922" y="8815"/>
                  <a:pt x="19943" y="8755"/>
                  <a:pt x="19971" y="8700"/>
                </a:cubicBezTo>
              </a:path>
              <a:path w="5525" h="2001">
                <a:moveTo>
                  <a:pt x="19971" y="8350"/>
                </a:moveTo>
                <a:cubicBezTo>
                  <a:pt x="20005" y="8442"/>
                  <a:pt x="19985" y="8510"/>
                  <a:pt x="20002" y="8604"/>
                </a:cubicBezTo>
                <a:cubicBezTo>
                  <a:pt x="20031" y="8764"/>
                  <a:pt x="20059" y="8918"/>
                  <a:pt x="20066" y="9080"/>
                </a:cubicBezTo>
                <a:cubicBezTo>
                  <a:pt x="20066" y="9144"/>
                  <a:pt x="20066" y="9165"/>
                  <a:pt x="20066" y="9208"/>
                </a:cubicBezTo>
                <a:cubicBezTo>
                  <a:pt x="20066" y="9271"/>
                  <a:pt x="20066" y="9143"/>
                  <a:pt x="20066" y="9080"/>
                </a:cubicBezTo>
                <a:cubicBezTo>
                  <a:pt x="20066" y="8928"/>
                  <a:pt x="20067" y="8809"/>
                  <a:pt x="20130" y="8668"/>
                </a:cubicBezTo>
                <a:cubicBezTo>
                  <a:pt x="20155" y="8616"/>
                  <a:pt x="20153" y="8594"/>
                  <a:pt x="20193" y="8604"/>
                </a:cubicBezTo>
                <a:cubicBezTo>
                  <a:pt x="20242" y="8685"/>
                  <a:pt x="20237" y="8762"/>
                  <a:pt x="20256" y="8858"/>
                </a:cubicBezTo>
                <a:cubicBezTo>
                  <a:pt x="20280" y="8984"/>
                  <a:pt x="20280" y="9128"/>
                  <a:pt x="20352" y="9239"/>
                </a:cubicBezTo>
                <a:cubicBezTo>
                  <a:pt x="20381" y="9268"/>
                  <a:pt x="20387" y="9278"/>
                  <a:pt x="20415" y="9271"/>
                </a:cubicBezTo>
                <a:cubicBezTo>
                  <a:pt x="20479" y="9208"/>
                  <a:pt x="20499" y="9143"/>
                  <a:pt x="20510" y="9049"/>
                </a:cubicBezTo>
                <a:cubicBezTo>
                  <a:pt x="20510" y="8942"/>
                  <a:pt x="20513" y="8898"/>
                  <a:pt x="20542" y="8826"/>
                </a:cubicBezTo>
              </a:path>
              <a:path w="5525" h="2001">
                <a:moveTo>
                  <a:pt x="20606" y="7906"/>
                </a:moveTo>
                <a:cubicBezTo>
                  <a:pt x="20606" y="8363"/>
                  <a:pt x="20601" y="8817"/>
                  <a:pt x="20638" y="9271"/>
                </a:cubicBezTo>
                <a:cubicBezTo>
                  <a:pt x="20652" y="9439"/>
                  <a:pt x="20638" y="9885"/>
                  <a:pt x="20638" y="9716"/>
                </a:cubicBezTo>
              </a:path>
              <a:path w="5525" h="2001">
                <a:moveTo>
                  <a:pt x="20892" y="8636"/>
                </a:moveTo>
                <a:cubicBezTo>
                  <a:pt x="20920" y="8712"/>
                  <a:pt x="20923" y="8765"/>
                  <a:pt x="20923" y="8858"/>
                </a:cubicBezTo>
                <a:cubicBezTo>
                  <a:pt x="20923" y="8965"/>
                  <a:pt x="20938" y="9082"/>
                  <a:pt x="20987" y="9176"/>
                </a:cubicBezTo>
                <a:cubicBezTo>
                  <a:pt x="20997" y="9187"/>
                  <a:pt x="21008" y="9197"/>
                  <a:pt x="21018" y="9208"/>
                </a:cubicBezTo>
                <a:cubicBezTo>
                  <a:pt x="21044" y="9170"/>
                  <a:pt x="21060" y="9116"/>
                  <a:pt x="21082" y="9049"/>
                </a:cubicBezTo>
                <a:cubicBezTo>
                  <a:pt x="21126" y="8912"/>
                  <a:pt x="21114" y="8779"/>
                  <a:pt x="21114" y="8636"/>
                </a:cubicBezTo>
                <a:cubicBezTo>
                  <a:pt x="21114" y="8615"/>
                  <a:pt x="21114" y="8593"/>
                  <a:pt x="21114" y="8572"/>
                </a:cubicBezTo>
                <a:cubicBezTo>
                  <a:pt x="21114" y="8635"/>
                  <a:pt x="21103" y="8638"/>
                  <a:pt x="21114" y="8700"/>
                </a:cubicBezTo>
                <a:cubicBezTo>
                  <a:pt x="21141" y="8852"/>
                  <a:pt x="21161" y="8996"/>
                  <a:pt x="21209" y="9144"/>
                </a:cubicBezTo>
                <a:cubicBezTo>
                  <a:pt x="21251" y="9273"/>
                  <a:pt x="21267" y="9421"/>
                  <a:pt x="21272" y="9557"/>
                </a:cubicBezTo>
                <a:cubicBezTo>
                  <a:pt x="21275" y="9649"/>
                  <a:pt x="21291" y="9761"/>
                  <a:pt x="21241" y="9842"/>
                </a:cubicBezTo>
                <a:cubicBezTo>
                  <a:pt x="21209" y="9874"/>
                  <a:pt x="21198" y="9885"/>
                  <a:pt x="21177" y="9906"/>
                </a:cubicBezTo>
                <a:cubicBezTo>
                  <a:pt x="21126" y="9841"/>
                  <a:pt x="21118" y="9807"/>
                  <a:pt x="21114" y="9716"/>
                </a:cubicBezTo>
                <a:cubicBezTo>
                  <a:pt x="21108" y="9571"/>
                  <a:pt x="21136" y="9470"/>
                  <a:pt x="21177" y="9334"/>
                </a:cubicBezTo>
                <a:cubicBezTo>
                  <a:pt x="21224" y="9179"/>
                  <a:pt x="21290" y="9030"/>
                  <a:pt x="21368" y="8890"/>
                </a:cubicBezTo>
                <a:cubicBezTo>
                  <a:pt x="21431" y="8777"/>
                  <a:pt x="21519" y="8704"/>
                  <a:pt x="21526" y="8572"/>
                </a:cubicBezTo>
                <a:cubicBezTo>
                  <a:pt x="21526" y="8541"/>
                  <a:pt x="21526" y="8530"/>
                  <a:pt x="21526" y="8509"/>
                </a:cubicBezTo>
                <a:cubicBezTo>
                  <a:pt x="21439" y="8559"/>
                  <a:pt x="21449" y="8558"/>
                  <a:pt x="21400" y="8668"/>
                </a:cubicBezTo>
                <a:cubicBezTo>
                  <a:pt x="21358" y="8761"/>
                  <a:pt x="21344" y="8914"/>
                  <a:pt x="21368" y="9017"/>
                </a:cubicBezTo>
                <a:cubicBezTo>
                  <a:pt x="21380" y="9070"/>
                  <a:pt x="21464" y="9211"/>
                  <a:pt x="21526" y="9208"/>
                </a:cubicBezTo>
                <a:cubicBezTo>
                  <a:pt x="21614" y="9204"/>
                  <a:pt x="21659" y="9139"/>
                  <a:pt x="21717" y="9080"/>
                </a:cubicBezTo>
              </a:path>
              <a:path w="5525" h="2001">
                <a:moveTo>
                  <a:pt x="21939" y="8572"/>
                </a:moveTo>
                <a:cubicBezTo>
                  <a:pt x="21939" y="8536"/>
                  <a:pt x="21936" y="8523"/>
                  <a:pt x="21908" y="8509"/>
                </a:cubicBezTo>
                <a:cubicBezTo>
                  <a:pt x="21853" y="8523"/>
                  <a:pt x="21792" y="8569"/>
                  <a:pt x="21780" y="8636"/>
                </a:cubicBezTo>
                <a:cubicBezTo>
                  <a:pt x="21758" y="8755"/>
                  <a:pt x="21788" y="8876"/>
                  <a:pt x="21812" y="8985"/>
                </a:cubicBezTo>
                <a:cubicBezTo>
                  <a:pt x="21823" y="9038"/>
                  <a:pt x="21825" y="9036"/>
                  <a:pt x="21876" y="9049"/>
                </a:cubicBezTo>
                <a:cubicBezTo>
                  <a:pt x="21942" y="9032"/>
                  <a:pt x="21962" y="8961"/>
                  <a:pt x="21971" y="8890"/>
                </a:cubicBezTo>
                <a:cubicBezTo>
                  <a:pt x="21976" y="8856"/>
                  <a:pt x="21971" y="8594"/>
                  <a:pt x="21971" y="8668"/>
                </a:cubicBezTo>
                <a:cubicBezTo>
                  <a:pt x="21971" y="8754"/>
                  <a:pt x="21977" y="8843"/>
                  <a:pt x="22003" y="8922"/>
                </a:cubicBezTo>
                <a:cubicBezTo>
                  <a:pt x="22030" y="9005"/>
                  <a:pt x="22018" y="9017"/>
                  <a:pt x="22066" y="8985"/>
                </a:cubicBezTo>
              </a:path>
              <a:path w="5525" h="2001">
                <a:moveTo>
                  <a:pt x="22162" y="8509"/>
                </a:moveTo>
                <a:cubicBezTo>
                  <a:pt x="22162" y="8605"/>
                  <a:pt x="22172" y="8703"/>
                  <a:pt x="22193" y="8795"/>
                </a:cubicBezTo>
                <a:cubicBezTo>
                  <a:pt x="22205" y="8845"/>
                  <a:pt x="22217" y="9022"/>
                  <a:pt x="22257" y="9049"/>
                </a:cubicBezTo>
                <a:cubicBezTo>
                  <a:pt x="22279" y="9064"/>
                  <a:pt x="22265" y="8929"/>
                  <a:pt x="22257" y="8890"/>
                </a:cubicBezTo>
                <a:cubicBezTo>
                  <a:pt x="22224" y="8728"/>
                  <a:pt x="22236" y="8639"/>
                  <a:pt x="22288" y="8477"/>
                </a:cubicBezTo>
                <a:cubicBezTo>
                  <a:pt x="22322" y="8370"/>
                  <a:pt x="22331" y="8294"/>
                  <a:pt x="22447" y="8287"/>
                </a:cubicBezTo>
                <a:cubicBezTo>
                  <a:pt x="22499" y="8284"/>
                  <a:pt x="22554" y="8287"/>
                  <a:pt x="22606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8"/>
          <p:cNvSpPr/>
          <p:nvPr/>
        </p:nvSpPr>
        <p:spPr>
          <a:xfrm>
            <a:off x="6068880" y="3417840"/>
            <a:ext cx="1428840" cy="593640"/>
          </a:xfrm>
          <a:custGeom>
            <a:avLst/>
            <a:gdLst/>
            <a:ahLst/>
            <a:rect l="l" t="t" r="r" b="b"/>
            <a:pathLst>
              <a:path w="3970" h="1652">
                <a:moveTo>
                  <a:pt x="16923" y="10096"/>
                </a:moveTo>
                <a:cubicBezTo>
                  <a:pt x="16887" y="10096"/>
                  <a:pt x="16873" y="10099"/>
                  <a:pt x="16859" y="10128"/>
                </a:cubicBezTo>
                <a:cubicBezTo>
                  <a:pt x="16900" y="10161"/>
                  <a:pt x="16921" y="10190"/>
                  <a:pt x="16986" y="10160"/>
                </a:cubicBezTo>
                <a:cubicBezTo>
                  <a:pt x="17117" y="10099"/>
                  <a:pt x="17240" y="10039"/>
                  <a:pt x="17367" y="9970"/>
                </a:cubicBezTo>
                <a:cubicBezTo>
                  <a:pt x="17604" y="9840"/>
                  <a:pt x="17853" y="9731"/>
                  <a:pt x="18098" y="9620"/>
                </a:cubicBezTo>
                <a:cubicBezTo>
                  <a:pt x="18210" y="9569"/>
                  <a:pt x="18328" y="9513"/>
                  <a:pt x="18447" y="9493"/>
                </a:cubicBezTo>
                <a:cubicBezTo>
                  <a:pt x="18550" y="9476"/>
                  <a:pt x="18524" y="9491"/>
                  <a:pt x="18542" y="9557"/>
                </a:cubicBezTo>
                <a:cubicBezTo>
                  <a:pt x="18542" y="9567"/>
                  <a:pt x="18542" y="9578"/>
                  <a:pt x="18542" y="9588"/>
                </a:cubicBezTo>
              </a:path>
              <a:path w="3970" h="1652">
                <a:moveTo>
                  <a:pt x="17748" y="10382"/>
                </a:moveTo>
                <a:cubicBezTo>
                  <a:pt x="17761" y="10344"/>
                  <a:pt x="17775" y="10329"/>
                  <a:pt x="17812" y="10287"/>
                </a:cubicBezTo>
                <a:cubicBezTo>
                  <a:pt x="17854" y="10240"/>
                  <a:pt x="17910" y="10167"/>
                  <a:pt x="17970" y="10160"/>
                </a:cubicBezTo>
                <a:cubicBezTo>
                  <a:pt x="18006" y="10156"/>
                  <a:pt x="18084" y="10146"/>
                  <a:pt x="18098" y="10192"/>
                </a:cubicBezTo>
                <a:cubicBezTo>
                  <a:pt x="18129" y="10293"/>
                  <a:pt x="18065" y="10417"/>
                  <a:pt x="18034" y="10509"/>
                </a:cubicBezTo>
                <a:cubicBezTo>
                  <a:pt x="17993" y="10632"/>
                  <a:pt x="17920" y="10736"/>
                  <a:pt x="17875" y="10858"/>
                </a:cubicBezTo>
                <a:cubicBezTo>
                  <a:pt x="17846" y="10935"/>
                  <a:pt x="17788" y="11032"/>
                  <a:pt x="17780" y="11112"/>
                </a:cubicBezTo>
                <a:cubicBezTo>
                  <a:pt x="17780" y="11123"/>
                  <a:pt x="17780" y="11133"/>
                  <a:pt x="17780" y="11144"/>
                </a:cubicBezTo>
                <a:cubicBezTo>
                  <a:pt x="17826" y="11098"/>
                  <a:pt x="17836" y="11061"/>
                  <a:pt x="17875" y="11017"/>
                </a:cubicBezTo>
                <a:cubicBezTo>
                  <a:pt x="17932" y="10953"/>
                  <a:pt x="17950" y="10954"/>
                  <a:pt x="18034" y="10954"/>
                </a:cubicBezTo>
                <a:cubicBezTo>
                  <a:pt x="18077" y="10954"/>
                  <a:pt x="18129" y="10989"/>
                  <a:pt x="18161" y="11017"/>
                </a:cubicBezTo>
                <a:cubicBezTo>
                  <a:pt x="18229" y="11077"/>
                  <a:pt x="18221" y="11034"/>
                  <a:pt x="18256" y="11017"/>
                </a:cubicBezTo>
                <a:cubicBezTo>
                  <a:pt x="18267" y="11017"/>
                  <a:pt x="18277" y="11017"/>
                  <a:pt x="18288" y="11017"/>
                </a:cubicBezTo>
              </a:path>
              <a:path w="3970" h="1652">
                <a:moveTo>
                  <a:pt x="18669" y="10446"/>
                </a:moveTo>
                <a:cubicBezTo>
                  <a:pt x="18579" y="10386"/>
                  <a:pt x="18663" y="10479"/>
                  <a:pt x="18669" y="10509"/>
                </a:cubicBezTo>
                <a:cubicBezTo>
                  <a:pt x="18694" y="10623"/>
                  <a:pt x="18675" y="10745"/>
                  <a:pt x="18701" y="10858"/>
                </a:cubicBezTo>
                <a:cubicBezTo>
                  <a:pt x="18701" y="10869"/>
                  <a:pt x="18701" y="10879"/>
                  <a:pt x="18701" y="10890"/>
                </a:cubicBezTo>
                <a:cubicBezTo>
                  <a:pt x="18681" y="10811"/>
                  <a:pt x="18669" y="10765"/>
                  <a:pt x="18669" y="10668"/>
                </a:cubicBezTo>
                <a:cubicBezTo>
                  <a:pt x="18669" y="10563"/>
                  <a:pt x="18681" y="10535"/>
                  <a:pt x="18732" y="10446"/>
                </a:cubicBezTo>
                <a:cubicBezTo>
                  <a:pt x="18808" y="10446"/>
                  <a:pt x="18781" y="10456"/>
                  <a:pt x="18828" y="10509"/>
                </a:cubicBezTo>
                <a:cubicBezTo>
                  <a:pt x="18880" y="10567"/>
                  <a:pt x="18887" y="10682"/>
                  <a:pt x="18891" y="10763"/>
                </a:cubicBezTo>
                <a:cubicBezTo>
                  <a:pt x="18892" y="10779"/>
                  <a:pt x="18891" y="10992"/>
                  <a:pt x="18891" y="10827"/>
                </a:cubicBezTo>
                <a:cubicBezTo>
                  <a:pt x="18891" y="10738"/>
                  <a:pt x="18900" y="10595"/>
                  <a:pt x="18923" y="10509"/>
                </a:cubicBezTo>
                <a:cubicBezTo>
                  <a:pt x="18938" y="10453"/>
                  <a:pt x="18980" y="10421"/>
                  <a:pt x="19018" y="10382"/>
                </a:cubicBezTo>
                <a:cubicBezTo>
                  <a:pt x="19046" y="10420"/>
                  <a:pt x="19073" y="10492"/>
                  <a:pt x="19082" y="10541"/>
                </a:cubicBezTo>
                <a:cubicBezTo>
                  <a:pt x="19097" y="10622"/>
                  <a:pt x="19093" y="10693"/>
                  <a:pt x="19114" y="10763"/>
                </a:cubicBezTo>
                <a:cubicBezTo>
                  <a:pt x="19133" y="10824"/>
                  <a:pt x="19102" y="10852"/>
                  <a:pt x="19177" y="10795"/>
                </a:cubicBezTo>
              </a:path>
              <a:path w="3970" h="1652">
                <a:moveTo>
                  <a:pt x="19336" y="10350"/>
                </a:moveTo>
                <a:cubicBezTo>
                  <a:pt x="19304" y="10425"/>
                  <a:pt x="19281" y="10523"/>
                  <a:pt x="19272" y="10604"/>
                </a:cubicBezTo>
                <a:cubicBezTo>
                  <a:pt x="19260" y="10711"/>
                  <a:pt x="19278" y="10803"/>
                  <a:pt x="19304" y="10890"/>
                </a:cubicBezTo>
                <a:cubicBezTo>
                  <a:pt x="19304" y="10901"/>
                  <a:pt x="19304" y="10911"/>
                  <a:pt x="19304" y="10922"/>
                </a:cubicBezTo>
                <a:cubicBezTo>
                  <a:pt x="19338" y="10911"/>
                  <a:pt x="19386" y="10850"/>
                  <a:pt x="19399" y="10795"/>
                </a:cubicBezTo>
                <a:cubicBezTo>
                  <a:pt x="19421" y="10700"/>
                  <a:pt x="19431" y="10611"/>
                  <a:pt x="19431" y="10509"/>
                </a:cubicBezTo>
                <a:cubicBezTo>
                  <a:pt x="19431" y="10433"/>
                  <a:pt x="19440" y="10437"/>
                  <a:pt x="19399" y="10382"/>
                </a:cubicBezTo>
                <a:cubicBezTo>
                  <a:pt x="19437" y="10395"/>
                  <a:pt x="19452" y="10409"/>
                  <a:pt x="19494" y="10446"/>
                </a:cubicBezTo>
                <a:cubicBezTo>
                  <a:pt x="19551" y="10497"/>
                  <a:pt x="19563" y="10538"/>
                  <a:pt x="19590" y="10604"/>
                </a:cubicBezTo>
                <a:cubicBezTo>
                  <a:pt x="19619" y="10675"/>
                  <a:pt x="19622" y="10720"/>
                  <a:pt x="19622" y="10795"/>
                </a:cubicBezTo>
                <a:cubicBezTo>
                  <a:pt x="19622" y="10827"/>
                  <a:pt x="19622" y="10838"/>
                  <a:pt x="19622" y="10795"/>
                </a:cubicBezTo>
                <a:cubicBezTo>
                  <a:pt x="19622" y="10672"/>
                  <a:pt x="19637" y="10565"/>
                  <a:pt x="19653" y="10446"/>
                </a:cubicBezTo>
                <a:cubicBezTo>
                  <a:pt x="19663" y="10370"/>
                  <a:pt x="19646" y="10368"/>
                  <a:pt x="19717" y="10350"/>
                </a:cubicBezTo>
                <a:cubicBezTo>
                  <a:pt x="19738" y="10364"/>
                  <a:pt x="19771" y="10457"/>
                  <a:pt x="19780" y="10509"/>
                </a:cubicBezTo>
                <a:cubicBezTo>
                  <a:pt x="19796" y="10600"/>
                  <a:pt x="19807" y="10705"/>
                  <a:pt x="19812" y="10795"/>
                </a:cubicBezTo>
                <a:cubicBezTo>
                  <a:pt x="19819" y="10922"/>
                  <a:pt x="19867" y="10829"/>
                  <a:pt x="19876" y="10763"/>
                </a:cubicBezTo>
                <a:cubicBezTo>
                  <a:pt x="19876" y="10731"/>
                  <a:pt x="19876" y="10700"/>
                  <a:pt x="19876" y="10668"/>
                </a:cubicBezTo>
              </a:path>
              <a:path w="3970" h="1652">
                <a:moveTo>
                  <a:pt x="20002" y="10128"/>
                </a:moveTo>
                <a:cubicBezTo>
                  <a:pt x="20002" y="10314"/>
                  <a:pt x="20009" y="10488"/>
                  <a:pt x="20034" y="10668"/>
                </a:cubicBezTo>
                <a:cubicBezTo>
                  <a:pt x="20042" y="10729"/>
                  <a:pt x="20034" y="10796"/>
                  <a:pt x="20034" y="10858"/>
                </a:cubicBezTo>
              </a:path>
              <a:path w="3970" h="1652">
                <a:moveTo>
                  <a:pt x="19907" y="10573"/>
                </a:moveTo>
                <a:cubicBezTo>
                  <a:pt x="19952" y="10539"/>
                  <a:pt x="20016" y="10524"/>
                  <a:pt x="20066" y="10509"/>
                </a:cubicBezTo>
                <a:cubicBezTo>
                  <a:pt x="20146" y="10485"/>
                  <a:pt x="20180" y="10503"/>
                  <a:pt x="20256" y="10446"/>
                </a:cubicBezTo>
                <a:cubicBezTo>
                  <a:pt x="20288" y="10414"/>
                  <a:pt x="20299" y="10403"/>
                  <a:pt x="20320" y="10382"/>
                </a:cubicBezTo>
              </a:path>
              <a:path w="3970" h="1652">
                <a:moveTo>
                  <a:pt x="20384" y="10065"/>
                </a:moveTo>
                <a:cubicBezTo>
                  <a:pt x="20384" y="10277"/>
                  <a:pt x="20384" y="10488"/>
                  <a:pt x="20384" y="10700"/>
                </a:cubicBezTo>
                <a:cubicBezTo>
                  <a:pt x="20384" y="10615"/>
                  <a:pt x="20402" y="10556"/>
                  <a:pt x="20415" y="10478"/>
                </a:cubicBezTo>
                <a:cubicBezTo>
                  <a:pt x="20427" y="10403"/>
                  <a:pt x="20430" y="10380"/>
                  <a:pt x="20479" y="10319"/>
                </a:cubicBezTo>
                <a:cubicBezTo>
                  <a:pt x="20537" y="10333"/>
                  <a:pt x="20590" y="10379"/>
                  <a:pt x="20606" y="10446"/>
                </a:cubicBezTo>
                <a:cubicBezTo>
                  <a:pt x="20628" y="10538"/>
                  <a:pt x="20634" y="10584"/>
                  <a:pt x="20701" y="10636"/>
                </a:cubicBezTo>
                <a:cubicBezTo>
                  <a:pt x="20749" y="10673"/>
                  <a:pt x="20766" y="10668"/>
                  <a:pt x="20828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9"/>
          <p:cNvSpPr/>
          <p:nvPr/>
        </p:nvSpPr>
        <p:spPr>
          <a:xfrm>
            <a:off x="6526080" y="4229280"/>
            <a:ext cx="138240" cy="171360"/>
          </a:xfrm>
          <a:custGeom>
            <a:avLst/>
            <a:gdLst/>
            <a:ahLst/>
            <a:rect l="l" t="t" r="r" b="b"/>
            <a:pathLst>
              <a:path w="382" h="477">
                <a:moveTo>
                  <a:pt x="18129" y="11874"/>
                </a:moveTo>
                <a:cubicBezTo>
                  <a:pt x="18195" y="11826"/>
                  <a:pt x="18216" y="11873"/>
                  <a:pt x="18288" y="11843"/>
                </a:cubicBezTo>
                <a:cubicBezTo>
                  <a:pt x="18334" y="11824"/>
                  <a:pt x="18405" y="11800"/>
                  <a:pt x="18447" y="11779"/>
                </a:cubicBezTo>
                <a:cubicBezTo>
                  <a:pt x="18478" y="11748"/>
                  <a:pt x="18489" y="11738"/>
                  <a:pt x="18510" y="11779"/>
                </a:cubicBezTo>
              </a:path>
              <a:path w="382" h="477">
                <a:moveTo>
                  <a:pt x="18193" y="12224"/>
                </a:moveTo>
                <a:cubicBezTo>
                  <a:pt x="18263" y="12224"/>
                  <a:pt x="18284" y="12209"/>
                  <a:pt x="18352" y="12192"/>
                </a:cubicBezTo>
                <a:cubicBezTo>
                  <a:pt x="18397" y="12192"/>
                  <a:pt x="18419" y="12186"/>
                  <a:pt x="18447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0"/>
          <p:cNvSpPr/>
          <p:nvPr/>
        </p:nvSpPr>
        <p:spPr>
          <a:xfrm>
            <a:off x="6823080" y="4114800"/>
            <a:ext cx="195120" cy="538200"/>
          </a:xfrm>
          <a:custGeom>
            <a:avLst/>
            <a:gdLst/>
            <a:ahLst/>
            <a:rect l="l" t="t" r="r" b="b"/>
            <a:pathLst>
              <a:path w="540" h="1493">
                <a:moveTo>
                  <a:pt x="19145" y="11430"/>
                </a:moveTo>
                <a:cubicBezTo>
                  <a:pt x="19099" y="11446"/>
                  <a:pt x="19080" y="11530"/>
                  <a:pt x="19050" y="11589"/>
                </a:cubicBezTo>
                <a:cubicBezTo>
                  <a:pt x="18991" y="11706"/>
                  <a:pt x="19007" y="11843"/>
                  <a:pt x="18986" y="11970"/>
                </a:cubicBezTo>
                <a:cubicBezTo>
                  <a:pt x="18957" y="12142"/>
                  <a:pt x="18955" y="12302"/>
                  <a:pt x="18955" y="12478"/>
                </a:cubicBezTo>
                <a:cubicBezTo>
                  <a:pt x="18955" y="12558"/>
                  <a:pt x="18952" y="12762"/>
                  <a:pt x="19018" y="12827"/>
                </a:cubicBezTo>
                <a:cubicBezTo>
                  <a:pt x="19072" y="12880"/>
                  <a:pt x="19161" y="12869"/>
                  <a:pt x="19209" y="12827"/>
                </a:cubicBezTo>
                <a:cubicBezTo>
                  <a:pt x="19328" y="12724"/>
                  <a:pt x="19331" y="12641"/>
                  <a:pt x="19399" y="12510"/>
                </a:cubicBezTo>
                <a:cubicBezTo>
                  <a:pt x="19464" y="12385"/>
                  <a:pt x="19482" y="12351"/>
                  <a:pt x="19463" y="12224"/>
                </a:cubicBezTo>
                <a:cubicBezTo>
                  <a:pt x="19463" y="12188"/>
                  <a:pt x="19460" y="12174"/>
                  <a:pt x="19431" y="12160"/>
                </a:cubicBezTo>
                <a:cubicBezTo>
                  <a:pt x="19371" y="12205"/>
                  <a:pt x="19297" y="12230"/>
                  <a:pt x="19272" y="12319"/>
                </a:cubicBezTo>
                <a:cubicBezTo>
                  <a:pt x="19243" y="12421"/>
                  <a:pt x="19213" y="12527"/>
                  <a:pt x="19209" y="12636"/>
                </a:cubicBezTo>
                <a:cubicBezTo>
                  <a:pt x="19205" y="12742"/>
                  <a:pt x="19204" y="12825"/>
                  <a:pt x="19240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1"/>
          <p:cNvSpPr/>
          <p:nvPr/>
        </p:nvSpPr>
        <p:spPr>
          <a:xfrm>
            <a:off x="7155000" y="4079880"/>
            <a:ext cx="742680" cy="492120"/>
          </a:xfrm>
          <a:custGeom>
            <a:avLst/>
            <a:gdLst/>
            <a:ahLst/>
            <a:rect l="l" t="t" r="r" b="b"/>
            <a:pathLst>
              <a:path w="2064" h="1366">
                <a:moveTo>
                  <a:pt x="19876" y="11779"/>
                </a:moveTo>
                <a:cubicBezTo>
                  <a:pt x="19920" y="11839"/>
                  <a:pt x="19915" y="11870"/>
                  <a:pt x="19939" y="11938"/>
                </a:cubicBezTo>
                <a:cubicBezTo>
                  <a:pt x="19963" y="12005"/>
                  <a:pt x="20025" y="12101"/>
                  <a:pt x="20066" y="12160"/>
                </a:cubicBezTo>
                <a:cubicBezTo>
                  <a:pt x="20119" y="12236"/>
                  <a:pt x="20157" y="12316"/>
                  <a:pt x="20225" y="12382"/>
                </a:cubicBezTo>
              </a:path>
              <a:path w="2064" h="1366">
                <a:moveTo>
                  <a:pt x="20002" y="11335"/>
                </a:moveTo>
                <a:cubicBezTo>
                  <a:pt x="20002" y="11413"/>
                  <a:pt x="20031" y="11479"/>
                  <a:pt x="20034" y="11557"/>
                </a:cubicBezTo>
                <a:cubicBezTo>
                  <a:pt x="20047" y="11856"/>
                  <a:pt x="20033" y="12153"/>
                  <a:pt x="20066" y="12446"/>
                </a:cubicBezTo>
                <a:cubicBezTo>
                  <a:pt x="20079" y="12562"/>
                  <a:pt x="20049" y="12586"/>
                  <a:pt x="20130" y="12668"/>
                </a:cubicBezTo>
                <a:cubicBezTo>
                  <a:pt x="20189" y="12728"/>
                  <a:pt x="20206" y="12686"/>
                  <a:pt x="20256" y="12636"/>
                </a:cubicBezTo>
                <a:cubicBezTo>
                  <a:pt x="20302" y="12591"/>
                  <a:pt x="20368" y="12544"/>
                  <a:pt x="20384" y="12478"/>
                </a:cubicBezTo>
                <a:cubicBezTo>
                  <a:pt x="20384" y="12414"/>
                  <a:pt x="20384" y="12393"/>
                  <a:pt x="20384" y="12351"/>
                </a:cubicBezTo>
              </a:path>
              <a:path w="2064" h="1366">
                <a:moveTo>
                  <a:pt x="19939" y="12097"/>
                </a:moveTo>
                <a:cubicBezTo>
                  <a:pt x="20003" y="12097"/>
                  <a:pt x="20014" y="12082"/>
                  <a:pt x="20066" y="12065"/>
                </a:cubicBezTo>
                <a:cubicBezTo>
                  <a:pt x="20133" y="12043"/>
                  <a:pt x="20197" y="12033"/>
                  <a:pt x="20256" y="12002"/>
                </a:cubicBezTo>
                <a:cubicBezTo>
                  <a:pt x="20320" y="11970"/>
                  <a:pt x="20341" y="11959"/>
                  <a:pt x="20352" y="11906"/>
                </a:cubicBezTo>
              </a:path>
              <a:path w="2064" h="1366">
                <a:moveTo>
                  <a:pt x="20447" y="11811"/>
                </a:moveTo>
                <a:cubicBezTo>
                  <a:pt x="20429" y="11847"/>
                  <a:pt x="20431" y="11966"/>
                  <a:pt x="20447" y="12033"/>
                </a:cubicBezTo>
                <a:cubicBezTo>
                  <a:pt x="20475" y="12150"/>
                  <a:pt x="20461" y="12261"/>
                  <a:pt x="20479" y="12382"/>
                </a:cubicBezTo>
                <a:cubicBezTo>
                  <a:pt x="20482" y="12401"/>
                  <a:pt x="20510" y="12712"/>
                  <a:pt x="20510" y="12636"/>
                </a:cubicBezTo>
              </a:path>
              <a:path w="2064" h="1366">
                <a:moveTo>
                  <a:pt x="20638" y="11811"/>
                </a:moveTo>
                <a:cubicBezTo>
                  <a:pt x="20691" y="11829"/>
                  <a:pt x="20697" y="11902"/>
                  <a:pt x="20701" y="11970"/>
                </a:cubicBezTo>
                <a:cubicBezTo>
                  <a:pt x="20706" y="12066"/>
                  <a:pt x="20651" y="12419"/>
                  <a:pt x="20733" y="12446"/>
                </a:cubicBezTo>
                <a:cubicBezTo>
                  <a:pt x="20733" y="12284"/>
                  <a:pt x="20718" y="12125"/>
                  <a:pt x="20764" y="11970"/>
                </a:cubicBezTo>
                <a:cubicBezTo>
                  <a:pt x="20789" y="11885"/>
                  <a:pt x="20806" y="11801"/>
                  <a:pt x="20892" y="11779"/>
                </a:cubicBezTo>
                <a:cubicBezTo>
                  <a:pt x="20892" y="11900"/>
                  <a:pt x="20838" y="12385"/>
                  <a:pt x="20923" y="12414"/>
                </a:cubicBezTo>
                <a:cubicBezTo>
                  <a:pt x="20923" y="12292"/>
                  <a:pt x="20942" y="12182"/>
                  <a:pt x="20955" y="12065"/>
                </a:cubicBezTo>
                <a:cubicBezTo>
                  <a:pt x="20965" y="11978"/>
                  <a:pt x="20964" y="11879"/>
                  <a:pt x="21018" y="11811"/>
                </a:cubicBezTo>
                <a:cubicBezTo>
                  <a:pt x="21029" y="11800"/>
                  <a:pt x="21039" y="11790"/>
                  <a:pt x="21050" y="11779"/>
                </a:cubicBezTo>
                <a:cubicBezTo>
                  <a:pt x="21065" y="11851"/>
                  <a:pt x="21066" y="11929"/>
                  <a:pt x="21082" y="12002"/>
                </a:cubicBezTo>
                <a:cubicBezTo>
                  <a:pt x="21105" y="12106"/>
                  <a:pt x="21114" y="12221"/>
                  <a:pt x="21146" y="12319"/>
                </a:cubicBezTo>
                <a:cubicBezTo>
                  <a:pt x="21170" y="12390"/>
                  <a:pt x="21191" y="12376"/>
                  <a:pt x="21241" y="12414"/>
                </a:cubicBezTo>
                <a:cubicBezTo>
                  <a:pt x="21313" y="12396"/>
                  <a:pt x="21303" y="12356"/>
                  <a:pt x="21336" y="12287"/>
                </a:cubicBezTo>
                <a:cubicBezTo>
                  <a:pt x="21385" y="12185"/>
                  <a:pt x="21395" y="12052"/>
                  <a:pt x="21400" y="11938"/>
                </a:cubicBezTo>
                <a:cubicBezTo>
                  <a:pt x="21402" y="11885"/>
                  <a:pt x="21400" y="11832"/>
                  <a:pt x="21400" y="11779"/>
                </a:cubicBezTo>
                <a:cubicBezTo>
                  <a:pt x="21332" y="11796"/>
                  <a:pt x="21316" y="11866"/>
                  <a:pt x="21304" y="11938"/>
                </a:cubicBezTo>
                <a:cubicBezTo>
                  <a:pt x="21284" y="12060"/>
                  <a:pt x="21323" y="12172"/>
                  <a:pt x="21336" y="12287"/>
                </a:cubicBezTo>
                <a:cubicBezTo>
                  <a:pt x="21340" y="12327"/>
                  <a:pt x="21347" y="12497"/>
                  <a:pt x="21431" y="12478"/>
                </a:cubicBezTo>
                <a:cubicBezTo>
                  <a:pt x="21469" y="12440"/>
                  <a:pt x="21484" y="12421"/>
                  <a:pt x="21495" y="12382"/>
                </a:cubicBezTo>
              </a:path>
              <a:path w="2064" h="1366">
                <a:moveTo>
                  <a:pt x="21749" y="11652"/>
                </a:moveTo>
                <a:cubicBezTo>
                  <a:pt x="21696" y="11705"/>
                  <a:pt x="21639" y="11767"/>
                  <a:pt x="21622" y="11843"/>
                </a:cubicBezTo>
                <a:cubicBezTo>
                  <a:pt x="21607" y="11912"/>
                  <a:pt x="21609" y="12014"/>
                  <a:pt x="21654" y="12065"/>
                </a:cubicBezTo>
                <a:cubicBezTo>
                  <a:pt x="21704" y="12122"/>
                  <a:pt x="21728" y="12069"/>
                  <a:pt x="21780" y="12097"/>
                </a:cubicBezTo>
                <a:cubicBezTo>
                  <a:pt x="21828" y="12123"/>
                  <a:pt x="21912" y="12130"/>
                  <a:pt x="21939" y="12192"/>
                </a:cubicBezTo>
                <a:cubicBezTo>
                  <a:pt x="21966" y="12254"/>
                  <a:pt x="21903" y="12307"/>
                  <a:pt x="21876" y="12351"/>
                </a:cubicBezTo>
                <a:cubicBezTo>
                  <a:pt x="21813" y="12454"/>
                  <a:pt x="21777" y="12493"/>
                  <a:pt x="21685" y="12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2"/>
          <p:cNvSpPr/>
          <p:nvPr/>
        </p:nvSpPr>
        <p:spPr>
          <a:xfrm>
            <a:off x="7064280" y="4835520"/>
            <a:ext cx="11160" cy="34920"/>
          </a:xfrm>
          <a:custGeom>
            <a:avLst/>
            <a:gdLst/>
            <a:ahLst/>
            <a:rect l="l" t="t" r="r" b="b"/>
            <a:pathLst>
              <a:path w="32" h="97">
                <a:moveTo>
                  <a:pt x="19653" y="13494"/>
                </a:moveTo>
                <a:cubicBezTo>
                  <a:pt x="19625" y="13465"/>
                  <a:pt x="19615" y="13450"/>
                  <a:pt x="19622" y="13494"/>
                </a:cubicBezTo>
                <a:cubicBezTo>
                  <a:pt x="19642" y="13536"/>
                  <a:pt x="19653" y="13383"/>
                  <a:pt x="19653" y="13430"/>
                </a:cubicBezTo>
                <a:cubicBezTo>
                  <a:pt x="19653" y="13471"/>
                  <a:pt x="19631" y="13488"/>
                  <a:pt x="19622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13"/>
          <p:cNvSpPr/>
          <p:nvPr/>
        </p:nvSpPr>
        <p:spPr>
          <a:xfrm>
            <a:off x="7201080" y="4697280"/>
            <a:ext cx="137880" cy="435240"/>
          </a:xfrm>
          <a:custGeom>
            <a:avLst/>
            <a:gdLst/>
            <a:ahLst/>
            <a:rect l="l" t="t" r="r" b="b"/>
            <a:pathLst>
              <a:path w="383" h="1208">
                <a:moveTo>
                  <a:pt x="20002" y="13113"/>
                </a:moveTo>
                <a:cubicBezTo>
                  <a:pt x="20057" y="13072"/>
                  <a:pt x="20089" y="13055"/>
                  <a:pt x="20161" y="13049"/>
                </a:cubicBezTo>
                <a:cubicBezTo>
                  <a:pt x="20218" y="13044"/>
                  <a:pt x="20246" y="13044"/>
                  <a:pt x="20288" y="13081"/>
                </a:cubicBezTo>
                <a:cubicBezTo>
                  <a:pt x="20344" y="13131"/>
                  <a:pt x="20327" y="13214"/>
                  <a:pt x="20288" y="13272"/>
                </a:cubicBezTo>
                <a:cubicBezTo>
                  <a:pt x="20249" y="13329"/>
                  <a:pt x="20211" y="13449"/>
                  <a:pt x="20161" y="13494"/>
                </a:cubicBezTo>
                <a:cubicBezTo>
                  <a:pt x="20143" y="13511"/>
                  <a:pt x="20093" y="13530"/>
                  <a:pt x="20066" y="13557"/>
                </a:cubicBezTo>
                <a:cubicBezTo>
                  <a:pt x="20078" y="13522"/>
                  <a:pt x="20110" y="13500"/>
                  <a:pt x="20161" y="13494"/>
                </a:cubicBezTo>
                <a:cubicBezTo>
                  <a:pt x="20201" y="13490"/>
                  <a:pt x="20297" y="13484"/>
                  <a:pt x="20320" y="13526"/>
                </a:cubicBezTo>
                <a:cubicBezTo>
                  <a:pt x="20355" y="13591"/>
                  <a:pt x="20381" y="13734"/>
                  <a:pt x="20384" y="13811"/>
                </a:cubicBezTo>
                <a:cubicBezTo>
                  <a:pt x="20388" y="13913"/>
                  <a:pt x="20371" y="14072"/>
                  <a:pt x="20320" y="14160"/>
                </a:cubicBezTo>
                <a:cubicBezTo>
                  <a:pt x="20295" y="14203"/>
                  <a:pt x="20238" y="14251"/>
                  <a:pt x="20193" y="14256"/>
                </a:cubicBezTo>
                <a:cubicBezTo>
                  <a:pt x="20115" y="14265"/>
                  <a:pt x="20106" y="14181"/>
                  <a:pt x="20098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14"/>
          <p:cNvSpPr/>
          <p:nvPr/>
        </p:nvSpPr>
        <p:spPr>
          <a:xfrm>
            <a:off x="7508880" y="4754520"/>
            <a:ext cx="789120" cy="549360"/>
          </a:xfrm>
          <a:custGeom>
            <a:avLst/>
            <a:gdLst/>
            <a:ahLst/>
            <a:rect l="l" t="t" r="r" b="b"/>
            <a:pathLst>
              <a:path w="2191" h="1525">
                <a:moveTo>
                  <a:pt x="20892" y="13462"/>
                </a:moveTo>
                <a:cubicBezTo>
                  <a:pt x="20881" y="13500"/>
                  <a:pt x="20860" y="13568"/>
                  <a:pt x="20860" y="13652"/>
                </a:cubicBezTo>
                <a:cubicBezTo>
                  <a:pt x="20860" y="13780"/>
                  <a:pt x="20865" y="13911"/>
                  <a:pt x="20892" y="14034"/>
                </a:cubicBezTo>
                <a:cubicBezTo>
                  <a:pt x="20922" y="14173"/>
                  <a:pt x="20924" y="14107"/>
                  <a:pt x="20987" y="14160"/>
                </a:cubicBezTo>
                <a:cubicBezTo>
                  <a:pt x="21040" y="14094"/>
                  <a:pt x="21100" y="13991"/>
                  <a:pt x="21114" y="13906"/>
                </a:cubicBezTo>
                <a:cubicBezTo>
                  <a:pt x="21128" y="13825"/>
                  <a:pt x="21112" y="13654"/>
                  <a:pt x="21177" y="13589"/>
                </a:cubicBezTo>
                <a:cubicBezTo>
                  <a:pt x="21188" y="13589"/>
                  <a:pt x="21198" y="13589"/>
                  <a:pt x="21209" y="13589"/>
                </a:cubicBezTo>
                <a:cubicBezTo>
                  <a:pt x="21209" y="13713"/>
                  <a:pt x="21225" y="13819"/>
                  <a:pt x="21241" y="13938"/>
                </a:cubicBezTo>
                <a:cubicBezTo>
                  <a:pt x="21259" y="14067"/>
                  <a:pt x="21272" y="14188"/>
                  <a:pt x="21272" y="14319"/>
                </a:cubicBezTo>
                <a:cubicBezTo>
                  <a:pt x="21272" y="14415"/>
                  <a:pt x="21278" y="14550"/>
                  <a:pt x="21241" y="14637"/>
                </a:cubicBezTo>
                <a:cubicBezTo>
                  <a:pt x="21219" y="14688"/>
                  <a:pt x="21149" y="14711"/>
                  <a:pt x="21114" y="14732"/>
                </a:cubicBezTo>
                <a:cubicBezTo>
                  <a:pt x="21093" y="14677"/>
                  <a:pt x="21062" y="14612"/>
                  <a:pt x="21082" y="14542"/>
                </a:cubicBezTo>
                <a:cubicBezTo>
                  <a:pt x="21105" y="14459"/>
                  <a:pt x="21128" y="14330"/>
                  <a:pt x="21177" y="14256"/>
                </a:cubicBezTo>
                <a:cubicBezTo>
                  <a:pt x="21234" y="14170"/>
                  <a:pt x="21334" y="14081"/>
                  <a:pt x="21400" y="14002"/>
                </a:cubicBezTo>
                <a:cubicBezTo>
                  <a:pt x="21478" y="13908"/>
                  <a:pt x="21548" y="13811"/>
                  <a:pt x="21622" y="13716"/>
                </a:cubicBezTo>
                <a:cubicBezTo>
                  <a:pt x="21677" y="13646"/>
                  <a:pt x="21764" y="13557"/>
                  <a:pt x="21780" y="13462"/>
                </a:cubicBezTo>
                <a:cubicBezTo>
                  <a:pt x="21780" y="13420"/>
                  <a:pt x="21780" y="13399"/>
                  <a:pt x="21780" y="13367"/>
                </a:cubicBezTo>
                <a:cubicBezTo>
                  <a:pt x="21732" y="13451"/>
                  <a:pt x="21673" y="13521"/>
                  <a:pt x="21654" y="13621"/>
                </a:cubicBezTo>
                <a:cubicBezTo>
                  <a:pt x="21632" y="13736"/>
                  <a:pt x="21622" y="13851"/>
                  <a:pt x="21622" y="13970"/>
                </a:cubicBezTo>
                <a:cubicBezTo>
                  <a:pt x="21622" y="14026"/>
                  <a:pt x="21646" y="14129"/>
                  <a:pt x="21717" y="14129"/>
                </a:cubicBezTo>
                <a:cubicBezTo>
                  <a:pt x="21765" y="14129"/>
                  <a:pt x="21813" y="14064"/>
                  <a:pt x="21844" y="14034"/>
                </a:cubicBezTo>
              </a:path>
              <a:path w="2191" h="1525">
                <a:moveTo>
                  <a:pt x="22098" y="13684"/>
                </a:moveTo>
                <a:cubicBezTo>
                  <a:pt x="22098" y="13622"/>
                  <a:pt x="22097" y="13545"/>
                  <a:pt x="22066" y="13494"/>
                </a:cubicBezTo>
                <a:cubicBezTo>
                  <a:pt x="22034" y="13462"/>
                  <a:pt x="22024" y="13452"/>
                  <a:pt x="22003" y="13430"/>
                </a:cubicBezTo>
                <a:cubicBezTo>
                  <a:pt x="21949" y="13448"/>
                  <a:pt x="21943" y="13520"/>
                  <a:pt x="21939" y="13589"/>
                </a:cubicBezTo>
                <a:cubicBezTo>
                  <a:pt x="21933" y="13691"/>
                  <a:pt x="21929" y="13792"/>
                  <a:pt x="21971" y="13875"/>
                </a:cubicBezTo>
                <a:cubicBezTo>
                  <a:pt x="22009" y="13951"/>
                  <a:pt x="21997" y="13938"/>
                  <a:pt x="22066" y="13938"/>
                </a:cubicBezTo>
                <a:cubicBezTo>
                  <a:pt x="22084" y="13867"/>
                  <a:pt x="22079" y="13794"/>
                  <a:pt x="22098" y="13716"/>
                </a:cubicBezTo>
                <a:cubicBezTo>
                  <a:pt x="22117" y="13635"/>
                  <a:pt x="22130" y="13582"/>
                  <a:pt x="22130" y="13494"/>
                </a:cubicBezTo>
                <a:cubicBezTo>
                  <a:pt x="22187" y="13513"/>
                  <a:pt x="22162" y="13584"/>
                  <a:pt x="22162" y="13652"/>
                </a:cubicBezTo>
                <a:cubicBezTo>
                  <a:pt x="22162" y="13692"/>
                  <a:pt x="22169" y="13872"/>
                  <a:pt x="22193" y="13906"/>
                </a:cubicBezTo>
                <a:cubicBezTo>
                  <a:pt x="22204" y="13906"/>
                  <a:pt x="22214" y="13906"/>
                  <a:pt x="22225" y="13906"/>
                </a:cubicBezTo>
              </a:path>
              <a:path w="2191" h="1525">
                <a:moveTo>
                  <a:pt x="22320" y="13430"/>
                </a:moveTo>
                <a:cubicBezTo>
                  <a:pt x="22354" y="13475"/>
                  <a:pt x="22380" y="13528"/>
                  <a:pt x="22384" y="13589"/>
                </a:cubicBezTo>
                <a:cubicBezTo>
                  <a:pt x="22388" y="13654"/>
                  <a:pt x="22393" y="13782"/>
                  <a:pt x="22416" y="13843"/>
                </a:cubicBezTo>
                <a:cubicBezTo>
                  <a:pt x="22426" y="13854"/>
                  <a:pt x="22437" y="13864"/>
                  <a:pt x="22447" y="13875"/>
                </a:cubicBezTo>
                <a:cubicBezTo>
                  <a:pt x="22447" y="13951"/>
                  <a:pt x="22410" y="13792"/>
                  <a:pt x="22416" y="13716"/>
                </a:cubicBezTo>
                <a:cubicBezTo>
                  <a:pt x="22422" y="13651"/>
                  <a:pt x="22440" y="13511"/>
                  <a:pt x="22479" y="13462"/>
                </a:cubicBezTo>
                <a:cubicBezTo>
                  <a:pt x="22514" y="13418"/>
                  <a:pt x="22532" y="13388"/>
                  <a:pt x="22574" y="13367"/>
                </a:cubicBezTo>
              </a:path>
              <a:path w="2191" h="1525">
                <a:moveTo>
                  <a:pt x="22892" y="13240"/>
                </a:moveTo>
                <a:cubicBezTo>
                  <a:pt x="22924" y="13240"/>
                  <a:pt x="22935" y="13240"/>
                  <a:pt x="22924" y="13208"/>
                </a:cubicBezTo>
                <a:cubicBezTo>
                  <a:pt x="22856" y="13208"/>
                  <a:pt x="22845" y="13223"/>
                  <a:pt x="22796" y="13272"/>
                </a:cubicBezTo>
                <a:cubicBezTo>
                  <a:pt x="22746" y="13322"/>
                  <a:pt x="22708" y="13393"/>
                  <a:pt x="22701" y="13462"/>
                </a:cubicBezTo>
                <a:cubicBezTo>
                  <a:pt x="22697" y="13506"/>
                  <a:pt x="22769" y="13587"/>
                  <a:pt x="22796" y="13589"/>
                </a:cubicBezTo>
                <a:cubicBezTo>
                  <a:pt x="22881" y="13596"/>
                  <a:pt x="22907" y="13601"/>
                  <a:pt x="22987" y="13621"/>
                </a:cubicBezTo>
                <a:cubicBezTo>
                  <a:pt x="23064" y="13640"/>
                  <a:pt x="23050" y="13670"/>
                  <a:pt x="23050" y="13748"/>
                </a:cubicBezTo>
                <a:cubicBezTo>
                  <a:pt x="23050" y="13831"/>
                  <a:pt x="23045" y="13875"/>
                  <a:pt x="22987" y="13938"/>
                </a:cubicBezTo>
                <a:cubicBezTo>
                  <a:pt x="22928" y="14002"/>
                  <a:pt x="22854" y="14077"/>
                  <a:pt x="22765" y="14097"/>
                </a:cubicBezTo>
                <a:cubicBezTo>
                  <a:pt x="22744" y="14097"/>
                  <a:pt x="22722" y="14097"/>
                  <a:pt x="22701" y="14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15"/>
          <p:cNvSpPr/>
          <p:nvPr/>
        </p:nvSpPr>
        <p:spPr>
          <a:xfrm>
            <a:off x="7201080" y="5326200"/>
            <a:ext cx="296640" cy="595080"/>
          </a:xfrm>
          <a:custGeom>
            <a:avLst/>
            <a:gdLst/>
            <a:ahLst/>
            <a:rect l="l" t="t" r="r" b="b"/>
            <a:pathLst>
              <a:path w="827" h="1651">
                <a:moveTo>
                  <a:pt x="20066" y="14796"/>
                </a:moveTo>
                <a:cubicBezTo>
                  <a:pt x="20089" y="14884"/>
                  <a:pt x="20079" y="14890"/>
                  <a:pt x="20066" y="14986"/>
                </a:cubicBezTo>
                <a:cubicBezTo>
                  <a:pt x="20045" y="15149"/>
                  <a:pt x="20048" y="15331"/>
                  <a:pt x="20034" y="15494"/>
                </a:cubicBezTo>
                <a:cubicBezTo>
                  <a:pt x="20018" y="15686"/>
                  <a:pt x="20002" y="15872"/>
                  <a:pt x="20002" y="16066"/>
                </a:cubicBezTo>
                <a:cubicBezTo>
                  <a:pt x="20002" y="16143"/>
                  <a:pt x="19967" y="16458"/>
                  <a:pt x="20034" y="16415"/>
                </a:cubicBezTo>
              </a:path>
              <a:path w="827" h="1651">
                <a:moveTo>
                  <a:pt x="20574" y="15113"/>
                </a:moveTo>
                <a:cubicBezTo>
                  <a:pt x="20606" y="15057"/>
                  <a:pt x="20655" y="15011"/>
                  <a:pt x="20669" y="14954"/>
                </a:cubicBezTo>
                <a:cubicBezTo>
                  <a:pt x="20600" y="14954"/>
                  <a:pt x="20562" y="14970"/>
                  <a:pt x="20510" y="15018"/>
                </a:cubicBezTo>
                <a:cubicBezTo>
                  <a:pt x="20426" y="15096"/>
                  <a:pt x="20373" y="15203"/>
                  <a:pt x="20320" y="15304"/>
                </a:cubicBezTo>
                <a:cubicBezTo>
                  <a:pt x="20292" y="15357"/>
                  <a:pt x="20237" y="15466"/>
                  <a:pt x="20256" y="15526"/>
                </a:cubicBezTo>
                <a:cubicBezTo>
                  <a:pt x="20267" y="15563"/>
                  <a:pt x="20316" y="15630"/>
                  <a:pt x="20352" y="15653"/>
                </a:cubicBezTo>
                <a:cubicBezTo>
                  <a:pt x="20412" y="15691"/>
                  <a:pt x="20481" y="15711"/>
                  <a:pt x="20542" y="15748"/>
                </a:cubicBezTo>
                <a:cubicBezTo>
                  <a:pt x="20641" y="15807"/>
                  <a:pt x="20655" y="15867"/>
                  <a:pt x="20701" y="15970"/>
                </a:cubicBezTo>
                <a:cubicBezTo>
                  <a:pt x="20740" y="16057"/>
                  <a:pt x="20733" y="16129"/>
                  <a:pt x="20733" y="16224"/>
                </a:cubicBezTo>
                <a:cubicBezTo>
                  <a:pt x="20733" y="16300"/>
                  <a:pt x="20706" y="16372"/>
                  <a:pt x="20638" y="16415"/>
                </a:cubicBezTo>
                <a:cubicBezTo>
                  <a:pt x="20568" y="16459"/>
                  <a:pt x="20532" y="16432"/>
                  <a:pt x="20510" y="16383"/>
                </a:cubicBezTo>
                <a:cubicBezTo>
                  <a:pt x="20461" y="16276"/>
                  <a:pt x="20447" y="16216"/>
                  <a:pt x="20447" y="16097"/>
                </a:cubicBezTo>
                <a:cubicBezTo>
                  <a:pt x="20447" y="15935"/>
                  <a:pt x="20463" y="15808"/>
                  <a:pt x="20510" y="15653"/>
                </a:cubicBezTo>
                <a:cubicBezTo>
                  <a:pt x="20550" y="15518"/>
                  <a:pt x="20621" y="15430"/>
                  <a:pt x="20669" y="15304"/>
                </a:cubicBezTo>
                <a:cubicBezTo>
                  <a:pt x="20713" y="15188"/>
                  <a:pt x="20763" y="15092"/>
                  <a:pt x="20828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16"/>
          <p:cNvSpPr/>
          <p:nvPr/>
        </p:nvSpPr>
        <p:spPr>
          <a:xfrm>
            <a:off x="7658280" y="5315040"/>
            <a:ext cx="903240" cy="582480"/>
          </a:xfrm>
          <a:custGeom>
            <a:avLst/>
            <a:gdLst/>
            <a:ahLst/>
            <a:rect l="l" t="t" r="r" b="b"/>
            <a:pathLst>
              <a:path w="2510" h="1620">
                <a:moveTo>
                  <a:pt x="21495" y="14764"/>
                </a:moveTo>
                <a:cubicBezTo>
                  <a:pt x="21571" y="14790"/>
                  <a:pt x="21503" y="14885"/>
                  <a:pt x="21495" y="14954"/>
                </a:cubicBezTo>
                <a:cubicBezTo>
                  <a:pt x="21458" y="15285"/>
                  <a:pt x="21495" y="15643"/>
                  <a:pt x="21526" y="15970"/>
                </a:cubicBezTo>
                <a:cubicBezTo>
                  <a:pt x="21536" y="16076"/>
                  <a:pt x="21552" y="16185"/>
                  <a:pt x="21558" y="16288"/>
                </a:cubicBezTo>
                <a:cubicBezTo>
                  <a:pt x="21564" y="16380"/>
                  <a:pt x="21598" y="16359"/>
                  <a:pt x="21622" y="16351"/>
                </a:cubicBezTo>
                <a:cubicBezTo>
                  <a:pt x="21704" y="16324"/>
                  <a:pt x="21653" y="16314"/>
                  <a:pt x="21685" y="16256"/>
                </a:cubicBezTo>
                <a:cubicBezTo>
                  <a:pt x="21723" y="16188"/>
                  <a:pt x="21729" y="16170"/>
                  <a:pt x="21685" y="16097"/>
                </a:cubicBezTo>
              </a:path>
              <a:path w="2510" h="1620">
                <a:moveTo>
                  <a:pt x="21272" y="15716"/>
                </a:moveTo>
                <a:cubicBezTo>
                  <a:pt x="21316" y="15683"/>
                  <a:pt x="21352" y="15674"/>
                  <a:pt x="21400" y="15653"/>
                </a:cubicBezTo>
                <a:cubicBezTo>
                  <a:pt x="21472" y="15622"/>
                  <a:pt x="21557" y="15588"/>
                  <a:pt x="21622" y="15558"/>
                </a:cubicBezTo>
                <a:cubicBezTo>
                  <a:pt x="21633" y="15547"/>
                  <a:pt x="21643" y="15537"/>
                  <a:pt x="21654" y="15526"/>
                </a:cubicBezTo>
              </a:path>
              <a:path w="2510" h="1620">
                <a:moveTo>
                  <a:pt x="21844" y="15240"/>
                </a:moveTo>
                <a:cubicBezTo>
                  <a:pt x="21860" y="15319"/>
                  <a:pt x="21876" y="15377"/>
                  <a:pt x="21876" y="15462"/>
                </a:cubicBezTo>
                <a:cubicBezTo>
                  <a:pt x="21876" y="15678"/>
                  <a:pt x="21891" y="15885"/>
                  <a:pt x="21908" y="16097"/>
                </a:cubicBezTo>
                <a:cubicBezTo>
                  <a:pt x="21916" y="16193"/>
                  <a:pt x="21923" y="16235"/>
                  <a:pt x="21939" y="16320"/>
                </a:cubicBezTo>
              </a:path>
              <a:path w="2510" h="1620">
                <a:moveTo>
                  <a:pt x="22034" y="15335"/>
                </a:moveTo>
                <a:cubicBezTo>
                  <a:pt x="22075" y="15256"/>
                  <a:pt x="22066" y="15424"/>
                  <a:pt x="22066" y="15462"/>
                </a:cubicBezTo>
                <a:cubicBezTo>
                  <a:pt x="22066" y="15613"/>
                  <a:pt x="22115" y="15757"/>
                  <a:pt x="22130" y="15907"/>
                </a:cubicBezTo>
                <a:cubicBezTo>
                  <a:pt x="22130" y="15992"/>
                  <a:pt x="22130" y="16013"/>
                  <a:pt x="22130" y="16066"/>
                </a:cubicBezTo>
                <a:cubicBezTo>
                  <a:pt x="22214" y="16120"/>
                  <a:pt x="22136" y="15991"/>
                  <a:pt x="22130" y="15938"/>
                </a:cubicBezTo>
                <a:cubicBezTo>
                  <a:pt x="22112" y="15786"/>
                  <a:pt x="22145" y="15641"/>
                  <a:pt x="22162" y="15494"/>
                </a:cubicBezTo>
                <a:cubicBezTo>
                  <a:pt x="22168" y="15446"/>
                  <a:pt x="22189" y="15302"/>
                  <a:pt x="22225" y="15272"/>
                </a:cubicBezTo>
                <a:cubicBezTo>
                  <a:pt x="22236" y="15272"/>
                  <a:pt x="22246" y="15272"/>
                  <a:pt x="22257" y="15272"/>
                </a:cubicBezTo>
                <a:cubicBezTo>
                  <a:pt x="22301" y="15333"/>
                  <a:pt x="22301" y="15389"/>
                  <a:pt x="22320" y="15462"/>
                </a:cubicBezTo>
                <a:cubicBezTo>
                  <a:pt x="22356" y="15598"/>
                  <a:pt x="22317" y="15786"/>
                  <a:pt x="22384" y="15907"/>
                </a:cubicBezTo>
                <a:cubicBezTo>
                  <a:pt x="22413" y="15935"/>
                  <a:pt x="22424" y="15941"/>
                  <a:pt x="22416" y="15970"/>
                </a:cubicBezTo>
                <a:cubicBezTo>
                  <a:pt x="22416" y="15848"/>
                  <a:pt x="22434" y="15739"/>
                  <a:pt x="22447" y="15621"/>
                </a:cubicBezTo>
                <a:cubicBezTo>
                  <a:pt x="22460" y="15498"/>
                  <a:pt x="22475" y="15450"/>
                  <a:pt x="22511" y="15335"/>
                </a:cubicBezTo>
                <a:cubicBezTo>
                  <a:pt x="22511" y="15325"/>
                  <a:pt x="22511" y="15314"/>
                  <a:pt x="22511" y="15304"/>
                </a:cubicBezTo>
                <a:cubicBezTo>
                  <a:pt x="22571" y="15324"/>
                  <a:pt x="22551" y="15366"/>
                  <a:pt x="22574" y="15430"/>
                </a:cubicBezTo>
                <a:cubicBezTo>
                  <a:pt x="22611" y="15535"/>
                  <a:pt x="22628" y="15667"/>
                  <a:pt x="22638" y="15780"/>
                </a:cubicBezTo>
                <a:cubicBezTo>
                  <a:pt x="22647" y="15879"/>
                  <a:pt x="22598" y="16060"/>
                  <a:pt x="22701" y="16129"/>
                </a:cubicBezTo>
                <a:cubicBezTo>
                  <a:pt x="22760" y="16169"/>
                  <a:pt x="22791" y="15927"/>
                  <a:pt x="22796" y="15907"/>
                </a:cubicBezTo>
              </a:path>
              <a:path w="2510" h="1620">
                <a:moveTo>
                  <a:pt x="22828" y="15716"/>
                </a:moveTo>
                <a:cubicBezTo>
                  <a:pt x="22828" y="15660"/>
                  <a:pt x="22836" y="15653"/>
                  <a:pt x="22860" y="15621"/>
                </a:cubicBezTo>
                <a:cubicBezTo>
                  <a:pt x="22894" y="15575"/>
                  <a:pt x="22946" y="15535"/>
                  <a:pt x="22987" y="15494"/>
                </a:cubicBezTo>
                <a:cubicBezTo>
                  <a:pt x="23024" y="15457"/>
                  <a:pt x="23077" y="15435"/>
                  <a:pt x="23082" y="15399"/>
                </a:cubicBezTo>
                <a:cubicBezTo>
                  <a:pt x="23087" y="15357"/>
                  <a:pt x="23094" y="15294"/>
                  <a:pt x="23050" y="15272"/>
                </a:cubicBezTo>
                <a:cubicBezTo>
                  <a:pt x="23016" y="15255"/>
                  <a:pt x="22941" y="15270"/>
                  <a:pt x="22924" y="15304"/>
                </a:cubicBezTo>
                <a:cubicBezTo>
                  <a:pt x="22896" y="15360"/>
                  <a:pt x="22868" y="15457"/>
                  <a:pt x="22860" y="15526"/>
                </a:cubicBezTo>
                <a:cubicBezTo>
                  <a:pt x="22843" y="15672"/>
                  <a:pt x="22880" y="15801"/>
                  <a:pt x="22924" y="15938"/>
                </a:cubicBezTo>
                <a:cubicBezTo>
                  <a:pt x="22957" y="16042"/>
                  <a:pt x="22993" y="16159"/>
                  <a:pt x="23114" y="16192"/>
                </a:cubicBezTo>
                <a:cubicBezTo>
                  <a:pt x="23201" y="16216"/>
                  <a:pt x="23263" y="16195"/>
                  <a:pt x="23304" y="16129"/>
                </a:cubicBezTo>
                <a:cubicBezTo>
                  <a:pt x="23315" y="16108"/>
                  <a:pt x="23325" y="16087"/>
                  <a:pt x="23336" y="16066"/>
                </a:cubicBezTo>
              </a:path>
              <a:path w="2510" h="1620">
                <a:moveTo>
                  <a:pt x="23558" y="15145"/>
                </a:moveTo>
                <a:cubicBezTo>
                  <a:pt x="23558" y="15081"/>
                  <a:pt x="23558" y="15018"/>
                  <a:pt x="23558" y="14954"/>
                </a:cubicBezTo>
                <a:cubicBezTo>
                  <a:pt x="23467" y="14973"/>
                  <a:pt x="23443" y="15000"/>
                  <a:pt x="23400" y="15081"/>
                </a:cubicBezTo>
                <a:cubicBezTo>
                  <a:pt x="23343" y="15189"/>
                  <a:pt x="23319" y="15227"/>
                  <a:pt x="23336" y="15335"/>
                </a:cubicBezTo>
                <a:cubicBezTo>
                  <a:pt x="23351" y="15435"/>
                  <a:pt x="23427" y="15398"/>
                  <a:pt x="23495" y="15430"/>
                </a:cubicBezTo>
                <a:cubicBezTo>
                  <a:pt x="23560" y="15460"/>
                  <a:pt x="23675" y="15524"/>
                  <a:pt x="23717" y="15589"/>
                </a:cubicBezTo>
                <a:cubicBezTo>
                  <a:pt x="23767" y="15667"/>
                  <a:pt x="23781" y="15723"/>
                  <a:pt x="23781" y="15812"/>
                </a:cubicBezTo>
                <a:cubicBezTo>
                  <a:pt x="23781" y="15886"/>
                  <a:pt x="23785" y="15953"/>
                  <a:pt x="23717" y="16002"/>
                </a:cubicBezTo>
                <a:cubicBezTo>
                  <a:pt x="23648" y="16052"/>
                  <a:pt x="23611" y="16066"/>
                  <a:pt x="23527" y="16066"/>
                </a:cubicBezTo>
                <a:cubicBezTo>
                  <a:pt x="23478" y="16066"/>
                  <a:pt x="23445" y="16011"/>
                  <a:pt x="23432" y="15970"/>
                </a:cubicBezTo>
                <a:cubicBezTo>
                  <a:pt x="23418" y="15926"/>
                  <a:pt x="23432" y="15860"/>
                  <a:pt x="23432" y="15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$38,000 SUV depreciates by 18.5% every year.  How much would it be worth after 10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4"/>
          <p:cNvSpPr/>
          <p:nvPr/>
        </p:nvSpPr>
        <p:spPr>
          <a:xfrm>
            <a:off x="3633840" y="1679400"/>
            <a:ext cx="2092320" cy="138240"/>
          </a:xfrm>
          <a:custGeom>
            <a:avLst/>
            <a:gdLst/>
            <a:ahLst/>
            <a:rect l="l" t="t" r="r" b="b"/>
            <a:pathLst>
              <a:path w="5812" h="382">
                <a:moveTo>
                  <a:pt x="10096" y="4762"/>
                </a:moveTo>
                <a:cubicBezTo>
                  <a:pt x="10116" y="4733"/>
                  <a:pt x="10129" y="4736"/>
                  <a:pt x="10160" y="4667"/>
                </a:cubicBezTo>
                <a:cubicBezTo>
                  <a:pt x="10170" y="4718"/>
                  <a:pt x="10155" y="4777"/>
                  <a:pt x="10192" y="4794"/>
                </a:cubicBezTo>
                <a:cubicBezTo>
                  <a:pt x="10248" y="4819"/>
                  <a:pt x="10262" y="4818"/>
                  <a:pt x="10319" y="4794"/>
                </a:cubicBezTo>
                <a:cubicBezTo>
                  <a:pt x="10354" y="4779"/>
                  <a:pt x="10375" y="4741"/>
                  <a:pt x="10414" y="4699"/>
                </a:cubicBezTo>
                <a:cubicBezTo>
                  <a:pt x="10425" y="4688"/>
                  <a:pt x="10435" y="4678"/>
                  <a:pt x="10446" y="4667"/>
                </a:cubicBezTo>
                <a:cubicBezTo>
                  <a:pt x="10508" y="4693"/>
                  <a:pt x="10495" y="4734"/>
                  <a:pt x="10573" y="4731"/>
                </a:cubicBezTo>
                <a:cubicBezTo>
                  <a:pt x="10622" y="4729"/>
                  <a:pt x="10660" y="4668"/>
                  <a:pt x="10700" y="4667"/>
                </a:cubicBezTo>
                <a:cubicBezTo>
                  <a:pt x="10801" y="4663"/>
                  <a:pt x="10758" y="4739"/>
                  <a:pt x="10827" y="4762"/>
                </a:cubicBezTo>
                <a:cubicBezTo>
                  <a:pt x="10897" y="4785"/>
                  <a:pt x="10964" y="4747"/>
                  <a:pt x="11017" y="4731"/>
                </a:cubicBezTo>
                <a:cubicBezTo>
                  <a:pt x="11075" y="4714"/>
                  <a:pt x="11104" y="4710"/>
                  <a:pt x="11144" y="4731"/>
                </a:cubicBezTo>
                <a:cubicBezTo>
                  <a:pt x="11191" y="4756"/>
                  <a:pt x="11168" y="4801"/>
                  <a:pt x="11240" y="4826"/>
                </a:cubicBezTo>
                <a:cubicBezTo>
                  <a:pt x="11298" y="4846"/>
                  <a:pt x="11325" y="4805"/>
                  <a:pt x="11366" y="4794"/>
                </a:cubicBezTo>
                <a:cubicBezTo>
                  <a:pt x="11405" y="4784"/>
                  <a:pt x="11459" y="4761"/>
                  <a:pt x="11494" y="4762"/>
                </a:cubicBezTo>
                <a:cubicBezTo>
                  <a:pt x="11541" y="4764"/>
                  <a:pt x="11584" y="4826"/>
                  <a:pt x="11620" y="4826"/>
                </a:cubicBezTo>
                <a:cubicBezTo>
                  <a:pt x="11657" y="4826"/>
                  <a:pt x="11708" y="4805"/>
                  <a:pt x="11748" y="4794"/>
                </a:cubicBezTo>
                <a:cubicBezTo>
                  <a:pt x="11789" y="4783"/>
                  <a:pt x="11824" y="4746"/>
                  <a:pt x="11874" y="4762"/>
                </a:cubicBezTo>
                <a:cubicBezTo>
                  <a:pt x="11919" y="4776"/>
                  <a:pt x="11911" y="4836"/>
                  <a:pt x="11970" y="4858"/>
                </a:cubicBezTo>
                <a:cubicBezTo>
                  <a:pt x="12037" y="4883"/>
                  <a:pt x="12108" y="4833"/>
                  <a:pt x="12128" y="4826"/>
                </a:cubicBezTo>
                <a:cubicBezTo>
                  <a:pt x="12170" y="4812"/>
                  <a:pt x="12214" y="4809"/>
                  <a:pt x="12256" y="4794"/>
                </a:cubicBezTo>
                <a:cubicBezTo>
                  <a:pt x="12294" y="4824"/>
                  <a:pt x="12293" y="4885"/>
                  <a:pt x="12351" y="4890"/>
                </a:cubicBezTo>
                <a:cubicBezTo>
                  <a:pt x="12407" y="4895"/>
                  <a:pt x="12430" y="4871"/>
                  <a:pt x="12478" y="4858"/>
                </a:cubicBezTo>
                <a:cubicBezTo>
                  <a:pt x="12526" y="4845"/>
                  <a:pt x="12561" y="4844"/>
                  <a:pt x="12605" y="4826"/>
                </a:cubicBezTo>
                <a:cubicBezTo>
                  <a:pt x="12633" y="4797"/>
                  <a:pt x="12639" y="4786"/>
                  <a:pt x="12668" y="4794"/>
                </a:cubicBezTo>
                <a:cubicBezTo>
                  <a:pt x="12739" y="4841"/>
                  <a:pt x="12676" y="4842"/>
                  <a:pt x="12764" y="4858"/>
                </a:cubicBezTo>
                <a:cubicBezTo>
                  <a:pt x="12827" y="4870"/>
                  <a:pt x="12843" y="4840"/>
                  <a:pt x="12890" y="4826"/>
                </a:cubicBezTo>
                <a:cubicBezTo>
                  <a:pt x="12961" y="4805"/>
                  <a:pt x="12965" y="4828"/>
                  <a:pt x="13018" y="4826"/>
                </a:cubicBezTo>
                <a:cubicBezTo>
                  <a:pt x="13079" y="4824"/>
                  <a:pt x="13202" y="4791"/>
                  <a:pt x="13240" y="4794"/>
                </a:cubicBezTo>
                <a:cubicBezTo>
                  <a:pt x="13295" y="4798"/>
                  <a:pt x="13317" y="4822"/>
                  <a:pt x="13367" y="4826"/>
                </a:cubicBezTo>
                <a:cubicBezTo>
                  <a:pt x="13433" y="4831"/>
                  <a:pt x="13478" y="4799"/>
                  <a:pt x="13526" y="4794"/>
                </a:cubicBezTo>
                <a:cubicBezTo>
                  <a:pt x="13582" y="4788"/>
                  <a:pt x="13615" y="4823"/>
                  <a:pt x="13652" y="4826"/>
                </a:cubicBezTo>
                <a:cubicBezTo>
                  <a:pt x="13684" y="4828"/>
                  <a:pt x="13768" y="4858"/>
                  <a:pt x="13780" y="4858"/>
                </a:cubicBezTo>
                <a:cubicBezTo>
                  <a:pt x="13807" y="4857"/>
                  <a:pt x="13860" y="4826"/>
                  <a:pt x="13906" y="4826"/>
                </a:cubicBezTo>
                <a:cubicBezTo>
                  <a:pt x="13959" y="4826"/>
                  <a:pt x="13970" y="4846"/>
                  <a:pt x="14034" y="4858"/>
                </a:cubicBezTo>
                <a:cubicBezTo>
                  <a:pt x="14054" y="4862"/>
                  <a:pt x="14159" y="4890"/>
                  <a:pt x="14160" y="4890"/>
                </a:cubicBezTo>
                <a:cubicBezTo>
                  <a:pt x="14172" y="4890"/>
                  <a:pt x="14260" y="4863"/>
                  <a:pt x="14288" y="4858"/>
                </a:cubicBezTo>
                <a:cubicBezTo>
                  <a:pt x="14372" y="4842"/>
                  <a:pt x="14327" y="4830"/>
                  <a:pt x="14414" y="4858"/>
                </a:cubicBezTo>
                <a:cubicBezTo>
                  <a:pt x="14459" y="4873"/>
                  <a:pt x="14454" y="4893"/>
                  <a:pt x="14510" y="4921"/>
                </a:cubicBezTo>
                <a:cubicBezTo>
                  <a:pt x="14532" y="4932"/>
                  <a:pt x="14616" y="4954"/>
                  <a:pt x="14637" y="4953"/>
                </a:cubicBezTo>
                <a:cubicBezTo>
                  <a:pt x="14727" y="4949"/>
                  <a:pt x="14687" y="4925"/>
                  <a:pt x="14764" y="4890"/>
                </a:cubicBezTo>
                <a:cubicBezTo>
                  <a:pt x="14809" y="4870"/>
                  <a:pt x="14839" y="4866"/>
                  <a:pt x="14891" y="4858"/>
                </a:cubicBezTo>
                <a:cubicBezTo>
                  <a:pt x="14951" y="4849"/>
                  <a:pt x="14976" y="4885"/>
                  <a:pt x="15018" y="4890"/>
                </a:cubicBezTo>
                <a:cubicBezTo>
                  <a:pt x="15090" y="4898"/>
                  <a:pt x="15120" y="4876"/>
                  <a:pt x="15176" y="4858"/>
                </a:cubicBezTo>
                <a:cubicBezTo>
                  <a:pt x="15234" y="4839"/>
                  <a:pt x="15224" y="4808"/>
                  <a:pt x="15272" y="4794"/>
                </a:cubicBezTo>
                <a:cubicBezTo>
                  <a:pt x="15338" y="4775"/>
                  <a:pt x="15381" y="4810"/>
                  <a:pt x="15430" y="4826"/>
                </a:cubicBezTo>
                <a:cubicBezTo>
                  <a:pt x="15475" y="4840"/>
                  <a:pt x="15480" y="4881"/>
                  <a:pt x="15526" y="4890"/>
                </a:cubicBezTo>
                <a:cubicBezTo>
                  <a:pt x="15589" y="4902"/>
                  <a:pt x="15606" y="4870"/>
                  <a:pt x="15653" y="4858"/>
                </a:cubicBezTo>
                <a:cubicBezTo>
                  <a:pt x="15689" y="4848"/>
                  <a:pt x="15748" y="4796"/>
                  <a:pt x="15780" y="4794"/>
                </a:cubicBezTo>
                <a:cubicBezTo>
                  <a:pt x="15839" y="4790"/>
                  <a:pt x="15855" y="4817"/>
                  <a:pt x="15907" y="4826"/>
                </a:cubicBezTo>
                <a:cubicBezTo>
                  <a:pt x="15823" y="4819"/>
                  <a:pt x="15860" y="4786"/>
                  <a:pt x="15780" y="4826"/>
                </a:cubicBezTo>
                <a:cubicBezTo>
                  <a:pt x="15741" y="4846"/>
                  <a:pt x="15717" y="4899"/>
                  <a:pt x="15684" y="4890"/>
                </a:cubicBezTo>
                <a:cubicBezTo>
                  <a:pt x="15675" y="4888"/>
                  <a:pt x="15635" y="4832"/>
                  <a:pt x="15589" y="4826"/>
                </a:cubicBezTo>
                <a:cubicBezTo>
                  <a:pt x="15520" y="4818"/>
                  <a:pt x="15487" y="4845"/>
                  <a:pt x="15430" y="4858"/>
                </a:cubicBezTo>
                <a:cubicBezTo>
                  <a:pt x="15369" y="4872"/>
                  <a:pt x="15334" y="4883"/>
                  <a:pt x="15272" y="4890"/>
                </a:cubicBezTo>
                <a:cubicBezTo>
                  <a:pt x="15184" y="4900"/>
                  <a:pt x="15120" y="4871"/>
                  <a:pt x="15081" y="4858"/>
                </a:cubicBezTo>
                <a:cubicBezTo>
                  <a:pt x="15051" y="4848"/>
                  <a:pt x="14981" y="4796"/>
                  <a:pt x="14954" y="4794"/>
                </a:cubicBezTo>
                <a:cubicBezTo>
                  <a:pt x="14896" y="4790"/>
                  <a:pt x="14850" y="4812"/>
                  <a:pt x="14796" y="4826"/>
                </a:cubicBezTo>
                <a:cubicBezTo>
                  <a:pt x="14741" y="4840"/>
                  <a:pt x="14683" y="4870"/>
                  <a:pt x="14637" y="4890"/>
                </a:cubicBezTo>
                <a:cubicBezTo>
                  <a:pt x="14584" y="4913"/>
                  <a:pt x="14543" y="4943"/>
                  <a:pt x="14478" y="4953"/>
                </a:cubicBezTo>
                <a:cubicBezTo>
                  <a:pt x="14402" y="4964"/>
                  <a:pt x="14344" y="4927"/>
                  <a:pt x="14288" y="4921"/>
                </a:cubicBezTo>
                <a:cubicBezTo>
                  <a:pt x="14189" y="4910"/>
                  <a:pt x="14091" y="4920"/>
                  <a:pt x="14002" y="4953"/>
                </a:cubicBezTo>
                <a:cubicBezTo>
                  <a:pt x="13930" y="4980"/>
                  <a:pt x="13845" y="5036"/>
                  <a:pt x="13780" y="5048"/>
                </a:cubicBezTo>
                <a:cubicBezTo>
                  <a:pt x="13703" y="5062"/>
                  <a:pt x="13674" y="5020"/>
                  <a:pt x="13621" y="5016"/>
                </a:cubicBezTo>
                <a:cubicBezTo>
                  <a:pt x="13519" y="5008"/>
                  <a:pt x="13525" y="4992"/>
                  <a:pt x="13430" y="4953"/>
                </a:cubicBezTo>
                <a:cubicBezTo>
                  <a:pt x="13376" y="4931"/>
                  <a:pt x="13308" y="4888"/>
                  <a:pt x="13240" y="4890"/>
                </a:cubicBezTo>
                <a:cubicBezTo>
                  <a:pt x="13140" y="4893"/>
                  <a:pt x="13024" y="4943"/>
                  <a:pt x="12922" y="4953"/>
                </a:cubicBezTo>
                <a:cubicBezTo>
                  <a:pt x="12815" y="4963"/>
                  <a:pt x="12724" y="4947"/>
                  <a:pt x="12636" y="4921"/>
                </a:cubicBezTo>
                <a:cubicBezTo>
                  <a:pt x="12572" y="4902"/>
                  <a:pt x="12511" y="4880"/>
                  <a:pt x="12446" y="4858"/>
                </a:cubicBezTo>
                <a:cubicBezTo>
                  <a:pt x="12369" y="4832"/>
                  <a:pt x="12309" y="4792"/>
                  <a:pt x="12224" y="4794"/>
                </a:cubicBezTo>
                <a:cubicBezTo>
                  <a:pt x="12147" y="4796"/>
                  <a:pt x="12016" y="4840"/>
                  <a:pt x="11938" y="4858"/>
                </a:cubicBezTo>
                <a:cubicBezTo>
                  <a:pt x="11847" y="4879"/>
                  <a:pt x="11782" y="4887"/>
                  <a:pt x="11684" y="4890"/>
                </a:cubicBezTo>
                <a:cubicBezTo>
                  <a:pt x="11511" y="4895"/>
                  <a:pt x="11340" y="4905"/>
                  <a:pt x="11176" y="4921"/>
                </a:cubicBezTo>
                <a:cubicBezTo>
                  <a:pt x="11043" y="4934"/>
                  <a:pt x="10917" y="4898"/>
                  <a:pt x="10795" y="4890"/>
                </a:cubicBezTo>
                <a:cubicBezTo>
                  <a:pt x="10621" y="4878"/>
                  <a:pt x="10450" y="4893"/>
                  <a:pt x="10287" y="4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5"/>
          <p:cNvSpPr/>
          <p:nvPr/>
        </p:nvSpPr>
        <p:spPr>
          <a:xfrm>
            <a:off x="1371600" y="2846520"/>
            <a:ext cx="1349280" cy="903240"/>
          </a:xfrm>
          <a:custGeom>
            <a:avLst/>
            <a:gdLst/>
            <a:ahLst/>
            <a:rect l="l" t="t" r="r" b="b"/>
            <a:pathLst>
              <a:path w="3747" h="2509">
                <a:moveTo>
                  <a:pt x="3969" y="8128"/>
                </a:moveTo>
                <a:cubicBezTo>
                  <a:pt x="4000" y="8182"/>
                  <a:pt x="4023" y="8284"/>
                  <a:pt x="4032" y="8350"/>
                </a:cubicBezTo>
                <a:cubicBezTo>
                  <a:pt x="4049" y="8483"/>
                  <a:pt x="4060" y="8629"/>
                  <a:pt x="4064" y="8763"/>
                </a:cubicBezTo>
                <a:cubicBezTo>
                  <a:pt x="4070" y="8959"/>
                  <a:pt x="4062" y="9145"/>
                  <a:pt x="4032" y="9334"/>
                </a:cubicBezTo>
                <a:cubicBezTo>
                  <a:pt x="4027" y="9366"/>
                  <a:pt x="4032" y="9564"/>
                  <a:pt x="4032" y="9493"/>
                </a:cubicBezTo>
              </a:path>
              <a:path w="3747" h="2509">
                <a:moveTo>
                  <a:pt x="3842" y="8033"/>
                </a:moveTo>
                <a:cubicBezTo>
                  <a:pt x="3811" y="7972"/>
                  <a:pt x="3801" y="7953"/>
                  <a:pt x="3810" y="7906"/>
                </a:cubicBezTo>
                <a:cubicBezTo>
                  <a:pt x="3911" y="7906"/>
                  <a:pt x="3913" y="7916"/>
                  <a:pt x="4000" y="7969"/>
                </a:cubicBezTo>
                <a:cubicBezTo>
                  <a:pt x="4114" y="8038"/>
                  <a:pt x="4244" y="8172"/>
                  <a:pt x="4318" y="8287"/>
                </a:cubicBezTo>
                <a:cubicBezTo>
                  <a:pt x="4407" y="8424"/>
                  <a:pt x="4517" y="8599"/>
                  <a:pt x="4540" y="8763"/>
                </a:cubicBezTo>
                <a:cubicBezTo>
                  <a:pt x="4560" y="8910"/>
                  <a:pt x="4498" y="9088"/>
                  <a:pt x="4413" y="9208"/>
                </a:cubicBezTo>
                <a:cubicBezTo>
                  <a:pt x="4328" y="9328"/>
                  <a:pt x="4237" y="9336"/>
                  <a:pt x="4128" y="9398"/>
                </a:cubicBezTo>
                <a:cubicBezTo>
                  <a:pt x="3939" y="9506"/>
                  <a:pt x="4029" y="9431"/>
                  <a:pt x="3874" y="9366"/>
                </a:cubicBezTo>
                <a:cubicBezTo>
                  <a:pt x="3863" y="9366"/>
                  <a:pt x="3853" y="9366"/>
                  <a:pt x="3842" y="9366"/>
                </a:cubicBezTo>
                <a:cubicBezTo>
                  <a:pt x="3878" y="9276"/>
                  <a:pt x="3877" y="9257"/>
                  <a:pt x="3969" y="9208"/>
                </a:cubicBezTo>
                <a:cubicBezTo>
                  <a:pt x="3990" y="9197"/>
                  <a:pt x="4011" y="9187"/>
                  <a:pt x="4032" y="9176"/>
                </a:cubicBezTo>
              </a:path>
              <a:path w="3747" h="2509">
                <a:moveTo>
                  <a:pt x="4699" y="8985"/>
                </a:moveTo>
                <a:cubicBezTo>
                  <a:pt x="4765" y="8946"/>
                  <a:pt x="4819" y="8947"/>
                  <a:pt x="4890" y="8922"/>
                </a:cubicBezTo>
                <a:cubicBezTo>
                  <a:pt x="4985" y="8888"/>
                  <a:pt x="5084" y="8856"/>
                  <a:pt x="5175" y="8826"/>
                </a:cubicBezTo>
                <a:cubicBezTo>
                  <a:pt x="5231" y="8808"/>
                  <a:pt x="5294" y="8768"/>
                  <a:pt x="5270" y="8700"/>
                </a:cubicBezTo>
                <a:cubicBezTo>
                  <a:pt x="5243" y="8621"/>
                  <a:pt x="5180" y="8581"/>
                  <a:pt x="5112" y="8541"/>
                </a:cubicBezTo>
                <a:cubicBezTo>
                  <a:pt x="5039" y="8498"/>
                  <a:pt x="4947" y="8534"/>
                  <a:pt x="4890" y="8604"/>
                </a:cubicBezTo>
                <a:cubicBezTo>
                  <a:pt x="4799" y="8717"/>
                  <a:pt x="4786" y="8822"/>
                  <a:pt x="4762" y="8954"/>
                </a:cubicBezTo>
                <a:cubicBezTo>
                  <a:pt x="4729" y="9134"/>
                  <a:pt x="4759" y="9220"/>
                  <a:pt x="4826" y="9366"/>
                </a:cubicBezTo>
                <a:cubicBezTo>
                  <a:pt x="4883" y="9489"/>
                  <a:pt x="4938" y="9539"/>
                  <a:pt x="5080" y="9462"/>
                </a:cubicBezTo>
                <a:cubicBezTo>
                  <a:pt x="5112" y="9441"/>
                  <a:pt x="5143" y="9419"/>
                  <a:pt x="5175" y="9398"/>
                </a:cubicBezTo>
              </a:path>
              <a:path w="3747" h="2509">
                <a:moveTo>
                  <a:pt x="5683" y="8509"/>
                </a:moveTo>
                <a:cubicBezTo>
                  <a:pt x="5718" y="8521"/>
                  <a:pt x="5738" y="8591"/>
                  <a:pt x="5747" y="8636"/>
                </a:cubicBezTo>
                <a:cubicBezTo>
                  <a:pt x="5764" y="8723"/>
                  <a:pt x="5733" y="8782"/>
                  <a:pt x="5778" y="8858"/>
                </a:cubicBezTo>
                <a:cubicBezTo>
                  <a:pt x="5778" y="8911"/>
                  <a:pt x="5778" y="8816"/>
                  <a:pt x="5778" y="8763"/>
                </a:cubicBezTo>
                <a:cubicBezTo>
                  <a:pt x="5778" y="8667"/>
                  <a:pt x="5783" y="8639"/>
                  <a:pt x="5715" y="8572"/>
                </a:cubicBezTo>
                <a:cubicBezTo>
                  <a:pt x="5683" y="8540"/>
                  <a:pt x="5592" y="8557"/>
                  <a:pt x="5556" y="8604"/>
                </a:cubicBezTo>
                <a:cubicBezTo>
                  <a:pt x="5477" y="8707"/>
                  <a:pt x="5454" y="8837"/>
                  <a:pt x="5429" y="8954"/>
                </a:cubicBezTo>
                <a:cubicBezTo>
                  <a:pt x="5403" y="9077"/>
                  <a:pt x="5363" y="9217"/>
                  <a:pt x="5429" y="9334"/>
                </a:cubicBezTo>
                <a:cubicBezTo>
                  <a:pt x="5488" y="9437"/>
                  <a:pt x="5492" y="9486"/>
                  <a:pt x="5620" y="9493"/>
                </a:cubicBezTo>
                <a:cubicBezTo>
                  <a:pt x="5688" y="9497"/>
                  <a:pt x="5743" y="9470"/>
                  <a:pt x="5810" y="9462"/>
                </a:cubicBezTo>
              </a:path>
              <a:path w="3747" h="2509">
                <a:moveTo>
                  <a:pt x="6350" y="8826"/>
                </a:moveTo>
                <a:cubicBezTo>
                  <a:pt x="6358" y="8758"/>
                  <a:pt x="6402" y="8672"/>
                  <a:pt x="6382" y="8604"/>
                </a:cubicBezTo>
                <a:cubicBezTo>
                  <a:pt x="6371" y="8593"/>
                  <a:pt x="6361" y="8583"/>
                  <a:pt x="6350" y="8572"/>
                </a:cubicBezTo>
                <a:cubicBezTo>
                  <a:pt x="6275" y="8585"/>
                  <a:pt x="6221" y="8574"/>
                  <a:pt x="6160" y="8636"/>
                </a:cubicBezTo>
                <a:cubicBezTo>
                  <a:pt x="6089" y="8707"/>
                  <a:pt x="6062" y="8863"/>
                  <a:pt x="6032" y="8954"/>
                </a:cubicBezTo>
                <a:cubicBezTo>
                  <a:pt x="6000" y="9050"/>
                  <a:pt x="5979" y="9212"/>
                  <a:pt x="6032" y="9303"/>
                </a:cubicBezTo>
                <a:cubicBezTo>
                  <a:pt x="6064" y="9334"/>
                  <a:pt x="6075" y="9345"/>
                  <a:pt x="6096" y="9366"/>
                </a:cubicBezTo>
                <a:cubicBezTo>
                  <a:pt x="6161" y="9348"/>
                  <a:pt x="6205" y="9330"/>
                  <a:pt x="6255" y="9271"/>
                </a:cubicBezTo>
                <a:cubicBezTo>
                  <a:pt x="6344" y="9167"/>
                  <a:pt x="6421" y="9026"/>
                  <a:pt x="6445" y="8890"/>
                </a:cubicBezTo>
                <a:cubicBezTo>
                  <a:pt x="6452" y="8853"/>
                  <a:pt x="6445" y="8802"/>
                  <a:pt x="6445" y="8763"/>
                </a:cubicBezTo>
                <a:cubicBezTo>
                  <a:pt x="6423" y="8800"/>
                  <a:pt x="6414" y="8839"/>
                  <a:pt x="6414" y="8922"/>
                </a:cubicBezTo>
                <a:cubicBezTo>
                  <a:pt x="6414" y="9058"/>
                  <a:pt x="6426" y="9174"/>
                  <a:pt x="6477" y="9303"/>
                </a:cubicBezTo>
                <a:cubicBezTo>
                  <a:pt x="6510" y="9387"/>
                  <a:pt x="6546" y="9414"/>
                  <a:pt x="6636" y="9398"/>
                </a:cubicBezTo>
                <a:cubicBezTo>
                  <a:pt x="6731" y="9381"/>
                  <a:pt x="6818" y="9274"/>
                  <a:pt x="6858" y="9176"/>
                </a:cubicBezTo>
                <a:cubicBezTo>
                  <a:pt x="6913" y="9041"/>
                  <a:pt x="6965" y="8908"/>
                  <a:pt x="6985" y="8763"/>
                </a:cubicBezTo>
                <a:cubicBezTo>
                  <a:pt x="6985" y="8700"/>
                  <a:pt x="6985" y="8678"/>
                  <a:pt x="6985" y="8636"/>
                </a:cubicBezTo>
                <a:cubicBezTo>
                  <a:pt x="6975" y="8643"/>
                  <a:pt x="6936" y="8653"/>
                  <a:pt x="6922" y="8763"/>
                </a:cubicBezTo>
                <a:cubicBezTo>
                  <a:pt x="6908" y="8870"/>
                  <a:pt x="6926" y="8979"/>
                  <a:pt x="6953" y="9080"/>
                </a:cubicBezTo>
                <a:cubicBezTo>
                  <a:pt x="6980" y="9184"/>
                  <a:pt x="6995" y="9170"/>
                  <a:pt x="7048" y="9239"/>
                </a:cubicBezTo>
                <a:cubicBezTo>
                  <a:pt x="7187" y="9208"/>
                  <a:pt x="7146" y="9173"/>
                  <a:pt x="7239" y="9080"/>
                </a:cubicBezTo>
                <a:cubicBezTo>
                  <a:pt x="7299" y="9020"/>
                  <a:pt x="7404" y="8883"/>
                  <a:pt x="7430" y="8795"/>
                </a:cubicBezTo>
                <a:cubicBezTo>
                  <a:pt x="7447" y="8737"/>
                  <a:pt x="7485" y="8597"/>
                  <a:pt x="7493" y="8572"/>
                </a:cubicBezTo>
                <a:cubicBezTo>
                  <a:pt x="7493" y="8562"/>
                  <a:pt x="7493" y="8551"/>
                  <a:pt x="7493" y="8541"/>
                </a:cubicBezTo>
                <a:cubicBezTo>
                  <a:pt x="7493" y="8642"/>
                  <a:pt x="7516" y="8730"/>
                  <a:pt x="7525" y="8826"/>
                </a:cubicBezTo>
                <a:cubicBezTo>
                  <a:pt x="7542" y="9004"/>
                  <a:pt x="7543" y="9189"/>
                  <a:pt x="7556" y="9366"/>
                </a:cubicBezTo>
                <a:cubicBezTo>
                  <a:pt x="7571" y="9572"/>
                  <a:pt x="7620" y="9970"/>
                  <a:pt x="7525" y="10160"/>
                </a:cubicBezTo>
                <a:cubicBezTo>
                  <a:pt x="7461" y="10288"/>
                  <a:pt x="7397" y="10322"/>
                  <a:pt x="7271" y="10382"/>
                </a:cubicBezTo>
                <a:cubicBezTo>
                  <a:pt x="7165" y="10432"/>
                  <a:pt x="7051" y="10422"/>
                  <a:pt x="6953" y="10350"/>
                </a:cubicBezTo>
                <a:cubicBezTo>
                  <a:pt x="6849" y="10274"/>
                  <a:pt x="6782" y="10161"/>
                  <a:pt x="6763" y="10033"/>
                </a:cubicBezTo>
                <a:cubicBezTo>
                  <a:pt x="6740" y="9878"/>
                  <a:pt x="6771" y="9759"/>
                  <a:pt x="6826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6"/>
          <p:cNvSpPr/>
          <p:nvPr/>
        </p:nvSpPr>
        <p:spPr>
          <a:xfrm>
            <a:off x="2903400" y="3086280"/>
            <a:ext cx="57240" cy="239400"/>
          </a:xfrm>
          <a:custGeom>
            <a:avLst/>
            <a:gdLst/>
            <a:ahLst/>
            <a:rect l="l" t="t" r="r" b="b"/>
            <a:pathLst>
              <a:path w="160" h="668">
                <a:moveTo>
                  <a:pt x="8128" y="8572"/>
                </a:moveTo>
                <a:cubicBezTo>
                  <a:pt x="8123" y="8586"/>
                  <a:pt x="8060" y="8648"/>
                  <a:pt x="8064" y="8668"/>
                </a:cubicBezTo>
                <a:cubicBezTo>
                  <a:pt x="8075" y="8679"/>
                  <a:pt x="8085" y="8689"/>
                  <a:pt x="8096" y="8700"/>
                </a:cubicBezTo>
                <a:cubicBezTo>
                  <a:pt x="8097" y="8696"/>
                  <a:pt x="8124" y="8608"/>
                  <a:pt x="8128" y="8604"/>
                </a:cubicBezTo>
                <a:cubicBezTo>
                  <a:pt x="8160" y="8604"/>
                  <a:pt x="8171" y="8604"/>
                  <a:pt x="8160" y="8572"/>
                </a:cubicBezTo>
                <a:cubicBezTo>
                  <a:pt x="8111" y="8588"/>
                  <a:pt x="8123" y="8600"/>
                  <a:pt x="8096" y="8636"/>
                </a:cubicBezTo>
                <a:cubicBezTo>
                  <a:pt x="8085" y="8647"/>
                  <a:pt x="8075" y="8657"/>
                  <a:pt x="8064" y="8668"/>
                </a:cubicBezTo>
              </a:path>
              <a:path w="160" h="668">
                <a:moveTo>
                  <a:pt x="8192" y="9176"/>
                </a:moveTo>
                <a:cubicBezTo>
                  <a:pt x="8192" y="9144"/>
                  <a:pt x="8192" y="9133"/>
                  <a:pt x="8160" y="9144"/>
                </a:cubicBezTo>
                <a:cubicBezTo>
                  <a:pt x="8160" y="9151"/>
                  <a:pt x="8154" y="9289"/>
                  <a:pt x="8192" y="9239"/>
                </a:cubicBezTo>
                <a:cubicBezTo>
                  <a:pt x="8216" y="9209"/>
                  <a:pt x="8223" y="9199"/>
                  <a:pt x="8223" y="9144"/>
                </a:cubicBezTo>
                <a:cubicBezTo>
                  <a:pt x="8183" y="9144"/>
                  <a:pt x="8139" y="9155"/>
                  <a:pt x="8128" y="9176"/>
                </a:cubicBezTo>
                <a:cubicBezTo>
                  <a:pt x="8105" y="9222"/>
                  <a:pt x="8134" y="9230"/>
                  <a:pt x="816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7"/>
          <p:cNvSpPr/>
          <p:nvPr/>
        </p:nvSpPr>
        <p:spPr>
          <a:xfrm>
            <a:off x="3336840" y="2811600"/>
            <a:ext cx="378000" cy="617400"/>
          </a:xfrm>
          <a:custGeom>
            <a:avLst/>
            <a:gdLst/>
            <a:ahLst/>
            <a:rect l="l" t="t" r="r" b="b"/>
            <a:pathLst>
              <a:path w="1049" h="1716">
                <a:moveTo>
                  <a:pt x="9430" y="7810"/>
                </a:moveTo>
                <a:cubicBezTo>
                  <a:pt x="9430" y="7891"/>
                  <a:pt x="9401" y="7948"/>
                  <a:pt x="9398" y="8033"/>
                </a:cubicBezTo>
                <a:cubicBezTo>
                  <a:pt x="9391" y="8208"/>
                  <a:pt x="9386" y="8397"/>
                  <a:pt x="9366" y="8572"/>
                </a:cubicBezTo>
                <a:cubicBezTo>
                  <a:pt x="9340" y="8804"/>
                  <a:pt x="9311" y="9038"/>
                  <a:pt x="9303" y="9271"/>
                </a:cubicBezTo>
                <a:cubicBezTo>
                  <a:pt x="9303" y="9283"/>
                  <a:pt x="9322" y="9543"/>
                  <a:pt x="9271" y="9525"/>
                </a:cubicBezTo>
                <a:cubicBezTo>
                  <a:pt x="9271" y="9514"/>
                  <a:pt x="9271" y="9504"/>
                  <a:pt x="9271" y="9493"/>
                </a:cubicBezTo>
              </a:path>
              <a:path w="1049" h="1716">
                <a:moveTo>
                  <a:pt x="9906" y="8255"/>
                </a:moveTo>
                <a:cubicBezTo>
                  <a:pt x="9952" y="8152"/>
                  <a:pt x="9970" y="8080"/>
                  <a:pt x="9970" y="7969"/>
                </a:cubicBezTo>
                <a:cubicBezTo>
                  <a:pt x="9970" y="7864"/>
                  <a:pt x="9944" y="7816"/>
                  <a:pt x="9842" y="7810"/>
                </a:cubicBezTo>
                <a:cubicBezTo>
                  <a:pt x="9763" y="7805"/>
                  <a:pt x="9651" y="7857"/>
                  <a:pt x="9588" y="7906"/>
                </a:cubicBezTo>
                <a:cubicBezTo>
                  <a:pt x="9498" y="7976"/>
                  <a:pt x="9498" y="8028"/>
                  <a:pt x="9493" y="8128"/>
                </a:cubicBezTo>
                <a:cubicBezTo>
                  <a:pt x="9487" y="8242"/>
                  <a:pt x="9558" y="8298"/>
                  <a:pt x="9620" y="8382"/>
                </a:cubicBezTo>
                <a:cubicBezTo>
                  <a:pt x="9735" y="8538"/>
                  <a:pt x="9757" y="8740"/>
                  <a:pt x="9811" y="8922"/>
                </a:cubicBezTo>
                <a:cubicBezTo>
                  <a:pt x="9850" y="9054"/>
                  <a:pt x="9858" y="9169"/>
                  <a:pt x="9811" y="9303"/>
                </a:cubicBezTo>
                <a:cubicBezTo>
                  <a:pt x="9791" y="9361"/>
                  <a:pt x="9742" y="9392"/>
                  <a:pt x="9684" y="9398"/>
                </a:cubicBezTo>
                <a:cubicBezTo>
                  <a:pt x="9601" y="9407"/>
                  <a:pt x="9602" y="9321"/>
                  <a:pt x="9588" y="9271"/>
                </a:cubicBezTo>
                <a:cubicBezTo>
                  <a:pt x="9553" y="9140"/>
                  <a:pt x="9561" y="9022"/>
                  <a:pt x="9588" y="8890"/>
                </a:cubicBezTo>
                <a:cubicBezTo>
                  <a:pt x="9617" y="8751"/>
                  <a:pt x="9699" y="8639"/>
                  <a:pt x="9747" y="8509"/>
                </a:cubicBezTo>
                <a:cubicBezTo>
                  <a:pt x="9795" y="8381"/>
                  <a:pt x="9865" y="8300"/>
                  <a:pt x="9938" y="8192"/>
                </a:cubicBezTo>
                <a:cubicBezTo>
                  <a:pt x="9966" y="8136"/>
                  <a:pt x="9970" y="8121"/>
                  <a:pt x="10001" y="8096"/>
                </a:cubicBezTo>
              </a:path>
              <a:path w="1049" h="1716">
                <a:moveTo>
                  <a:pt x="10255" y="9208"/>
                </a:moveTo>
                <a:cubicBezTo>
                  <a:pt x="10255" y="9271"/>
                  <a:pt x="10255" y="9335"/>
                  <a:pt x="10255" y="9398"/>
                </a:cubicBezTo>
                <a:cubicBezTo>
                  <a:pt x="10290" y="9386"/>
                  <a:pt x="10314" y="9374"/>
                  <a:pt x="10319" y="9334"/>
                </a:cubicBezTo>
                <a:cubicBezTo>
                  <a:pt x="10319" y="9303"/>
                  <a:pt x="10319" y="9292"/>
                  <a:pt x="10319" y="9271"/>
                </a:cubicBezTo>
                <a:cubicBezTo>
                  <a:pt x="10256" y="9287"/>
                  <a:pt x="10255" y="9301"/>
                  <a:pt x="10255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8"/>
          <p:cNvSpPr/>
          <p:nvPr/>
        </p:nvSpPr>
        <p:spPr>
          <a:xfrm>
            <a:off x="3875040" y="2835360"/>
            <a:ext cx="239760" cy="514440"/>
          </a:xfrm>
          <a:custGeom>
            <a:avLst/>
            <a:gdLst/>
            <a:ahLst/>
            <a:rect l="l" t="t" r="r" b="b"/>
            <a:pathLst>
              <a:path w="668" h="1430">
                <a:moveTo>
                  <a:pt x="11366" y="7874"/>
                </a:moveTo>
                <a:cubicBezTo>
                  <a:pt x="11398" y="7874"/>
                  <a:pt x="11409" y="7874"/>
                  <a:pt x="11430" y="7874"/>
                </a:cubicBezTo>
                <a:cubicBezTo>
                  <a:pt x="11419" y="7908"/>
                  <a:pt x="11358" y="7956"/>
                  <a:pt x="11303" y="7969"/>
                </a:cubicBezTo>
                <a:cubicBezTo>
                  <a:pt x="11221" y="7988"/>
                  <a:pt x="11130" y="8019"/>
                  <a:pt x="11049" y="8033"/>
                </a:cubicBezTo>
                <a:cubicBezTo>
                  <a:pt x="10980" y="8045"/>
                  <a:pt x="10898" y="8033"/>
                  <a:pt x="10827" y="8033"/>
                </a:cubicBezTo>
                <a:cubicBezTo>
                  <a:pt x="10827" y="8137"/>
                  <a:pt x="10807" y="8223"/>
                  <a:pt x="10795" y="8318"/>
                </a:cubicBezTo>
                <a:cubicBezTo>
                  <a:pt x="10779" y="8440"/>
                  <a:pt x="10795" y="8576"/>
                  <a:pt x="10795" y="8700"/>
                </a:cubicBezTo>
                <a:cubicBezTo>
                  <a:pt x="10827" y="8647"/>
                  <a:pt x="10868" y="8575"/>
                  <a:pt x="10890" y="8509"/>
                </a:cubicBezTo>
                <a:cubicBezTo>
                  <a:pt x="10912" y="8443"/>
                  <a:pt x="10952" y="8400"/>
                  <a:pt x="11017" y="8382"/>
                </a:cubicBezTo>
                <a:cubicBezTo>
                  <a:pt x="11081" y="8364"/>
                  <a:pt x="11197" y="8400"/>
                  <a:pt x="11240" y="8446"/>
                </a:cubicBezTo>
                <a:cubicBezTo>
                  <a:pt x="11315" y="8526"/>
                  <a:pt x="11362" y="8627"/>
                  <a:pt x="11398" y="8731"/>
                </a:cubicBezTo>
                <a:cubicBezTo>
                  <a:pt x="11431" y="8827"/>
                  <a:pt x="11455" y="8977"/>
                  <a:pt x="11430" y="9080"/>
                </a:cubicBezTo>
                <a:cubicBezTo>
                  <a:pt x="11411" y="9159"/>
                  <a:pt x="11289" y="9286"/>
                  <a:pt x="11208" y="9303"/>
                </a:cubicBezTo>
                <a:cubicBezTo>
                  <a:pt x="11113" y="9324"/>
                  <a:pt x="10946" y="9316"/>
                  <a:pt x="10858" y="9271"/>
                </a:cubicBezTo>
                <a:cubicBezTo>
                  <a:pt x="10816" y="9250"/>
                  <a:pt x="10792" y="9180"/>
                  <a:pt x="10763" y="9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9"/>
          <p:cNvSpPr/>
          <p:nvPr/>
        </p:nvSpPr>
        <p:spPr>
          <a:xfrm>
            <a:off x="4321080" y="2868480"/>
            <a:ext cx="1189080" cy="503280"/>
          </a:xfrm>
          <a:custGeom>
            <a:avLst/>
            <a:gdLst/>
            <a:ahLst/>
            <a:rect l="l" t="t" r="r" b="b"/>
            <a:pathLst>
              <a:path w="3303" h="1398">
                <a:moveTo>
                  <a:pt x="12446" y="8096"/>
                </a:moveTo>
                <a:cubicBezTo>
                  <a:pt x="12377" y="8113"/>
                  <a:pt x="12383" y="8144"/>
                  <a:pt x="12351" y="8192"/>
                </a:cubicBezTo>
                <a:cubicBezTo>
                  <a:pt x="12322" y="8220"/>
                  <a:pt x="12311" y="8226"/>
                  <a:pt x="12319" y="8255"/>
                </a:cubicBezTo>
                <a:cubicBezTo>
                  <a:pt x="12411" y="8301"/>
                  <a:pt x="12360" y="8227"/>
                  <a:pt x="12414" y="8192"/>
                </a:cubicBezTo>
                <a:cubicBezTo>
                  <a:pt x="12446" y="8192"/>
                  <a:pt x="12457" y="8192"/>
                  <a:pt x="12446" y="8160"/>
                </a:cubicBezTo>
                <a:cubicBezTo>
                  <a:pt x="12403" y="8138"/>
                  <a:pt x="12369" y="8156"/>
                  <a:pt x="12351" y="8192"/>
                </a:cubicBezTo>
                <a:cubicBezTo>
                  <a:pt x="12327" y="8241"/>
                  <a:pt x="12392" y="8223"/>
                  <a:pt x="12414" y="8223"/>
                </a:cubicBezTo>
              </a:path>
              <a:path w="3303" h="1398">
                <a:moveTo>
                  <a:pt x="12002" y="8763"/>
                </a:moveTo>
                <a:cubicBezTo>
                  <a:pt x="12070" y="8763"/>
                  <a:pt x="12091" y="8737"/>
                  <a:pt x="12160" y="8731"/>
                </a:cubicBezTo>
                <a:cubicBezTo>
                  <a:pt x="12258" y="8723"/>
                  <a:pt x="12350" y="8682"/>
                  <a:pt x="12446" y="8668"/>
                </a:cubicBezTo>
                <a:cubicBezTo>
                  <a:pt x="12537" y="8655"/>
                  <a:pt x="12639" y="8668"/>
                  <a:pt x="12732" y="8668"/>
                </a:cubicBezTo>
              </a:path>
              <a:path w="3303" h="1398">
                <a:moveTo>
                  <a:pt x="12351" y="9080"/>
                </a:moveTo>
                <a:cubicBezTo>
                  <a:pt x="12351" y="9136"/>
                  <a:pt x="12321" y="9230"/>
                  <a:pt x="12382" y="9176"/>
                </a:cubicBezTo>
                <a:cubicBezTo>
                  <a:pt x="12418" y="9140"/>
                  <a:pt x="12429" y="9123"/>
                  <a:pt x="12414" y="9080"/>
                </a:cubicBezTo>
                <a:cubicBezTo>
                  <a:pt x="12414" y="9083"/>
                  <a:pt x="12380" y="9239"/>
                  <a:pt x="12382" y="9239"/>
                </a:cubicBezTo>
                <a:cubicBezTo>
                  <a:pt x="12414" y="9208"/>
                  <a:pt x="12425" y="9197"/>
                  <a:pt x="12446" y="9176"/>
                </a:cubicBezTo>
              </a:path>
              <a:path w="3303" h="1398">
                <a:moveTo>
                  <a:pt x="13081" y="7969"/>
                </a:moveTo>
                <a:cubicBezTo>
                  <a:pt x="13081" y="8075"/>
                  <a:pt x="13071" y="8186"/>
                  <a:pt x="13049" y="8287"/>
                </a:cubicBezTo>
                <a:cubicBezTo>
                  <a:pt x="13015" y="8445"/>
                  <a:pt x="13013" y="8604"/>
                  <a:pt x="12986" y="8763"/>
                </a:cubicBezTo>
                <a:cubicBezTo>
                  <a:pt x="12959" y="8925"/>
                  <a:pt x="12954" y="9073"/>
                  <a:pt x="12954" y="9239"/>
                </a:cubicBezTo>
                <a:cubicBezTo>
                  <a:pt x="12954" y="9303"/>
                  <a:pt x="12954" y="9324"/>
                  <a:pt x="12954" y="9366"/>
                </a:cubicBezTo>
              </a:path>
              <a:path w="3303" h="1398">
                <a:moveTo>
                  <a:pt x="13398" y="8223"/>
                </a:moveTo>
                <a:cubicBezTo>
                  <a:pt x="13360" y="8326"/>
                  <a:pt x="13339" y="8433"/>
                  <a:pt x="13303" y="8541"/>
                </a:cubicBezTo>
                <a:cubicBezTo>
                  <a:pt x="13256" y="8682"/>
                  <a:pt x="13213" y="8834"/>
                  <a:pt x="13240" y="8985"/>
                </a:cubicBezTo>
                <a:cubicBezTo>
                  <a:pt x="13260" y="9098"/>
                  <a:pt x="13265" y="9202"/>
                  <a:pt x="13367" y="9271"/>
                </a:cubicBezTo>
                <a:cubicBezTo>
                  <a:pt x="13454" y="9329"/>
                  <a:pt x="13564" y="9288"/>
                  <a:pt x="13621" y="9208"/>
                </a:cubicBezTo>
                <a:cubicBezTo>
                  <a:pt x="13700" y="9097"/>
                  <a:pt x="13786" y="9000"/>
                  <a:pt x="13811" y="8858"/>
                </a:cubicBezTo>
                <a:cubicBezTo>
                  <a:pt x="13832" y="8738"/>
                  <a:pt x="13788" y="8648"/>
                  <a:pt x="13748" y="8541"/>
                </a:cubicBezTo>
                <a:cubicBezTo>
                  <a:pt x="13705" y="8428"/>
                  <a:pt x="13639" y="8344"/>
                  <a:pt x="13557" y="8255"/>
                </a:cubicBezTo>
                <a:cubicBezTo>
                  <a:pt x="13514" y="8208"/>
                  <a:pt x="13543" y="8208"/>
                  <a:pt x="13494" y="8192"/>
                </a:cubicBezTo>
              </a:path>
              <a:path w="3303" h="1398">
                <a:moveTo>
                  <a:pt x="13970" y="8446"/>
                </a:moveTo>
                <a:cubicBezTo>
                  <a:pt x="13970" y="8521"/>
                  <a:pt x="13923" y="8513"/>
                  <a:pt x="13906" y="8572"/>
                </a:cubicBezTo>
                <a:cubicBezTo>
                  <a:pt x="13879" y="8665"/>
                  <a:pt x="13847" y="8759"/>
                  <a:pt x="13843" y="8858"/>
                </a:cubicBezTo>
                <a:cubicBezTo>
                  <a:pt x="13840" y="8945"/>
                  <a:pt x="13819" y="9130"/>
                  <a:pt x="13875" y="9208"/>
                </a:cubicBezTo>
                <a:cubicBezTo>
                  <a:pt x="13909" y="9255"/>
                  <a:pt x="14041" y="9316"/>
                  <a:pt x="14097" y="9303"/>
                </a:cubicBezTo>
                <a:cubicBezTo>
                  <a:pt x="14185" y="9283"/>
                  <a:pt x="14328" y="9212"/>
                  <a:pt x="14383" y="9144"/>
                </a:cubicBezTo>
                <a:cubicBezTo>
                  <a:pt x="14443" y="9070"/>
                  <a:pt x="14474" y="8985"/>
                  <a:pt x="14478" y="8890"/>
                </a:cubicBezTo>
                <a:cubicBezTo>
                  <a:pt x="14483" y="8775"/>
                  <a:pt x="14414" y="8635"/>
                  <a:pt x="14351" y="8541"/>
                </a:cubicBezTo>
                <a:cubicBezTo>
                  <a:pt x="14309" y="8480"/>
                  <a:pt x="14228" y="8353"/>
                  <a:pt x="14160" y="8318"/>
                </a:cubicBezTo>
                <a:cubicBezTo>
                  <a:pt x="14114" y="8294"/>
                  <a:pt x="14113" y="8286"/>
                  <a:pt x="14097" y="8318"/>
                </a:cubicBezTo>
              </a:path>
              <a:path w="3303" h="1398">
                <a:moveTo>
                  <a:pt x="14827" y="8604"/>
                </a:moveTo>
                <a:cubicBezTo>
                  <a:pt x="14917" y="8593"/>
                  <a:pt x="14987" y="8572"/>
                  <a:pt x="15081" y="8572"/>
                </a:cubicBezTo>
                <a:cubicBezTo>
                  <a:pt x="15166" y="8572"/>
                  <a:pt x="15225" y="8588"/>
                  <a:pt x="15304" y="8604"/>
                </a:cubicBezTo>
              </a:path>
              <a:path w="3303" h="1398">
                <a:moveTo>
                  <a:pt x="14859" y="8985"/>
                </a:moveTo>
                <a:cubicBezTo>
                  <a:pt x="14916" y="8999"/>
                  <a:pt x="14949" y="9017"/>
                  <a:pt x="15018" y="9017"/>
                </a:cubicBezTo>
                <a:cubicBezTo>
                  <a:pt x="15081" y="9017"/>
                  <a:pt x="15145" y="9017"/>
                  <a:pt x="15208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5749920" y="3360600"/>
            <a:ext cx="68400" cy="92160"/>
          </a:xfrm>
          <a:custGeom>
            <a:avLst/>
            <a:gdLst/>
            <a:ahLst/>
            <a:rect l="l" t="t" r="r" b="b"/>
            <a:pathLst>
              <a:path w="192" h="255">
                <a:moveTo>
                  <a:pt x="16066" y="9366"/>
                </a:moveTo>
                <a:cubicBezTo>
                  <a:pt x="16050" y="9317"/>
                  <a:pt x="16005" y="9347"/>
                  <a:pt x="16002" y="9366"/>
                </a:cubicBezTo>
                <a:cubicBezTo>
                  <a:pt x="15986" y="9450"/>
                  <a:pt x="15981" y="9479"/>
                  <a:pt x="15970" y="9557"/>
                </a:cubicBezTo>
                <a:cubicBezTo>
                  <a:pt x="15986" y="9604"/>
                  <a:pt x="16024" y="9586"/>
                  <a:pt x="16066" y="9557"/>
                </a:cubicBezTo>
                <a:cubicBezTo>
                  <a:pt x="16095" y="9537"/>
                  <a:pt x="16188" y="9400"/>
                  <a:pt x="16161" y="9366"/>
                </a:cubicBezTo>
                <a:cubicBezTo>
                  <a:pt x="16150" y="9366"/>
                  <a:pt x="16140" y="9366"/>
                  <a:pt x="16129" y="9366"/>
                </a:cubicBezTo>
                <a:cubicBezTo>
                  <a:pt x="16068" y="9412"/>
                  <a:pt x="16073" y="9429"/>
                  <a:pt x="16034" y="9493"/>
                </a:cubicBezTo>
                <a:cubicBezTo>
                  <a:pt x="16004" y="9542"/>
                  <a:pt x="15976" y="9538"/>
                  <a:pt x="16034" y="9557"/>
                </a:cubicBezTo>
                <a:cubicBezTo>
                  <a:pt x="16050" y="9510"/>
                  <a:pt x="16055" y="9526"/>
                  <a:pt x="16097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1"/>
          <p:cNvSpPr/>
          <p:nvPr/>
        </p:nvSpPr>
        <p:spPr>
          <a:xfrm>
            <a:off x="5989680" y="2914560"/>
            <a:ext cx="789120" cy="525600"/>
          </a:xfrm>
          <a:custGeom>
            <a:avLst/>
            <a:gdLst/>
            <a:ahLst/>
            <a:rect l="l" t="t" r="r" b="b"/>
            <a:pathLst>
              <a:path w="2192" h="1462">
                <a:moveTo>
                  <a:pt x="16637" y="8128"/>
                </a:moveTo>
                <a:cubicBezTo>
                  <a:pt x="16659" y="8257"/>
                  <a:pt x="16637" y="8370"/>
                  <a:pt x="16637" y="8509"/>
                </a:cubicBezTo>
                <a:cubicBezTo>
                  <a:pt x="16637" y="8670"/>
                  <a:pt x="16658" y="9533"/>
                  <a:pt x="16669" y="9525"/>
                </a:cubicBezTo>
              </a:path>
              <a:path w="2192" h="1462">
                <a:moveTo>
                  <a:pt x="17208" y="8318"/>
                </a:moveTo>
                <a:cubicBezTo>
                  <a:pt x="17218" y="8238"/>
                  <a:pt x="17262" y="8190"/>
                  <a:pt x="17208" y="8128"/>
                </a:cubicBezTo>
                <a:cubicBezTo>
                  <a:pt x="17166" y="8080"/>
                  <a:pt x="17112" y="8096"/>
                  <a:pt x="17050" y="8096"/>
                </a:cubicBezTo>
                <a:cubicBezTo>
                  <a:pt x="16958" y="8096"/>
                  <a:pt x="16980" y="8170"/>
                  <a:pt x="16954" y="8223"/>
                </a:cubicBezTo>
                <a:cubicBezTo>
                  <a:pt x="16923" y="8287"/>
                  <a:pt x="16955" y="8396"/>
                  <a:pt x="16986" y="8477"/>
                </a:cubicBezTo>
                <a:cubicBezTo>
                  <a:pt x="17030" y="8591"/>
                  <a:pt x="17095" y="8686"/>
                  <a:pt x="17145" y="8795"/>
                </a:cubicBezTo>
                <a:cubicBezTo>
                  <a:pt x="17200" y="8913"/>
                  <a:pt x="17255" y="9079"/>
                  <a:pt x="17272" y="9208"/>
                </a:cubicBezTo>
                <a:cubicBezTo>
                  <a:pt x="17287" y="9318"/>
                  <a:pt x="17261" y="9390"/>
                  <a:pt x="17240" y="9493"/>
                </a:cubicBezTo>
                <a:cubicBezTo>
                  <a:pt x="17240" y="9529"/>
                  <a:pt x="17237" y="9543"/>
                  <a:pt x="17208" y="9557"/>
                </a:cubicBezTo>
                <a:cubicBezTo>
                  <a:pt x="17167" y="9546"/>
                  <a:pt x="17104" y="9508"/>
                  <a:pt x="17082" y="9462"/>
                </a:cubicBezTo>
                <a:cubicBezTo>
                  <a:pt x="17041" y="9374"/>
                  <a:pt x="17032" y="9238"/>
                  <a:pt x="17050" y="9144"/>
                </a:cubicBezTo>
                <a:cubicBezTo>
                  <a:pt x="17076" y="9004"/>
                  <a:pt x="17152" y="8888"/>
                  <a:pt x="17208" y="8763"/>
                </a:cubicBezTo>
                <a:cubicBezTo>
                  <a:pt x="17257" y="8652"/>
                  <a:pt x="17315" y="8567"/>
                  <a:pt x="17399" y="8477"/>
                </a:cubicBezTo>
                <a:cubicBezTo>
                  <a:pt x="17436" y="8437"/>
                  <a:pt x="17460" y="8393"/>
                  <a:pt x="17494" y="8350"/>
                </a:cubicBezTo>
              </a:path>
              <a:path w="2192" h="1462">
                <a:moveTo>
                  <a:pt x="17939" y="8255"/>
                </a:moveTo>
                <a:cubicBezTo>
                  <a:pt x="18023" y="8255"/>
                  <a:pt x="17831" y="8255"/>
                  <a:pt x="17812" y="8255"/>
                </a:cubicBezTo>
                <a:cubicBezTo>
                  <a:pt x="17725" y="8255"/>
                  <a:pt x="17690" y="8246"/>
                  <a:pt x="17621" y="8223"/>
                </a:cubicBezTo>
                <a:cubicBezTo>
                  <a:pt x="17583" y="8210"/>
                  <a:pt x="17621" y="8231"/>
                  <a:pt x="17621" y="8287"/>
                </a:cubicBezTo>
                <a:cubicBezTo>
                  <a:pt x="17621" y="8395"/>
                  <a:pt x="17610" y="8468"/>
                  <a:pt x="17590" y="8572"/>
                </a:cubicBezTo>
                <a:cubicBezTo>
                  <a:pt x="17575" y="8651"/>
                  <a:pt x="17576" y="8765"/>
                  <a:pt x="17621" y="8826"/>
                </a:cubicBezTo>
                <a:cubicBezTo>
                  <a:pt x="17671" y="8777"/>
                  <a:pt x="17711" y="8722"/>
                  <a:pt x="17780" y="8700"/>
                </a:cubicBezTo>
                <a:cubicBezTo>
                  <a:pt x="17836" y="8682"/>
                  <a:pt x="17923" y="8700"/>
                  <a:pt x="17970" y="8731"/>
                </a:cubicBezTo>
                <a:cubicBezTo>
                  <a:pt x="18024" y="8767"/>
                  <a:pt x="18087" y="8860"/>
                  <a:pt x="18098" y="8922"/>
                </a:cubicBezTo>
                <a:cubicBezTo>
                  <a:pt x="18116" y="9027"/>
                  <a:pt x="18109" y="9176"/>
                  <a:pt x="18066" y="9271"/>
                </a:cubicBezTo>
                <a:cubicBezTo>
                  <a:pt x="18017" y="9380"/>
                  <a:pt x="17980" y="9334"/>
                  <a:pt x="17907" y="9398"/>
                </a:cubicBezTo>
                <a:cubicBezTo>
                  <a:pt x="17790" y="9501"/>
                  <a:pt x="17816" y="9459"/>
                  <a:pt x="17716" y="9398"/>
                </a:cubicBezTo>
                <a:cubicBezTo>
                  <a:pt x="17647" y="9356"/>
                  <a:pt x="17630" y="9398"/>
                  <a:pt x="17621" y="9303"/>
                </a:cubicBezTo>
                <a:cubicBezTo>
                  <a:pt x="17621" y="9292"/>
                  <a:pt x="17621" y="9282"/>
                  <a:pt x="17621" y="9271"/>
                </a:cubicBezTo>
              </a:path>
              <a:path w="2192" h="1462">
                <a:moveTo>
                  <a:pt x="18288" y="8795"/>
                </a:moveTo>
                <a:cubicBezTo>
                  <a:pt x="18346" y="8781"/>
                  <a:pt x="18378" y="8763"/>
                  <a:pt x="18447" y="8763"/>
                </a:cubicBezTo>
                <a:cubicBezTo>
                  <a:pt x="18522" y="8763"/>
                  <a:pt x="18566" y="8738"/>
                  <a:pt x="18637" y="8731"/>
                </a:cubicBezTo>
                <a:cubicBezTo>
                  <a:pt x="18669" y="8731"/>
                  <a:pt x="18680" y="8731"/>
                  <a:pt x="18701" y="8731"/>
                </a:cubicBezTo>
              </a:path>
              <a:path w="2192" h="1462">
                <a:moveTo>
                  <a:pt x="18478" y="8604"/>
                </a:moveTo>
                <a:cubicBezTo>
                  <a:pt x="18490" y="8640"/>
                  <a:pt x="18522" y="8664"/>
                  <a:pt x="18574" y="8668"/>
                </a:cubicBezTo>
                <a:cubicBezTo>
                  <a:pt x="18620" y="8671"/>
                  <a:pt x="18723" y="8680"/>
                  <a:pt x="18764" y="8700"/>
                </a:cubicBezTo>
                <a:cubicBezTo>
                  <a:pt x="18793" y="8728"/>
                  <a:pt x="18799" y="8738"/>
                  <a:pt x="18828" y="8731"/>
                </a:cubicBezTo>
                <a:cubicBezTo>
                  <a:pt x="18815" y="8770"/>
                  <a:pt x="18774" y="8784"/>
                  <a:pt x="18732" y="8826"/>
                </a:cubicBezTo>
                <a:cubicBezTo>
                  <a:pt x="18689" y="8869"/>
                  <a:pt x="18623" y="8958"/>
                  <a:pt x="18574" y="8985"/>
                </a:cubicBezTo>
                <a:cubicBezTo>
                  <a:pt x="18530" y="9009"/>
                  <a:pt x="18525" y="8991"/>
                  <a:pt x="18510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2"/>
          <p:cNvSpPr/>
          <p:nvPr/>
        </p:nvSpPr>
        <p:spPr>
          <a:xfrm>
            <a:off x="6937200" y="2892600"/>
            <a:ext cx="1098720" cy="617400"/>
          </a:xfrm>
          <a:custGeom>
            <a:avLst/>
            <a:gdLst/>
            <a:ahLst/>
            <a:rect l="l" t="t" r="r" b="b"/>
            <a:pathLst>
              <a:path w="3049" h="1715">
                <a:moveTo>
                  <a:pt x="19494" y="8033"/>
                </a:moveTo>
                <a:cubicBezTo>
                  <a:pt x="19494" y="8105"/>
                  <a:pt x="19474" y="8157"/>
                  <a:pt x="19463" y="8223"/>
                </a:cubicBezTo>
                <a:cubicBezTo>
                  <a:pt x="19444" y="8338"/>
                  <a:pt x="19412" y="8457"/>
                  <a:pt x="19399" y="8572"/>
                </a:cubicBezTo>
                <a:cubicBezTo>
                  <a:pt x="19380" y="8741"/>
                  <a:pt x="19352" y="8912"/>
                  <a:pt x="19336" y="9080"/>
                </a:cubicBezTo>
                <a:cubicBezTo>
                  <a:pt x="19323" y="9221"/>
                  <a:pt x="19310" y="9354"/>
                  <a:pt x="19304" y="9493"/>
                </a:cubicBezTo>
                <a:cubicBezTo>
                  <a:pt x="19303" y="9514"/>
                  <a:pt x="19275" y="9687"/>
                  <a:pt x="19272" y="9684"/>
                </a:cubicBezTo>
                <a:cubicBezTo>
                  <a:pt x="19272" y="9673"/>
                  <a:pt x="19272" y="9663"/>
                  <a:pt x="19272" y="9652"/>
                </a:cubicBezTo>
              </a:path>
              <a:path w="3049" h="1715">
                <a:moveTo>
                  <a:pt x="19526" y="8890"/>
                </a:moveTo>
                <a:cubicBezTo>
                  <a:pt x="19621" y="8890"/>
                  <a:pt x="19700" y="8874"/>
                  <a:pt x="19780" y="8858"/>
                </a:cubicBezTo>
                <a:cubicBezTo>
                  <a:pt x="19859" y="8842"/>
                  <a:pt x="19925" y="8845"/>
                  <a:pt x="20002" y="8826"/>
                </a:cubicBezTo>
                <a:cubicBezTo>
                  <a:pt x="20034" y="8826"/>
                  <a:pt x="20045" y="8826"/>
                  <a:pt x="20066" y="8826"/>
                </a:cubicBezTo>
                <a:cubicBezTo>
                  <a:pt x="20080" y="8785"/>
                  <a:pt x="20084" y="8797"/>
                  <a:pt x="20130" y="8763"/>
                </a:cubicBezTo>
              </a:path>
              <a:path w="3049" h="1715">
                <a:moveTo>
                  <a:pt x="20320" y="9525"/>
                </a:moveTo>
                <a:cubicBezTo>
                  <a:pt x="20304" y="9590"/>
                  <a:pt x="20288" y="9606"/>
                  <a:pt x="20288" y="9684"/>
                </a:cubicBezTo>
                <a:cubicBezTo>
                  <a:pt x="20288" y="9720"/>
                  <a:pt x="20291" y="9734"/>
                  <a:pt x="20320" y="9747"/>
                </a:cubicBezTo>
                <a:cubicBezTo>
                  <a:pt x="20333" y="9697"/>
                  <a:pt x="20369" y="9666"/>
                  <a:pt x="20384" y="9620"/>
                </a:cubicBezTo>
                <a:cubicBezTo>
                  <a:pt x="20396" y="9585"/>
                  <a:pt x="20406" y="9562"/>
                  <a:pt x="20415" y="9525"/>
                </a:cubicBezTo>
                <a:cubicBezTo>
                  <a:pt x="20398" y="9529"/>
                  <a:pt x="20280" y="9580"/>
                  <a:pt x="20320" y="9620"/>
                </a:cubicBezTo>
                <a:cubicBezTo>
                  <a:pt x="20331" y="9620"/>
                  <a:pt x="20341" y="9620"/>
                  <a:pt x="20352" y="9620"/>
                </a:cubicBezTo>
              </a:path>
              <a:path w="3049" h="1715">
                <a:moveTo>
                  <a:pt x="20892" y="8192"/>
                </a:moveTo>
                <a:cubicBezTo>
                  <a:pt x="20892" y="8328"/>
                  <a:pt x="20846" y="8409"/>
                  <a:pt x="20828" y="8541"/>
                </a:cubicBezTo>
                <a:cubicBezTo>
                  <a:pt x="20808" y="8683"/>
                  <a:pt x="20801" y="8842"/>
                  <a:pt x="20796" y="8985"/>
                </a:cubicBezTo>
                <a:cubicBezTo>
                  <a:pt x="20789" y="9185"/>
                  <a:pt x="20796" y="9387"/>
                  <a:pt x="20796" y="9588"/>
                </a:cubicBezTo>
              </a:path>
              <a:path w="3049" h="1715">
                <a:moveTo>
                  <a:pt x="21272" y="8731"/>
                </a:moveTo>
                <a:cubicBezTo>
                  <a:pt x="21308" y="8624"/>
                  <a:pt x="21367" y="8499"/>
                  <a:pt x="21336" y="8382"/>
                </a:cubicBezTo>
                <a:cubicBezTo>
                  <a:pt x="21314" y="8299"/>
                  <a:pt x="21296" y="8226"/>
                  <a:pt x="21209" y="8192"/>
                </a:cubicBezTo>
                <a:cubicBezTo>
                  <a:pt x="21155" y="8171"/>
                  <a:pt x="21100" y="8256"/>
                  <a:pt x="21082" y="8287"/>
                </a:cubicBezTo>
                <a:cubicBezTo>
                  <a:pt x="21034" y="8371"/>
                  <a:pt x="21057" y="8484"/>
                  <a:pt x="21082" y="8572"/>
                </a:cubicBezTo>
                <a:cubicBezTo>
                  <a:pt x="21115" y="8688"/>
                  <a:pt x="21191" y="8801"/>
                  <a:pt x="21209" y="8922"/>
                </a:cubicBezTo>
                <a:cubicBezTo>
                  <a:pt x="21228" y="9050"/>
                  <a:pt x="21266" y="9170"/>
                  <a:pt x="21272" y="9303"/>
                </a:cubicBezTo>
                <a:cubicBezTo>
                  <a:pt x="21275" y="9368"/>
                  <a:pt x="21300" y="9505"/>
                  <a:pt x="21241" y="9557"/>
                </a:cubicBezTo>
                <a:cubicBezTo>
                  <a:pt x="21207" y="9587"/>
                  <a:pt x="21215" y="9582"/>
                  <a:pt x="21177" y="9557"/>
                </a:cubicBezTo>
                <a:cubicBezTo>
                  <a:pt x="21107" y="9539"/>
                  <a:pt x="21094" y="9478"/>
                  <a:pt x="21082" y="9398"/>
                </a:cubicBezTo>
                <a:cubicBezTo>
                  <a:pt x="21063" y="9269"/>
                  <a:pt x="21112" y="9169"/>
                  <a:pt x="21146" y="9049"/>
                </a:cubicBezTo>
                <a:cubicBezTo>
                  <a:pt x="21186" y="8906"/>
                  <a:pt x="21203" y="8737"/>
                  <a:pt x="21272" y="8604"/>
                </a:cubicBezTo>
                <a:cubicBezTo>
                  <a:pt x="21317" y="8517"/>
                  <a:pt x="21363" y="8427"/>
                  <a:pt x="21400" y="8350"/>
                </a:cubicBezTo>
                <a:cubicBezTo>
                  <a:pt x="21428" y="8321"/>
                  <a:pt x="21434" y="8310"/>
                  <a:pt x="21463" y="8318"/>
                </a:cubicBezTo>
              </a:path>
              <a:path w="3049" h="1715">
                <a:moveTo>
                  <a:pt x="21908" y="8255"/>
                </a:moveTo>
                <a:cubicBezTo>
                  <a:pt x="21891" y="8306"/>
                  <a:pt x="21858" y="8288"/>
                  <a:pt x="21812" y="8318"/>
                </a:cubicBezTo>
                <a:cubicBezTo>
                  <a:pt x="21786" y="8335"/>
                  <a:pt x="21719" y="8398"/>
                  <a:pt x="21685" y="8382"/>
                </a:cubicBezTo>
                <a:cubicBezTo>
                  <a:pt x="21634" y="8359"/>
                  <a:pt x="21622" y="8299"/>
                  <a:pt x="21622" y="8350"/>
                </a:cubicBezTo>
                <a:cubicBezTo>
                  <a:pt x="21622" y="8434"/>
                  <a:pt x="21595" y="8490"/>
                  <a:pt x="21590" y="8572"/>
                </a:cubicBezTo>
                <a:cubicBezTo>
                  <a:pt x="21585" y="8654"/>
                  <a:pt x="21558" y="8710"/>
                  <a:pt x="21558" y="8795"/>
                </a:cubicBezTo>
                <a:cubicBezTo>
                  <a:pt x="21558" y="8827"/>
                  <a:pt x="21558" y="8858"/>
                  <a:pt x="21558" y="8890"/>
                </a:cubicBezTo>
                <a:cubicBezTo>
                  <a:pt x="21651" y="8867"/>
                  <a:pt x="21588" y="8815"/>
                  <a:pt x="21654" y="8763"/>
                </a:cubicBezTo>
                <a:cubicBezTo>
                  <a:pt x="21706" y="8722"/>
                  <a:pt x="21752" y="8731"/>
                  <a:pt x="21812" y="8731"/>
                </a:cubicBezTo>
                <a:cubicBezTo>
                  <a:pt x="21841" y="8731"/>
                  <a:pt x="21898" y="8821"/>
                  <a:pt x="21908" y="8858"/>
                </a:cubicBezTo>
                <a:cubicBezTo>
                  <a:pt x="21940" y="8978"/>
                  <a:pt x="21920" y="9189"/>
                  <a:pt x="21876" y="9303"/>
                </a:cubicBezTo>
                <a:cubicBezTo>
                  <a:pt x="21846" y="9380"/>
                  <a:pt x="21778" y="9437"/>
                  <a:pt x="21717" y="9493"/>
                </a:cubicBezTo>
                <a:cubicBezTo>
                  <a:pt x="21668" y="9538"/>
                  <a:pt x="21621" y="9525"/>
                  <a:pt x="21558" y="9525"/>
                </a:cubicBezTo>
                <a:cubicBezTo>
                  <a:pt x="21547" y="9525"/>
                  <a:pt x="21537" y="9525"/>
                  <a:pt x="21526" y="9525"/>
                </a:cubicBezTo>
                <a:cubicBezTo>
                  <a:pt x="21526" y="9425"/>
                  <a:pt x="21529" y="9368"/>
                  <a:pt x="21558" y="9271"/>
                </a:cubicBezTo>
              </a:path>
              <a:path w="3049" h="1715">
                <a:moveTo>
                  <a:pt x="22130" y="8858"/>
                </a:moveTo>
                <a:cubicBezTo>
                  <a:pt x="22202" y="8858"/>
                  <a:pt x="22230" y="8846"/>
                  <a:pt x="22288" y="8826"/>
                </a:cubicBezTo>
                <a:cubicBezTo>
                  <a:pt x="22299" y="8826"/>
                  <a:pt x="22309" y="8826"/>
                  <a:pt x="22320" y="8826"/>
                </a:cubicBezTo>
              </a:path>
              <a:path w="3049" h="1715">
                <a:moveTo>
                  <a:pt x="22066" y="9144"/>
                </a:moveTo>
                <a:cubicBezTo>
                  <a:pt x="22168" y="9144"/>
                  <a:pt x="22153" y="9123"/>
                  <a:pt x="22225" y="9080"/>
                </a:cubicBezTo>
                <a:cubicBezTo>
                  <a:pt x="22236" y="9080"/>
                  <a:pt x="22246" y="9080"/>
                  <a:pt x="22257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13"/>
          <p:cNvSpPr/>
          <p:nvPr/>
        </p:nvSpPr>
        <p:spPr>
          <a:xfrm>
            <a:off x="8205840" y="2960640"/>
            <a:ext cx="630360" cy="514440"/>
          </a:xfrm>
          <a:custGeom>
            <a:avLst/>
            <a:gdLst/>
            <a:ahLst/>
            <a:rect l="l" t="t" r="r" b="b"/>
            <a:pathLst>
              <a:path w="1748" h="1430">
                <a:moveTo>
                  <a:pt x="22828" y="9366"/>
                </a:moveTo>
                <a:cubicBezTo>
                  <a:pt x="22821" y="9386"/>
                  <a:pt x="22757" y="9455"/>
                  <a:pt x="22796" y="9493"/>
                </a:cubicBezTo>
                <a:cubicBezTo>
                  <a:pt x="22820" y="9516"/>
                  <a:pt x="22824" y="9545"/>
                  <a:pt x="22860" y="9557"/>
                </a:cubicBezTo>
                <a:cubicBezTo>
                  <a:pt x="22933" y="9533"/>
                  <a:pt x="22848" y="9496"/>
                  <a:pt x="22892" y="9462"/>
                </a:cubicBezTo>
                <a:cubicBezTo>
                  <a:pt x="22928" y="9434"/>
                  <a:pt x="22907" y="9382"/>
                  <a:pt x="22860" y="9366"/>
                </a:cubicBezTo>
                <a:cubicBezTo>
                  <a:pt x="22832" y="9412"/>
                  <a:pt x="22813" y="9475"/>
                  <a:pt x="22796" y="9525"/>
                </a:cubicBezTo>
                <a:cubicBezTo>
                  <a:pt x="22772" y="9598"/>
                  <a:pt x="22816" y="9596"/>
                  <a:pt x="22860" y="9557"/>
                </a:cubicBezTo>
                <a:cubicBezTo>
                  <a:pt x="22871" y="9546"/>
                  <a:pt x="22881" y="9536"/>
                  <a:pt x="22892" y="9525"/>
                </a:cubicBezTo>
              </a:path>
              <a:path w="1748" h="1430">
                <a:moveTo>
                  <a:pt x="23368" y="8604"/>
                </a:moveTo>
                <a:cubicBezTo>
                  <a:pt x="23368" y="8510"/>
                  <a:pt x="23353" y="8428"/>
                  <a:pt x="23336" y="8350"/>
                </a:cubicBezTo>
                <a:cubicBezTo>
                  <a:pt x="23323" y="8288"/>
                  <a:pt x="23313" y="8239"/>
                  <a:pt x="23241" y="8223"/>
                </a:cubicBezTo>
                <a:cubicBezTo>
                  <a:pt x="23135" y="8200"/>
                  <a:pt x="23135" y="8247"/>
                  <a:pt x="23082" y="8318"/>
                </a:cubicBezTo>
                <a:cubicBezTo>
                  <a:pt x="23027" y="8391"/>
                  <a:pt x="22992" y="8480"/>
                  <a:pt x="22987" y="8572"/>
                </a:cubicBezTo>
                <a:cubicBezTo>
                  <a:pt x="22981" y="8679"/>
                  <a:pt x="23036" y="8739"/>
                  <a:pt x="23082" y="8826"/>
                </a:cubicBezTo>
                <a:cubicBezTo>
                  <a:pt x="23124" y="8904"/>
                  <a:pt x="23198" y="8996"/>
                  <a:pt x="23273" y="9049"/>
                </a:cubicBezTo>
                <a:cubicBezTo>
                  <a:pt x="23364" y="9113"/>
                  <a:pt x="23403" y="9188"/>
                  <a:pt x="23432" y="9303"/>
                </a:cubicBezTo>
                <a:cubicBezTo>
                  <a:pt x="23444" y="9349"/>
                  <a:pt x="23422" y="9471"/>
                  <a:pt x="23400" y="9493"/>
                </a:cubicBezTo>
                <a:cubicBezTo>
                  <a:pt x="23361" y="9531"/>
                  <a:pt x="23313" y="9529"/>
                  <a:pt x="23273" y="9493"/>
                </a:cubicBezTo>
                <a:cubicBezTo>
                  <a:pt x="23197" y="9426"/>
                  <a:pt x="23209" y="9330"/>
                  <a:pt x="23209" y="9239"/>
                </a:cubicBezTo>
                <a:cubicBezTo>
                  <a:pt x="23209" y="9070"/>
                  <a:pt x="23221" y="9010"/>
                  <a:pt x="23273" y="8858"/>
                </a:cubicBezTo>
                <a:cubicBezTo>
                  <a:pt x="23313" y="8740"/>
                  <a:pt x="23374" y="8677"/>
                  <a:pt x="23432" y="8572"/>
                </a:cubicBezTo>
                <a:cubicBezTo>
                  <a:pt x="23466" y="8503"/>
                  <a:pt x="23481" y="8478"/>
                  <a:pt x="23527" y="8446"/>
                </a:cubicBezTo>
              </a:path>
              <a:path w="1748" h="1430">
                <a:moveTo>
                  <a:pt x="23717" y="8287"/>
                </a:moveTo>
                <a:cubicBezTo>
                  <a:pt x="23734" y="8371"/>
                  <a:pt x="23732" y="8456"/>
                  <a:pt x="23749" y="8541"/>
                </a:cubicBezTo>
                <a:cubicBezTo>
                  <a:pt x="23778" y="8691"/>
                  <a:pt x="23781" y="8829"/>
                  <a:pt x="23781" y="8985"/>
                </a:cubicBezTo>
                <a:cubicBezTo>
                  <a:pt x="23781" y="9169"/>
                  <a:pt x="23794" y="9362"/>
                  <a:pt x="23749" y="9525"/>
                </a:cubicBezTo>
                <a:cubicBezTo>
                  <a:pt x="23749" y="9557"/>
                  <a:pt x="23749" y="9568"/>
                  <a:pt x="23781" y="9557"/>
                </a:cubicBezTo>
              </a:path>
              <a:path w="1748" h="1430">
                <a:moveTo>
                  <a:pt x="24416" y="8287"/>
                </a:moveTo>
                <a:cubicBezTo>
                  <a:pt x="24427" y="8287"/>
                  <a:pt x="24437" y="8287"/>
                  <a:pt x="24448" y="8287"/>
                </a:cubicBezTo>
                <a:cubicBezTo>
                  <a:pt x="24426" y="8351"/>
                  <a:pt x="24381" y="8319"/>
                  <a:pt x="24320" y="8350"/>
                </a:cubicBezTo>
                <a:cubicBezTo>
                  <a:pt x="24268" y="8376"/>
                  <a:pt x="24229" y="8407"/>
                  <a:pt x="24162" y="8414"/>
                </a:cubicBezTo>
                <a:cubicBezTo>
                  <a:pt x="24110" y="8419"/>
                  <a:pt x="24055" y="8414"/>
                  <a:pt x="24003" y="8414"/>
                </a:cubicBezTo>
                <a:cubicBezTo>
                  <a:pt x="24003" y="8491"/>
                  <a:pt x="24022" y="8532"/>
                  <a:pt x="24035" y="8604"/>
                </a:cubicBezTo>
                <a:cubicBezTo>
                  <a:pt x="24058" y="8732"/>
                  <a:pt x="24035" y="8886"/>
                  <a:pt x="24035" y="9017"/>
                </a:cubicBezTo>
                <a:cubicBezTo>
                  <a:pt x="24085" y="8966"/>
                  <a:pt x="24115" y="8910"/>
                  <a:pt x="24162" y="8858"/>
                </a:cubicBezTo>
                <a:cubicBezTo>
                  <a:pt x="24199" y="8816"/>
                  <a:pt x="24235" y="8769"/>
                  <a:pt x="24289" y="8763"/>
                </a:cubicBezTo>
                <a:cubicBezTo>
                  <a:pt x="24356" y="8755"/>
                  <a:pt x="24383" y="8818"/>
                  <a:pt x="24416" y="8858"/>
                </a:cubicBezTo>
                <a:cubicBezTo>
                  <a:pt x="24478" y="8933"/>
                  <a:pt x="24483" y="8996"/>
                  <a:pt x="24511" y="9080"/>
                </a:cubicBezTo>
                <a:cubicBezTo>
                  <a:pt x="24542" y="9172"/>
                  <a:pt x="24530" y="9283"/>
                  <a:pt x="24479" y="9366"/>
                </a:cubicBezTo>
                <a:cubicBezTo>
                  <a:pt x="24407" y="9483"/>
                  <a:pt x="24362" y="9539"/>
                  <a:pt x="24257" y="9620"/>
                </a:cubicBezTo>
                <a:cubicBezTo>
                  <a:pt x="24214" y="9654"/>
                  <a:pt x="24140" y="9687"/>
                  <a:pt x="24098" y="9620"/>
                </a:cubicBezTo>
                <a:cubicBezTo>
                  <a:pt x="24067" y="9570"/>
                  <a:pt x="24046" y="9463"/>
                  <a:pt x="24066" y="9398"/>
                </a:cubicBezTo>
                <a:cubicBezTo>
                  <a:pt x="24077" y="9387"/>
                  <a:pt x="24087" y="9377"/>
                  <a:pt x="24098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14"/>
          <p:cNvSpPr/>
          <p:nvPr/>
        </p:nvSpPr>
        <p:spPr>
          <a:xfrm>
            <a:off x="2879640" y="3954600"/>
            <a:ext cx="1212840" cy="788760"/>
          </a:xfrm>
          <a:custGeom>
            <a:avLst/>
            <a:gdLst/>
            <a:ahLst/>
            <a:rect l="l" t="t" r="r" b="b"/>
            <a:pathLst>
              <a:path w="3366" h="2191">
                <a:moveTo>
                  <a:pt x="8128" y="11430"/>
                </a:moveTo>
                <a:cubicBezTo>
                  <a:pt x="8086" y="11430"/>
                  <a:pt x="8043" y="11430"/>
                  <a:pt x="8001" y="11430"/>
                </a:cubicBezTo>
                <a:cubicBezTo>
                  <a:pt x="8001" y="11353"/>
                  <a:pt x="7999" y="11304"/>
                  <a:pt x="8033" y="11240"/>
                </a:cubicBezTo>
                <a:cubicBezTo>
                  <a:pt x="8080" y="11150"/>
                  <a:pt x="8105" y="11102"/>
                  <a:pt x="8192" y="11049"/>
                </a:cubicBezTo>
                <a:cubicBezTo>
                  <a:pt x="8281" y="10995"/>
                  <a:pt x="8321" y="10971"/>
                  <a:pt x="8414" y="11017"/>
                </a:cubicBezTo>
                <a:cubicBezTo>
                  <a:pt x="8493" y="11056"/>
                  <a:pt x="8477" y="11135"/>
                  <a:pt x="8477" y="11208"/>
                </a:cubicBezTo>
                <a:cubicBezTo>
                  <a:pt x="8477" y="11320"/>
                  <a:pt x="8430" y="11425"/>
                  <a:pt x="8382" y="11525"/>
                </a:cubicBezTo>
                <a:cubicBezTo>
                  <a:pt x="8348" y="11595"/>
                  <a:pt x="8320" y="11729"/>
                  <a:pt x="8255" y="11779"/>
                </a:cubicBezTo>
                <a:cubicBezTo>
                  <a:pt x="8244" y="11779"/>
                  <a:pt x="8234" y="11779"/>
                  <a:pt x="8223" y="11779"/>
                </a:cubicBezTo>
                <a:cubicBezTo>
                  <a:pt x="8259" y="11744"/>
                  <a:pt x="8340" y="11680"/>
                  <a:pt x="8382" y="11684"/>
                </a:cubicBezTo>
                <a:cubicBezTo>
                  <a:pt x="8432" y="11689"/>
                  <a:pt x="8538" y="11739"/>
                  <a:pt x="8572" y="11779"/>
                </a:cubicBezTo>
                <a:cubicBezTo>
                  <a:pt x="8633" y="11850"/>
                  <a:pt x="8687" y="12008"/>
                  <a:pt x="8700" y="12097"/>
                </a:cubicBezTo>
                <a:cubicBezTo>
                  <a:pt x="8721" y="12239"/>
                  <a:pt x="8703" y="12405"/>
                  <a:pt x="8668" y="12541"/>
                </a:cubicBezTo>
                <a:cubicBezTo>
                  <a:pt x="8639" y="12652"/>
                  <a:pt x="8604" y="12786"/>
                  <a:pt x="8509" y="12859"/>
                </a:cubicBezTo>
                <a:cubicBezTo>
                  <a:pt x="8392" y="12948"/>
                  <a:pt x="8301" y="12842"/>
                  <a:pt x="8223" y="12764"/>
                </a:cubicBezTo>
                <a:cubicBezTo>
                  <a:pt x="8174" y="12715"/>
                  <a:pt x="8111" y="12610"/>
                  <a:pt x="8096" y="12541"/>
                </a:cubicBezTo>
                <a:cubicBezTo>
                  <a:pt x="8075" y="12447"/>
                  <a:pt x="8100" y="12341"/>
                  <a:pt x="8128" y="12256"/>
                </a:cubicBezTo>
                <a:cubicBezTo>
                  <a:pt x="8139" y="12224"/>
                  <a:pt x="8149" y="12192"/>
                  <a:pt x="8160" y="12160"/>
                </a:cubicBezTo>
              </a:path>
              <a:path w="3366" h="2191">
                <a:moveTo>
                  <a:pt x="9366" y="11240"/>
                </a:moveTo>
                <a:cubicBezTo>
                  <a:pt x="9364" y="11237"/>
                  <a:pt x="9322" y="11151"/>
                  <a:pt x="9303" y="11144"/>
                </a:cubicBezTo>
                <a:cubicBezTo>
                  <a:pt x="9243" y="11121"/>
                  <a:pt x="9181" y="11115"/>
                  <a:pt x="9112" y="11112"/>
                </a:cubicBezTo>
                <a:cubicBezTo>
                  <a:pt x="9021" y="11107"/>
                  <a:pt x="8982" y="11148"/>
                  <a:pt x="8922" y="11208"/>
                </a:cubicBezTo>
                <a:cubicBezTo>
                  <a:pt x="8841" y="11289"/>
                  <a:pt x="8830" y="11385"/>
                  <a:pt x="8826" y="11494"/>
                </a:cubicBezTo>
                <a:cubicBezTo>
                  <a:pt x="8821" y="11633"/>
                  <a:pt x="8837" y="11744"/>
                  <a:pt x="8890" y="11874"/>
                </a:cubicBezTo>
                <a:cubicBezTo>
                  <a:pt x="8924" y="11956"/>
                  <a:pt x="8985" y="12046"/>
                  <a:pt x="9049" y="12097"/>
                </a:cubicBezTo>
                <a:cubicBezTo>
                  <a:pt x="9110" y="12146"/>
                  <a:pt x="9219" y="12164"/>
                  <a:pt x="9271" y="12224"/>
                </a:cubicBezTo>
                <a:cubicBezTo>
                  <a:pt x="9325" y="12287"/>
                  <a:pt x="9361" y="12365"/>
                  <a:pt x="9366" y="12446"/>
                </a:cubicBezTo>
                <a:cubicBezTo>
                  <a:pt x="9372" y="12546"/>
                  <a:pt x="9331" y="12629"/>
                  <a:pt x="9271" y="12700"/>
                </a:cubicBezTo>
                <a:cubicBezTo>
                  <a:pt x="9241" y="12735"/>
                  <a:pt x="9155" y="12757"/>
                  <a:pt x="9112" y="12732"/>
                </a:cubicBezTo>
                <a:cubicBezTo>
                  <a:pt x="8997" y="12667"/>
                  <a:pt x="9002" y="12453"/>
                  <a:pt x="8985" y="12351"/>
                </a:cubicBezTo>
                <a:cubicBezTo>
                  <a:pt x="8953" y="12163"/>
                  <a:pt x="8970" y="12029"/>
                  <a:pt x="8985" y="11843"/>
                </a:cubicBezTo>
                <a:cubicBezTo>
                  <a:pt x="9000" y="11664"/>
                  <a:pt x="9021" y="11576"/>
                  <a:pt x="9112" y="11430"/>
                </a:cubicBezTo>
                <a:cubicBezTo>
                  <a:pt x="9163" y="11349"/>
                  <a:pt x="9162" y="11326"/>
                  <a:pt x="9239" y="11271"/>
                </a:cubicBezTo>
              </a:path>
              <a:path w="3366" h="2191">
                <a:moveTo>
                  <a:pt x="9620" y="12287"/>
                </a:moveTo>
                <a:cubicBezTo>
                  <a:pt x="9669" y="12367"/>
                  <a:pt x="9666" y="12506"/>
                  <a:pt x="9652" y="12605"/>
                </a:cubicBezTo>
                <a:cubicBezTo>
                  <a:pt x="9633" y="12738"/>
                  <a:pt x="9596" y="12895"/>
                  <a:pt x="9557" y="13018"/>
                </a:cubicBezTo>
                <a:cubicBezTo>
                  <a:pt x="9531" y="13100"/>
                  <a:pt x="9536" y="13120"/>
                  <a:pt x="9493" y="13176"/>
                </a:cubicBezTo>
              </a:path>
              <a:path w="3366" h="2191">
                <a:moveTo>
                  <a:pt x="9970" y="11398"/>
                </a:moveTo>
                <a:cubicBezTo>
                  <a:pt x="9884" y="11591"/>
                  <a:pt x="9873" y="11766"/>
                  <a:pt x="9842" y="11970"/>
                </a:cubicBezTo>
                <a:cubicBezTo>
                  <a:pt x="9816" y="12144"/>
                  <a:pt x="9805" y="12304"/>
                  <a:pt x="9842" y="12478"/>
                </a:cubicBezTo>
                <a:cubicBezTo>
                  <a:pt x="9858" y="12551"/>
                  <a:pt x="9872" y="12612"/>
                  <a:pt x="9906" y="12668"/>
                </a:cubicBezTo>
                <a:cubicBezTo>
                  <a:pt x="9989" y="12635"/>
                  <a:pt x="10027" y="12635"/>
                  <a:pt x="10065" y="12541"/>
                </a:cubicBezTo>
                <a:cubicBezTo>
                  <a:pt x="10128" y="12386"/>
                  <a:pt x="10128" y="12225"/>
                  <a:pt x="10160" y="12065"/>
                </a:cubicBezTo>
                <a:cubicBezTo>
                  <a:pt x="10189" y="11915"/>
                  <a:pt x="10226" y="11711"/>
                  <a:pt x="10192" y="11557"/>
                </a:cubicBezTo>
                <a:cubicBezTo>
                  <a:pt x="10178" y="11492"/>
                  <a:pt x="10121" y="11443"/>
                  <a:pt x="10065" y="11430"/>
                </a:cubicBezTo>
                <a:cubicBezTo>
                  <a:pt x="10033" y="11430"/>
                  <a:pt x="10022" y="11430"/>
                  <a:pt x="10001" y="11430"/>
                </a:cubicBezTo>
                <a:cubicBezTo>
                  <a:pt x="10024" y="11498"/>
                  <a:pt x="9982" y="11486"/>
                  <a:pt x="10065" y="11494"/>
                </a:cubicBezTo>
                <a:cubicBezTo>
                  <a:pt x="10165" y="11504"/>
                  <a:pt x="10168" y="11451"/>
                  <a:pt x="10255" y="11430"/>
                </a:cubicBezTo>
                <a:cubicBezTo>
                  <a:pt x="10315" y="11416"/>
                  <a:pt x="10379" y="11385"/>
                  <a:pt x="10446" y="11398"/>
                </a:cubicBezTo>
                <a:cubicBezTo>
                  <a:pt x="10482" y="11398"/>
                  <a:pt x="10496" y="11401"/>
                  <a:pt x="10509" y="11430"/>
                </a:cubicBezTo>
                <a:cubicBezTo>
                  <a:pt x="10483" y="11534"/>
                  <a:pt x="10475" y="11639"/>
                  <a:pt x="10446" y="11748"/>
                </a:cubicBezTo>
                <a:cubicBezTo>
                  <a:pt x="10409" y="11887"/>
                  <a:pt x="10414" y="12015"/>
                  <a:pt x="10414" y="12160"/>
                </a:cubicBezTo>
                <a:cubicBezTo>
                  <a:pt x="10414" y="12296"/>
                  <a:pt x="10420" y="12386"/>
                  <a:pt x="10478" y="12510"/>
                </a:cubicBezTo>
                <a:cubicBezTo>
                  <a:pt x="10517" y="12593"/>
                  <a:pt x="10524" y="12598"/>
                  <a:pt x="10604" y="12605"/>
                </a:cubicBezTo>
                <a:cubicBezTo>
                  <a:pt x="10615" y="12605"/>
                  <a:pt x="10625" y="12605"/>
                  <a:pt x="10636" y="12605"/>
                </a:cubicBezTo>
                <a:cubicBezTo>
                  <a:pt x="10709" y="12514"/>
                  <a:pt x="10728" y="12436"/>
                  <a:pt x="10732" y="12319"/>
                </a:cubicBezTo>
                <a:cubicBezTo>
                  <a:pt x="10738" y="12148"/>
                  <a:pt x="10746" y="12013"/>
                  <a:pt x="10732" y="11843"/>
                </a:cubicBezTo>
                <a:cubicBezTo>
                  <a:pt x="10721" y="11711"/>
                  <a:pt x="10745" y="11613"/>
                  <a:pt x="10668" y="11494"/>
                </a:cubicBezTo>
                <a:cubicBezTo>
                  <a:pt x="10631" y="11437"/>
                  <a:pt x="10600" y="11434"/>
                  <a:pt x="10541" y="11430"/>
                </a:cubicBezTo>
                <a:cubicBezTo>
                  <a:pt x="10472" y="11426"/>
                  <a:pt x="10471" y="11430"/>
                  <a:pt x="10541" y="11430"/>
                </a:cubicBezTo>
                <a:cubicBezTo>
                  <a:pt x="10625" y="11430"/>
                  <a:pt x="10686" y="11408"/>
                  <a:pt x="10763" y="11398"/>
                </a:cubicBezTo>
                <a:cubicBezTo>
                  <a:pt x="10805" y="11393"/>
                  <a:pt x="10848" y="11402"/>
                  <a:pt x="10890" y="11398"/>
                </a:cubicBezTo>
                <a:cubicBezTo>
                  <a:pt x="10915" y="11463"/>
                  <a:pt x="10922" y="11510"/>
                  <a:pt x="10922" y="11589"/>
                </a:cubicBezTo>
                <a:cubicBezTo>
                  <a:pt x="10922" y="11706"/>
                  <a:pt x="10890" y="11816"/>
                  <a:pt x="10890" y="11938"/>
                </a:cubicBezTo>
                <a:cubicBezTo>
                  <a:pt x="10890" y="12069"/>
                  <a:pt x="10871" y="12199"/>
                  <a:pt x="10922" y="12319"/>
                </a:cubicBezTo>
                <a:cubicBezTo>
                  <a:pt x="10951" y="12387"/>
                  <a:pt x="10998" y="12427"/>
                  <a:pt x="11049" y="12478"/>
                </a:cubicBezTo>
                <a:cubicBezTo>
                  <a:pt x="11134" y="12466"/>
                  <a:pt x="11146" y="12444"/>
                  <a:pt x="11208" y="12382"/>
                </a:cubicBezTo>
                <a:cubicBezTo>
                  <a:pt x="11308" y="12282"/>
                  <a:pt x="11311" y="12193"/>
                  <a:pt x="11335" y="12065"/>
                </a:cubicBezTo>
                <a:cubicBezTo>
                  <a:pt x="11355" y="11958"/>
                  <a:pt x="11389" y="11787"/>
                  <a:pt x="11335" y="11684"/>
                </a:cubicBezTo>
                <a:cubicBezTo>
                  <a:pt x="11303" y="11622"/>
                  <a:pt x="11178" y="11550"/>
                  <a:pt x="11112" y="11557"/>
                </a:cubicBezTo>
                <a:cubicBezTo>
                  <a:pt x="11062" y="11563"/>
                  <a:pt x="11010" y="11584"/>
                  <a:pt x="10954" y="11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5"/>
          <p:cNvSpPr/>
          <p:nvPr/>
        </p:nvSpPr>
        <p:spPr>
          <a:xfrm>
            <a:off x="4275000" y="3772080"/>
            <a:ext cx="1268640" cy="753840"/>
          </a:xfrm>
          <a:custGeom>
            <a:avLst/>
            <a:gdLst/>
            <a:ahLst/>
            <a:rect l="l" t="t" r="r" b="b"/>
            <a:pathLst>
              <a:path w="3526" h="2096">
                <a:moveTo>
                  <a:pt x="11906" y="11811"/>
                </a:moveTo>
                <a:cubicBezTo>
                  <a:pt x="11906" y="11853"/>
                  <a:pt x="11906" y="11896"/>
                  <a:pt x="11906" y="11938"/>
                </a:cubicBezTo>
                <a:cubicBezTo>
                  <a:pt x="11958" y="11921"/>
                  <a:pt x="11938" y="11876"/>
                  <a:pt x="11938" y="11811"/>
                </a:cubicBezTo>
                <a:cubicBezTo>
                  <a:pt x="11938" y="11800"/>
                  <a:pt x="11938" y="11790"/>
                  <a:pt x="11938" y="11779"/>
                </a:cubicBezTo>
                <a:cubicBezTo>
                  <a:pt x="11902" y="11791"/>
                  <a:pt x="11880" y="11822"/>
                  <a:pt x="11874" y="11874"/>
                </a:cubicBezTo>
                <a:cubicBezTo>
                  <a:pt x="11874" y="11885"/>
                  <a:pt x="11874" y="11895"/>
                  <a:pt x="11874" y="11906"/>
                </a:cubicBezTo>
              </a:path>
              <a:path w="3526" h="2096">
                <a:moveTo>
                  <a:pt x="12382" y="12478"/>
                </a:moveTo>
                <a:cubicBezTo>
                  <a:pt x="12321" y="12478"/>
                  <a:pt x="12349" y="12530"/>
                  <a:pt x="12382" y="12541"/>
                </a:cubicBezTo>
              </a:path>
              <a:path w="3526" h="2096">
                <a:moveTo>
                  <a:pt x="13049" y="11366"/>
                </a:moveTo>
                <a:cubicBezTo>
                  <a:pt x="13095" y="11309"/>
                  <a:pt x="13137" y="11251"/>
                  <a:pt x="13144" y="11176"/>
                </a:cubicBezTo>
                <a:cubicBezTo>
                  <a:pt x="13149" y="11125"/>
                  <a:pt x="13134" y="11072"/>
                  <a:pt x="13081" y="11049"/>
                </a:cubicBezTo>
                <a:cubicBezTo>
                  <a:pt x="13042" y="11032"/>
                  <a:pt x="12947" y="11055"/>
                  <a:pt x="12922" y="11081"/>
                </a:cubicBezTo>
                <a:cubicBezTo>
                  <a:pt x="12848" y="11160"/>
                  <a:pt x="12762" y="11276"/>
                  <a:pt x="12700" y="11366"/>
                </a:cubicBezTo>
                <a:cubicBezTo>
                  <a:pt x="12650" y="11439"/>
                  <a:pt x="12636" y="11503"/>
                  <a:pt x="12636" y="11589"/>
                </a:cubicBezTo>
                <a:cubicBezTo>
                  <a:pt x="12636" y="11635"/>
                  <a:pt x="12693" y="11691"/>
                  <a:pt x="12732" y="11716"/>
                </a:cubicBezTo>
                <a:cubicBezTo>
                  <a:pt x="12816" y="11770"/>
                  <a:pt x="12881" y="11801"/>
                  <a:pt x="12954" y="11874"/>
                </a:cubicBezTo>
                <a:cubicBezTo>
                  <a:pt x="13013" y="11933"/>
                  <a:pt x="13098" y="12041"/>
                  <a:pt x="13113" y="12128"/>
                </a:cubicBezTo>
                <a:cubicBezTo>
                  <a:pt x="13131" y="12229"/>
                  <a:pt x="13119" y="12356"/>
                  <a:pt x="13081" y="12446"/>
                </a:cubicBezTo>
                <a:cubicBezTo>
                  <a:pt x="13056" y="12505"/>
                  <a:pt x="13029" y="12530"/>
                  <a:pt x="12986" y="12573"/>
                </a:cubicBezTo>
                <a:cubicBezTo>
                  <a:pt x="12919" y="12556"/>
                  <a:pt x="12915" y="12515"/>
                  <a:pt x="12890" y="12446"/>
                </a:cubicBezTo>
                <a:cubicBezTo>
                  <a:pt x="12850" y="12334"/>
                  <a:pt x="12841" y="12184"/>
                  <a:pt x="12859" y="12065"/>
                </a:cubicBezTo>
                <a:cubicBezTo>
                  <a:pt x="12881" y="11921"/>
                  <a:pt x="12907" y="11791"/>
                  <a:pt x="12954" y="11652"/>
                </a:cubicBezTo>
                <a:cubicBezTo>
                  <a:pt x="12991" y="11541"/>
                  <a:pt x="13043" y="11457"/>
                  <a:pt x="13113" y="11366"/>
                </a:cubicBezTo>
                <a:cubicBezTo>
                  <a:pt x="13144" y="11335"/>
                  <a:pt x="13155" y="11324"/>
                  <a:pt x="13176" y="11303"/>
                </a:cubicBezTo>
              </a:path>
              <a:path w="3526" h="2096">
                <a:moveTo>
                  <a:pt x="13494" y="11176"/>
                </a:moveTo>
                <a:cubicBezTo>
                  <a:pt x="13514" y="11255"/>
                  <a:pt x="13526" y="11301"/>
                  <a:pt x="13526" y="11398"/>
                </a:cubicBezTo>
                <a:cubicBezTo>
                  <a:pt x="13526" y="11708"/>
                  <a:pt x="13527" y="12016"/>
                  <a:pt x="13494" y="12319"/>
                </a:cubicBezTo>
                <a:cubicBezTo>
                  <a:pt x="13486" y="12390"/>
                  <a:pt x="13494" y="12469"/>
                  <a:pt x="13494" y="12541"/>
                </a:cubicBezTo>
              </a:path>
              <a:path w="3526" h="2096">
                <a:moveTo>
                  <a:pt x="14256" y="10890"/>
                </a:moveTo>
                <a:cubicBezTo>
                  <a:pt x="14288" y="10858"/>
                  <a:pt x="14298" y="10848"/>
                  <a:pt x="14319" y="10827"/>
                </a:cubicBezTo>
                <a:cubicBezTo>
                  <a:pt x="14310" y="10893"/>
                  <a:pt x="14301" y="10927"/>
                  <a:pt x="14256" y="10986"/>
                </a:cubicBezTo>
                <a:cubicBezTo>
                  <a:pt x="14205" y="11053"/>
                  <a:pt x="14138" y="11105"/>
                  <a:pt x="14065" y="11144"/>
                </a:cubicBezTo>
                <a:cubicBezTo>
                  <a:pt x="13970" y="11195"/>
                  <a:pt x="13965" y="11187"/>
                  <a:pt x="13875" y="11176"/>
                </a:cubicBezTo>
                <a:cubicBezTo>
                  <a:pt x="13805" y="11168"/>
                  <a:pt x="13817" y="11144"/>
                  <a:pt x="13811" y="11176"/>
                </a:cubicBezTo>
                <a:cubicBezTo>
                  <a:pt x="13798" y="11243"/>
                  <a:pt x="13839" y="11299"/>
                  <a:pt x="13843" y="11366"/>
                </a:cubicBezTo>
                <a:cubicBezTo>
                  <a:pt x="13850" y="11491"/>
                  <a:pt x="13829" y="11600"/>
                  <a:pt x="13811" y="11716"/>
                </a:cubicBezTo>
                <a:cubicBezTo>
                  <a:pt x="13806" y="11747"/>
                  <a:pt x="13814" y="11780"/>
                  <a:pt x="13811" y="11811"/>
                </a:cubicBezTo>
                <a:cubicBezTo>
                  <a:pt x="13831" y="11791"/>
                  <a:pt x="13878" y="11761"/>
                  <a:pt x="13906" y="11716"/>
                </a:cubicBezTo>
                <a:cubicBezTo>
                  <a:pt x="13952" y="11644"/>
                  <a:pt x="13980" y="11560"/>
                  <a:pt x="14034" y="11494"/>
                </a:cubicBezTo>
                <a:cubicBezTo>
                  <a:pt x="14094" y="11421"/>
                  <a:pt x="14161" y="11382"/>
                  <a:pt x="14256" y="11398"/>
                </a:cubicBezTo>
                <a:cubicBezTo>
                  <a:pt x="14319" y="11409"/>
                  <a:pt x="14406" y="11438"/>
                  <a:pt x="14446" y="11494"/>
                </a:cubicBezTo>
                <a:cubicBezTo>
                  <a:pt x="14486" y="11550"/>
                  <a:pt x="14561" y="11647"/>
                  <a:pt x="14573" y="11716"/>
                </a:cubicBezTo>
                <a:cubicBezTo>
                  <a:pt x="14591" y="11822"/>
                  <a:pt x="14558" y="11906"/>
                  <a:pt x="14542" y="12002"/>
                </a:cubicBezTo>
                <a:cubicBezTo>
                  <a:pt x="14523" y="12122"/>
                  <a:pt x="14480" y="12157"/>
                  <a:pt x="14414" y="12256"/>
                </a:cubicBezTo>
                <a:cubicBezTo>
                  <a:pt x="14373" y="12317"/>
                  <a:pt x="14300" y="12453"/>
                  <a:pt x="14224" y="12478"/>
                </a:cubicBezTo>
                <a:cubicBezTo>
                  <a:pt x="14165" y="12498"/>
                  <a:pt x="14137" y="12487"/>
                  <a:pt x="14097" y="12478"/>
                </a:cubicBezTo>
                <a:cubicBezTo>
                  <a:pt x="14086" y="12478"/>
                  <a:pt x="14076" y="12478"/>
                  <a:pt x="14065" y="12478"/>
                </a:cubicBezTo>
              </a:path>
              <a:path w="3526" h="2096">
                <a:moveTo>
                  <a:pt x="14891" y="10509"/>
                </a:moveTo>
                <a:cubicBezTo>
                  <a:pt x="14930" y="10522"/>
                  <a:pt x="14938" y="10579"/>
                  <a:pt x="14922" y="10636"/>
                </a:cubicBezTo>
                <a:cubicBezTo>
                  <a:pt x="14891" y="10745"/>
                  <a:pt x="14891" y="10836"/>
                  <a:pt x="14891" y="10954"/>
                </a:cubicBezTo>
                <a:cubicBezTo>
                  <a:pt x="14891" y="11055"/>
                  <a:pt x="14864" y="11086"/>
                  <a:pt x="14891" y="11176"/>
                </a:cubicBezTo>
                <a:cubicBezTo>
                  <a:pt x="14891" y="11187"/>
                  <a:pt x="14891" y="11197"/>
                  <a:pt x="14891" y="11208"/>
                </a:cubicBezTo>
              </a:path>
              <a:path w="3526" h="2096">
                <a:moveTo>
                  <a:pt x="15113" y="10604"/>
                </a:moveTo>
                <a:cubicBezTo>
                  <a:pt x="15113" y="10804"/>
                  <a:pt x="15091" y="11029"/>
                  <a:pt x="15145" y="11208"/>
                </a:cubicBezTo>
                <a:cubicBezTo>
                  <a:pt x="15154" y="11237"/>
                  <a:pt x="15195" y="11265"/>
                  <a:pt x="15240" y="11240"/>
                </a:cubicBezTo>
                <a:cubicBezTo>
                  <a:pt x="15281" y="11217"/>
                  <a:pt x="15357" y="11120"/>
                  <a:pt x="15367" y="11081"/>
                </a:cubicBezTo>
                <a:cubicBezTo>
                  <a:pt x="15386" y="11008"/>
                  <a:pt x="15399" y="10936"/>
                  <a:pt x="15399" y="10858"/>
                </a:cubicBezTo>
                <a:cubicBezTo>
                  <a:pt x="15399" y="10767"/>
                  <a:pt x="15365" y="10729"/>
                  <a:pt x="15304" y="10668"/>
                </a:cubicBezTo>
                <a:cubicBezTo>
                  <a:pt x="15260" y="10624"/>
                  <a:pt x="15189" y="10512"/>
                  <a:pt x="15145" y="10478"/>
                </a:cubicBezTo>
                <a:cubicBezTo>
                  <a:pt x="15112" y="10453"/>
                  <a:pt x="15069" y="10495"/>
                  <a:pt x="15050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6"/>
          <p:cNvSpPr/>
          <p:nvPr/>
        </p:nvSpPr>
        <p:spPr>
          <a:xfrm>
            <a:off x="3908520" y="4640400"/>
            <a:ext cx="630000" cy="1063440"/>
          </a:xfrm>
          <a:custGeom>
            <a:avLst/>
            <a:gdLst/>
            <a:ahLst/>
            <a:rect l="l" t="t" r="r" b="b"/>
            <a:pathLst>
              <a:path w="1748" h="2954">
                <a:moveTo>
                  <a:pt x="11938" y="13843"/>
                </a:moveTo>
                <a:cubicBezTo>
                  <a:pt x="12010" y="13867"/>
                  <a:pt x="11949" y="13905"/>
                  <a:pt x="11938" y="13970"/>
                </a:cubicBezTo>
                <a:cubicBezTo>
                  <a:pt x="11921" y="14068"/>
                  <a:pt x="11917" y="14190"/>
                  <a:pt x="11906" y="14288"/>
                </a:cubicBezTo>
                <a:cubicBezTo>
                  <a:pt x="11894" y="14394"/>
                  <a:pt x="11906" y="14503"/>
                  <a:pt x="11874" y="14605"/>
                </a:cubicBezTo>
                <a:cubicBezTo>
                  <a:pt x="11868" y="14624"/>
                  <a:pt x="11823" y="14756"/>
                  <a:pt x="11811" y="14764"/>
                </a:cubicBezTo>
                <a:cubicBezTo>
                  <a:pt x="11800" y="14764"/>
                  <a:pt x="11790" y="14764"/>
                  <a:pt x="11779" y="14764"/>
                </a:cubicBezTo>
                <a:cubicBezTo>
                  <a:pt x="11779" y="14717"/>
                  <a:pt x="11788" y="14671"/>
                  <a:pt x="11811" y="14637"/>
                </a:cubicBezTo>
                <a:cubicBezTo>
                  <a:pt x="11846" y="14585"/>
                  <a:pt x="11898" y="14569"/>
                  <a:pt x="11938" y="14542"/>
                </a:cubicBezTo>
                <a:cubicBezTo>
                  <a:pt x="11966" y="14523"/>
                  <a:pt x="12048" y="14518"/>
                  <a:pt x="12097" y="14542"/>
                </a:cubicBezTo>
                <a:cubicBezTo>
                  <a:pt x="12154" y="14570"/>
                  <a:pt x="12210" y="14622"/>
                  <a:pt x="12256" y="14668"/>
                </a:cubicBezTo>
                <a:cubicBezTo>
                  <a:pt x="12294" y="14707"/>
                  <a:pt x="12367" y="14748"/>
                  <a:pt x="12414" y="14764"/>
                </a:cubicBezTo>
                <a:cubicBezTo>
                  <a:pt x="12473" y="14784"/>
                  <a:pt x="12470" y="14795"/>
                  <a:pt x="12510" y="14764"/>
                </a:cubicBezTo>
                <a:cubicBezTo>
                  <a:pt x="12569" y="14719"/>
                  <a:pt x="12565" y="14669"/>
                  <a:pt x="12573" y="14605"/>
                </a:cubicBezTo>
              </a:path>
              <a:path w="1748" h="2954">
                <a:moveTo>
                  <a:pt x="12605" y="13652"/>
                </a:moveTo>
                <a:cubicBezTo>
                  <a:pt x="12605" y="14004"/>
                  <a:pt x="12596" y="14352"/>
                  <a:pt x="12573" y="14700"/>
                </a:cubicBezTo>
                <a:cubicBezTo>
                  <a:pt x="12548" y="15077"/>
                  <a:pt x="12573" y="15464"/>
                  <a:pt x="12573" y="15843"/>
                </a:cubicBezTo>
              </a:path>
              <a:path w="1748" h="2954">
                <a:moveTo>
                  <a:pt x="11525" y="13144"/>
                </a:moveTo>
                <a:cubicBezTo>
                  <a:pt x="11494" y="13081"/>
                  <a:pt x="11484" y="13060"/>
                  <a:pt x="11525" y="13018"/>
                </a:cubicBezTo>
                <a:cubicBezTo>
                  <a:pt x="11467" y="13135"/>
                  <a:pt x="11411" y="13232"/>
                  <a:pt x="11335" y="13335"/>
                </a:cubicBezTo>
                <a:cubicBezTo>
                  <a:pt x="11261" y="13434"/>
                  <a:pt x="11206" y="13519"/>
                  <a:pt x="11081" y="13557"/>
                </a:cubicBezTo>
                <a:cubicBezTo>
                  <a:pt x="11026" y="13574"/>
                  <a:pt x="11037" y="13597"/>
                  <a:pt x="11017" y="13557"/>
                </a:cubicBezTo>
                <a:cubicBezTo>
                  <a:pt x="11086" y="13557"/>
                  <a:pt x="11149" y="13544"/>
                  <a:pt x="11208" y="13589"/>
                </a:cubicBezTo>
                <a:cubicBezTo>
                  <a:pt x="11301" y="13660"/>
                  <a:pt x="11346" y="13707"/>
                  <a:pt x="11398" y="13811"/>
                </a:cubicBezTo>
                <a:cubicBezTo>
                  <a:pt x="11449" y="13912"/>
                  <a:pt x="11420" y="13997"/>
                  <a:pt x="11366" y="14097"/>
                </a:cubicBezTo>
                <a:cubicBezTo>
                  <a:pt x="11298" y="14224"/>
                  <a:pt x="11232" y="14334"/>
                  <a:pt x="11112" y="14414"/>
                </a:cubicBezTo>
                <a:cubicBezTo>
                  <a:pt x="11069" y="14442"/>
                  <a:pt x="10936" y="14530"/>
                  <a:pt x="10890" y="14446"/>
                </a:cubicBezTo>
                <a:cubicBezTo>
                  <a:pt x="10846" y="14365"/>
                  <a:pt x="10858" y="14222"/>
                  <a:pt x="10858" y="14129"/>
                </a:cubicBezTo>
              </a:path>
              <a:path w="1748" h="2954">
                <a:moveTo>
                  <a:pt x="11144" y="13018"/>
                </a:moveTo>
                <a:cubicBezTo>
                  <a:pt x="11166" y="13128"/>
                  <a:pt x="11176" y="13215"/>
                  <a:pt x="11176" y="13335"/>
                </a:cubicBezTo>
                <a:cubicBezTo>
                  <a:pt x="11176" y="13813"/>
                  <a:pt x="11185" y="14290"/>
                  <a:pt x="11144" y="14764"/>
                </a:cubicBezTo>
                <a:cubicBezTo>
                  <a:pt x="11136" y="14854"/>
                  <a:pt x="11172" y="14871"/>
                  <a:pt x="11112" y="14891"/>
                </a:cubicBezTo>
              </a:path>
              <a:path w="1748" h="2954">
                <a:moveTo>
                  <a:pt x="11240" y="12954"/>
                </a:moveTo>
                <a:cubicBezTo>
                  <a:pt x="11268" y="12925"/>
                  <a:pt x="11278" y="12919"/>
                  <a:pt x="11271" y="12890"/>
                </a:cubicBezTo>
                <a:cubicBezTo>
                  <a:pt x="11353" y="12972"/>
                  <a:pt x="11350" y="13056"/>
                  <a:pt x="11335" y="13176"/>
                </a:cubicBezTo>
                <a:cubicBezTo>
                  <a:pt x="11302" y="13440"/>
                  <a:pt x="11298" y="13705"/>
                  <a:pt x="11271" y="13970"/>
                </a:cubicBezTo>
                <a:cubicBezTo>
                  <a:pt x="11240" y="14267"/>
                  <a:pt x="11240" y="14559"/>
                  <a:pt x="11240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7"/>
          <p:cNvSpPr/>
          <p:nvPr/>
        </p:nvSpPr>
        <p:spPr>
          <a:xfrm>
            <a:off x="4743360" y="4800600"/>
            <a:ext cx="892440" cy="1120680"/>
          </a:xfrm>
          <a:custGeom>
            <a:avLst/>
            <a:gdLst/>
            <a:ahLst/>
            <a:rect l="l" t="t" r="r" b="b"/>
            <a:pathLst>
              <a:path w="2478" h="3112">
                <a:moveTo>
                  <a:pt x="13208" y="15399"/>
                </a:moveTo>
                <a:cubicBezTo>
                  <a:pt x="13208" y="15515"/>
                  <a:pt x="13237" y="15599"/>
                  <a:pt x="13240" y="15716"/>
                </a:cubicBezTo>
                <a:cubicBezTo>
                  <a:pt x="13245" y="15873"/>
                  <a:pt x="13230" y="16068"/>
                  <a:pt x="13208" y="16224"/>
                </a:cubicBezTo>
                <a:cubicBezTo>
                  <a:pt x="13179" y="16339"/>
                  <a:pt x="13168" y="16370"/>
                  <a:pt x="13176" y="16446"/>
                </a:cubicBezTo>
              </a:path>
              <a:path w="2478" h="3112">
                <a:moveTo>
                  <a:pt x="14097" y="13811"/>
                </a:moveTo>
                <a:cubicBezTo>
                  <a:pt x="14076" y="13759"/>
                  <a:pt x="14065" y="13681"/>
                  <a:pt x="14002" y="13652"/>
                </a:cubicBezTo>
                <a:cubicBezTo>
                  <a:pt x="13919" y="13613"/>
                  <a:pt x="13857" y="13630"/>
                  <a:pt x="13780" y="13684"/>
                </a:cubicBezTo>
                <a:cubicBezTo>
                  <a:pt x="13702" y="13738"/>
                  <a:pt x="13634" y="13825"/>
                  <a:pt x="13589" y="13906"/>
                </a:cubicBezTo>
                <a:cubicBezTo>
                  <a:pt x="13529" y="14013"/>
                  <a:pt x="13526" y="14105"/>
                  <a:pt x="13526" y="14224"/>
                </a:cubicBezTo>
                <a:cubicBezTo>
                  <a:pt x="13526" y="14295"/>
                  <a:pt x="13522" y="14506"/>
                  <a:pt x="13621" y="14542"/>
                </a:cubicBezTo>
                <a:cubicBezTo>
                  <a:pt x="13666" y="14558"/>
                  <a:pt x="13755" y="14508"/>
                  <a:pt x="13780" y="14478"/>
                </a:cubicBezTo>
                <a:cubicBezTo>
                  <a:pt x="13846" y="14399"/>
                  <a:pt x="13907" y="14227"/>
                  <a:pt x="13938" y="14129"/>
                </a:cubicBezTo>
                <a:cubicBezTo>
                  <a:pt x="13982" y="13989"/>
                  <a:pt x="13964" y="13874"/>
                  <a:pt x="14034" y="13748"/>
                </a:cubicBezTo>
                <a:cubicBezTo>
                  <a:pt x="14059" y="13696"/>
                  <a:pt x="14057" y="13674"/>
                  <a:pt x="14097" y="13684"/>
                </a:cubicBezTo>
                <a:cubicBezTo>
                  <a:pt x="14113" y="13809"/>
                  <a:pt x="14101" y="13902"/>
                  <a:pt x="14097" y="14034"/>
                </a:cubicBezTo>
                <a:cubicBezTo>
                  <a:pt x="14088" y="14343"/>
                  <a:pt x="14088" y="14648"/>
                  <a:pt x="14065" y="14954"/>
                </a:cubicBezTo>
                <a:cubicBezTo>
                  <a:pt x="14050" y="15150"/>
                  <a:pt x="14090" y="15334"/>
                  <a:pt x="14097" y="15526"/>
                </a:cubicBezTo>
                <a:cubicBezTo>
                  <a:pt x="14099" y="15568"/>
                  <a:pt x="14097" y="15547"/>
                  <a:pt x="14097" y="15589"/>
                </a:cubicBezTo>
              </a:path>
              <a:path w="2478" h="3112">
                <a:moveTo>
                  <a:pt x="14542" y="13748"/>
                </a:moveTo>
                <a:cubicBezTo>
                  <a:pt x="14542" y="14351"/>
                  <a:pt x="14542" y="14955"/>
                  <a:pt x="14542" y="15558"/>
                </a:cubicBezTo>
                <a:cubicBezTo>
                  <a:pt x="14594" y="15486"/>
                  <a:pt x="14587" y="15363"/>
                  <a:pt x="14605" y="15272"/>
                </a:cubicBezTo>
              </a:path>
              <a:path w="2478" h="3112">
                <a:moveTo>
                  <a:pt x="14859" y="13875"/>
                </a:moveTo>
                <a:cubicBezTo>
                  <a:pt x="14902" y="13779"/>
                  <a:pt x="14938" y="13683"/>
                  <a:pt x="14986" y="13589"/>
                </a:cubicBezTo>
                <a:cubicBezTo>
                  <a:pt x="15020" y="13521"/>
                  <a:pt x="15091" y="13414"/>
                  <a:pt x="15145" y="13367"/>
                </a:cubicBezTo>
                <a:cubicBezTo>
                  <a:pt x="15194" y="13324"/>
                  <a:pt x="15293" y="13312"/>
                  <a:pt x="15335" y="13367"/>
                </a:cubicBezTo>
                <a:cubicBezTo>
                  <a:pt x="15396" y="13446"/>
                  <a:pt x="15405" y="13562"/>
                  <a:pt x="15367" y="13652"/>
                </a:cubicBezTo>
                <a:cubicBezTo>
                  <a:pt x="15317" y="13770"/>
                  <a:pt x="15236" y="13860"/>
                  <a:pt x="15176" y="13970"/>
                </a:cubicBezTo>
                <a:cubicBezTo>
                  <a:pt x="15149" y="14026"/>
                  <a:pt x="15145" y="14041"/>
                  <a:pt x="15113" y="14065"/>
                </a:cubicBezTo>
                <a:cubicBezTo>
                  <a:pt x="15179" y="14000"/>
                  <a:pt x="15211" y="13944"/>
                  <a:pt x="15304" y="13938"/>
                </a:cubicBezTo>
                <a:cubicBezTo>
                  <a:pt x="15389" y="13933"/>
                  <a:pt x="15455" y="13953"/>
                  <a:pt x="15526" y="14002"/>
                </a:cubicBezTo>
                <a:cubicBezTo>
                  <a:pt x="15591" y="14047"/>
                  <a:pt x="15643" y="14247"/>
                  <a:pt x="15653" y="14319"/>
                </a:cubicBezTo>
                <a:cubicBezTo>
                  <a:pt x="15672" y="14453"/>
                  <a:pt x="15655" y="14636"/>
                  <a:pt x="15621" y="14764"/>
                </a:cubicBezTo>
                <a:cubicBezTo>
                  <a:pt x="15596" y="14858"/>
                  <a:pt x="15545" y="14962"/>
                  <a:pt x="15462" y="15018"/>
                </a:cubicBezTo>
                <a:cubicBezTo>
                  <a:pt x="15365" y="15083"/>
                  <a:pt x="15246" y="15093"/>
                  <a:pt x="15145" y="15145"/>
                </a:cubicBezTo>
                <a:cubicBezTo>
                  <a:pt x="15113" y="15166"/>
                  <a:pt x="15082" y="15187"/>
                  <a:pt x="15050" y="15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g bought a utility trailer in 2007 for $2500.  The trailer depreciates 7% each year.  What is the difference in the trailer’s value of between the years 2011 and 201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4"/>
          <p:cNvSpPr/>
          <p:nvPr/>
        </p:nvSpPr>
        <p:spPr>
          <a:xfrm>
            <a:off x="4606920" y="2103480"/>
            <a:ext cx="1886040" cy="103320"/>
          </a:xfrm>
          <a:custGeom>
            <a:avLst/>
            <a:gdLst/>
            <a:ahLst/>
            <a:rect l="l" t="t" r="r" b="b"/>
            <a:pathLst>
              <a:path w="5240" h="287">
                <a:moveTo>
                  <a:pt x="12795" y="5874"/>
                </a:moveTo>
                <a:cubicBezTo>
                  <a:pt x="12795" y="5842"/>
                  <a:pt x="12795" y="5831"/>
                  <a:pt x="12827" y="5842"/>
                </a:cubicBezTo>
                <a:cubicBezTo>
                  <a:pt x="12834" y="5850"/>
                  <a:pt x="12880" y="5929"/>
                  <a:pt x="12890" y="5937"/>
                </a:cubicBezTo>
                <a:cubicBezTo>
                  <a:pt x="12936" y="5971"/>
                  <a:pt x="12958" y="5974"/>
                  <a:pt x="13018" y="5969"/>
                </a:cubicBezTo>
                <a:cubicBezTo>
                  <a:pt x="13073" y="5965"/>
                  <a:pt x="13097" y="5925"/>
                  <a:pt x="13144" y="5906"/>
                </a:cubicBezTo>
                <a:cubicBezTo>
                  <a:pt x="13187" y="5888"/>
                  <a:pt x="13213" y="5856"/>
                  <a:pt x="13272" y="5874"/>
                </a:cubicBezTo>
                <a:cubicBezTo>
                  <a:pt x="13314" y="5887"/>
                  <a:pt x="13354" y="5922"/>
                  <a:pt x="13398" y="5937"/>
                </a:cubicBezTo>
                <a:cubicBezTo>
                  <a:pt x="13449" y="5954"/>
                  <a:pt x="13461" y="5976"/>
                  <a:pt x="13526" y="5969"/>
                </a:cubicBezTo>
                <a:cubicBezTo>
                  <a:pt x="13608" y="5960"/>
                  <a:pt x="13665" y="5931"/>
                  <a:pt x="13748" y="5906"/>
                </a:cubicBezTo>
                <a:cubicBezTo>
                  <a:pt x="13809" y="5888"/>
                  <a:pt x="13859" y="5864"/>
                  <a:pt x="13938" y="5874"/>
                </a:cubicBezTo>
                <a:cubicBezTo>
                  <a:pt x="14033" y="5886"/>
                  <a:pt x="14126" y="5927"/>
                  <a:pt x="14224" y="5937"/>
                </a:cubicBezTo>
                <a:cubicBezTo>
                  <a:pt x="14311" y="5945"/>
                  <a:pt x="14367" y="5924"/>
                  <a:pt x="14446" y="5906"/>
                </a:cubicBezTo>
                <a:cubicBezTo>
                  <a:pt x="14524" y="5888"/>
                  <a:pt x="14622" y="5851"/>
                  <a:pt x="14700" y="5842"/>
                </a:cubicBezTo>
                <a:cubicBezTo>
                  <a:pt x="14796" y="5831"/>
                  <a:pt x="14867" y="5851"/>
                  <a:pt x="14954" y="5874"/>
                </a:cubicBezTo>
                <a:cubicBezTo>
                  <a:pt x="15019" y="5891"/>
                  <a:pt x="15079" y="5894"/>
                  <a:pt x="15145" y="5906"/>
                </a:cubicBezTo>
                <a:cubicBezTo>
                  <a:pt x="15232" y="5922"/>
                  <a:pt x="15303" y="5947"/>
                  <a:pt x="15399" y="5937"/>
                </a:cubicBezTo>
                <a:cubicBezTo>
                  <a:pt x="15483" y="5928"/>
                  <a:pt x="15596" y="5919"/>
                  <a:pt x="15684" y="5906"/>
                </a:cubicBezTo>
                <a:cubicBezTo>
                  <a:pt x="15797" y="5889"/>
                  <a:pt x="15824" y="5884"/>
                  <a:pt x="15938" y="5906"/>
                </a:cubicBezTo>
                <a:cubicBezTo>
                  <a:pt x="16026" y="5923"/>
                  <a:pt x="16105" y="5947"/>
                  <a:pt x="16192" y="5969"/>
                </a:cubicBezTo>
                <a:cubicBezTo>
                  <a:pt x="16273" y="5989"/>
                  <a:pt x="16328" y="5998"/>
                  <a:pt x="16415" y="6001"/>
                </a:cubicBezTo>
                <a:cubicBezTo>
                  <a:pt x="16529" y="6004"/>
                  <a:pt x="16629" y="5979"/>
                  <a:pt x="16732" y="5969"/>
                </a:cubicBezTo>
                <a:cubicBezTo>
                  <a:pt x="16844" y="5958"/>
                  <a:pt x="16938" y="5919"/>
                  <a:pt x="17050" y="5906"/>
                </a:cubicBezTo>
                <a:cubicBezTo>
                  <a:pt x="17137" y="5896"/>
                  <a:pt x="17202" y="5917"/>
                  <a:pt x="17272" y="5937"/>
                </a:cubicBezTo>
                <a:cubicBezTo>
                  <a:pt x="17348" y="5959"/>
                  <a:pt x="17412" y="5977"/>
                  <a:pt x="17494" y="6001"/>
                </a:cubicBezTo>
                <a:cubicBezTo>
                  <a:pt x="17564" y="6022"/>
                  <a:pt x="17649" y="6011"/>
                  <a:pt x="17716" y="6032"/>
                </a:cubicBezTo>
                <a:cubicBezTo>
                  <a:pt x="17792" y="6056"/>
                  <a:pt x="17861" y="6114"/>
                  <a:pt x="17939" y="6128"/>
                </a:cubicBezTo>
                <a:cubicBezTo>
                  <a:pt x="17981" y="6128"/>
                  <a:pt x="18002" y="6128"/>
                  <a:pt x="18034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5"/>
          <p:cNvSpPr/>
          <p:nvPr/>
        </p:nvSpPr>
        <p:spPr>
          <a:xfrm>
            <a:off x="4229280" y="3235320"/>
            <a:ext cx="846000" cy="639720"/>
          </a:xfrm>
          <a:custGeom>
            <a:avLst/>
            <a:gdLst/>
            <a:ahLst/>
            <a:rect l="l" t="t" r="r" b="b"/>
            <a:pathLst>
              <a:path w="2350" h="1779">
                <a:moveTo>
                  <a:pt x="11843" y="8985"/>
                </a:moveTo>
                <a:cubicBezTo>
                  <a:pt x="11843" y="9068"/>
                  <a:pt x="11871" y="9127"/>
                  <a:pt x="11874" y="9208"/>
                </a:cubicBezTo>
                <a:cubicBezTo>
                  <a:pt x="11880" y="9347"/>
                  <a:pt x="11901" y="9481"/>
                  <a:pt x="11906" y="9620"/>
                </a:cubicBezTo>
                <a:cubicBezTo>
                  <a:pt x="11910" y="9732"/>
                  <a:pt x="11928" y="9830"/>
                  <a:pt x="11938" y="9938"/>
                </a:cubicBezTo>
                <a:cubicBezTo>
                  <a:pt x="11944" y="10001"/>
                  <a:pt x="11959" y="10026"/>
                  <a:pt x="11906" y="9938"/>
                </a:cubicBezTo>
              </a:path>
              <a:path w="2350" h="1779">
                <a:moveTo>
                  <a:pt x="11811" y="9017"/>
                </a:moveTo>
                <a:cubicBezTo>
                  <a:pt x="11811" y="9006"/>
                  <a:pt x="11811" y="8996"/>
                  <a:pt x="11811" y="8985"/>
                </a:cubicBezTo>
                <a:cubicBezTo>
                  <a:pt x="11827" y="8990"/>
                  <a:pt x="11917" y="9056"/>
                  <a:pt x="11938" y="9080"/>
                </a:cubicBezTo>
                <a:cubicBezTo>
                  <a:pt x="11997" y="9149"/>
                  <a:pt x="12100" y="9318"/>
                  <a:pt x="12128" y="9398"/>
                </a:cubicBezTo>
                <a:cubicBezTo>
                  <a:pt x="12164" y="9499"/>
                  <a:pt x="12222" y="9698"/>
                  <a:pt x="12192" y="9811"/>
                </a:cubicBezTo>
                <a:cubicBezTo>
                  <a:pt x="12166" y="9910"/>
                  <a:pt x="12098" y="9972"/>
                  <a:pt x="12002" y="10001"/>
                </a:cubicBezTo>
                <a:cubicBezTo>
                  <a:pt x="11937" y="10021"/>
                  <a:pt x="11834" y="10004"/>
                  <a:pt x="11779" y="9970"/>
                </a:cubicBezTo>
                <a:cubicBezTo>
                  <a:pt x="11714" y="9930"/>
                  <a:pt x="11753" y="9856"/>
                  <a:pt x="11779" y="9811"/>
                </a:cubicBezTo>
              </a:path>
              <a:path w="2350" h="1779">
                <a:moveTo>
                  <a:pt x="12192" y="9747"/>
                </a:moveTo>
                <a:cubicBezTo>
                  <a:pt x="12264" y="9747"/>
                  <a:pt x="12292" y="9735"/>
                  <a:pt x="12351" y="9716"/>
                </a:cubicBezTo>
                <a:cubicBezTo>
                  <a:pt x="12399" y="9700"/>
                  <a:pt x="12438" y="9687"/>
                  <a:pt x="12478" y="9652"/>
                </a:cubicBezTo>
                <a:cubicBezTo>
                  <a:pt x="12519" y="9615"/>
                  <a:pt x="12567" y="9578"/>
                  <a:pt x="12573" y="9525"/>
                </a:cubicBezTo>
                <a:cubicBezTo>
                  <a:pt x="12579" y="9473"/>
                  <a:pt x="12573" y="9419"/>
                  <a:pt x="12573" y="9366"/>
                </a:cubicBezTo>
                <a:cubicBezTo>
                  <a:pt x="12525" y="9366"/>
                  <a:pt x="12440" y="9346"/>
                  <a:pt x="12414" y="9398"/>
                </a:cubicBezTo>
                <a:cubicBezTo>
                  <a:pt x="12375" y="9475"/>
                  <a:pt x="12330" y="9602"/>
                  <a:pt x="12319" y="9684"/>
                </a:cubicBezTo>
                <a:cubicBezTo>
                  <a:pt x="12309" y="9762"/>
                  <a:pt x="12340" y="9902"/>
                  <a:pt x="12382" y="9970"/>
                </a:cubicBezTo>
                <a:cubicBezTo>
                  <a:pt x="12429" y="10047"/>
                  <a:pt x="12494" y="10033"/>
                  <a:pt x="12573" y="10033"/>
                </a:cubicBezTo>
              </a:path>
              <a:path w="2350" h="1779">
                <a:moveTo>
                  <a:pt x="12986" y="9366"/>
                </a:moveTo>
                <a:cubicBezTo>
                  <a:pt x="13019" y="9422"/>
                  <a:pt x="13018" y="9458"/>
                  <a:pt x="13018" y="9525"/>
                </a:cubicBezTo>
                <a:cubicBezTo>
                  <a:pt x="13018" y="9536"/>
                  <a:pt x="13018" y="9546"/>
                  <a:pt x="13018" y="9557"/>
                </a:cubicBezTo>
                <a:cubicBezTo>
                  <a:pt x="13018" y="9632"/>
                  <a:pt x="12987" y="9499"/>
                  <a:pt x="12986" y="9493"/>
                </a:cubicBezTo>
                <a:cubicBezTo>
                  <a:pt x="12986" y="9415"/>
                  <a:pt x="12998" y="9395"/>
                  <a:pt x="12954" y="9366"/>
                </a:cubicBezTo>
                <a:cubicBezTo>
                  <a:pt x="12881" y="9384"/>
                  <a:pt x="12856" y="9452"/>
                  <a:pt x="12827" y="9525"/>
                </a:cubicBezTo>
                <a:cubicBezTo>
                  <a:pt x="12791" y="9617"/>
                  <a:pt x="12771" y="9774"/>
                  <a:pt x="12795" y="9874"/>
                </a:cubicBezTo>
                <a:cubicBezTo>
                  <a:pt x="12814" y="9953"/>
                  <a:pt x="12839" y="9996"/>
                  <a:pt x="12922" y="10001"/>
                </a:cubicBezTo>
                <a:cubicBezTo>
                  <a:pt x="12980" y="10001"/>
                  <a:pt x="12996" y="10006"/>
                  <a:pt x="13018" y="9970"/>
                </a:cubicBezTo>
              </a:path>
              <a:path w="2350" h="1779">
                <a:moveTo>
                  <a:pt x="13398" y="9525"/>
                </a:moveTo>
                <a:cubicBezTo>
                  <a:pt x="13398" y="9472"/>
                  <a:pt x="13398" y="9419"/>
                  <a:pt x="13398" y="9366"/>
                </a:cubicBezTo>
                <a:cubicBezTo>
                  <a:pt x="13305" y="9379"/>
                  <a:pt x="13332" y="9382"/>
                  <a:pt x="13272" y="9462"/>
                </a:cubicBezTo>
                <a:cubicBezTo>
                  <a:pt x="13201" y="9556"/>
                  <a:pt x="13180" y="9627"/>
                  <a:pt x="13176" y="9747"/>
                </a:cubicBezTo>
                <a:cubicBezTo>
                  <a:pt x="13172" y="9853"/>
                  <a:pt x="13154" y="9899"/>
                  <a:pt x="13240" y="9938"/>
                </a:cubicBezTo>
                <a:cubicBezTo>
                  <a:pt x="13251" y="9938"/>
                  <a:pt x="13261" y="9938"/>
                  <a:pt x="13272" y="9938"/>
                </a:cubicBezTo>
                <a:cubicBezTo>
                  <a:pt x="13373" y="9923"/>
                  <a:pt x="13390" y="9880"/>
                  <a:pt x="13430" y="9779"/>
                </a:cubicBezTo>
                <a:cubicBezTo>
                  <a:pt x="13461" y="9700"/>
                  <a:pt x="13489" y="9477"/>
                  <a:pt x="13462" y="9557"/>
                </a:cubicBezTo>
                <a:cubicBezTo>
                  <a:pt x="13433" y="9644"/>
                  <a:pt x="13447" y="9862"/>
                  <a:pt x="13494" y="9938"/>
                </a:cubicBezTo>
                <a:cubicBezTo>
                  <a:pt x="13523" y="9967"/>
                  <a:pt x="13533" y="9973"/>
                  <a:pt x="13526" y="10001"/>
                </a:cubicBezTo>
                <a:cubicBezTo>
                  <a:pt x="13621" y="9988"/>
                  <a:pt x="13588" y="9984"/>
                  <a:pt x="13652" y="9906"/>
                </a:cubicBezTo>
                <a:cubicBezTo>
                  <a:pt x="13717" y="9827"/>
                  <a:pt x="13757" y="9696"/>
                  <a:pt x="13780" y="9588"/>
                </a:cubicBezTo>
                <a:cubicBezTo>
                  <a:pt x="13787" y="9553"/>
                  <a:pt x="13780" y="9500"/>
                  <a:pt x="13780" y="9462"/>
                </a:cubicBezTo>
                <a:cubicBezTo>
                  <a:pt x="13766" y="9498"/>
                  <a:pt x="13748" y="9572"/>
                  <a:pt x="13748" y="9652"/>
                </a:cubicBezTo>
                <a:cubicBezTo>
                  <a:pt x="13748" y="9727"/>
                  <a:pt x="13720" y="9877"/>
                  <a:pt x="13780" y="9938"/>
                </a:cubicBezTo>
                <a:cubicBezTo>
                  <a:pt x="13793" y="9951"/>
                  <a:pt x="13858" y="9959"/>
                  <a:pt x="13875" y="9970"/>
                </a:cubicBezTo>
                <a:cubicBezTo>
                  <a:pt x="13961" y="9920"/>
                  <a:pt x="13996" y="9876"/>
                  <a:pt x="14034" y="9779"/>
                </a:cubicBezTo>
                <a:cubicBezTo>
                  <a:pt x="14070" y="9687"/>
                  <a:pt x="14051" y="9602"/>
                  <a:pt x="14097" y="9525"/>
                </a:cubicBezTo>
                <a:cubicBezTo>
                  <a:pt x="14097" y="9350"/>
                  <a:pt x="14097" y="9639"/>
                  <a:pt x="14097" y="9652"/>
                </a:cubicBezTo>
                <a:cubicBezTo>
                  <a:pt x="14097" y="9931"/>
                  <a:pt x="14092" y="10203"/>
                  <a:pt x="14065" y="10478"/>
                </a:cubicBezTo>
                <a:cubicBezTo>
                  <a:pt x="14054" y="10596"/>
                  <a:pt x="14011" y="10671"/>
                  <a:pt x="13906" y="10732"/>
                </a:cubicBezTo>
                <a:cubicBezTo>
                  <a:pt x="13805" y="10791"/>
                  <a:pt x="13747" y="10748"/>
                  <a:pt x="13652" y="10700"/>
                </a:cubicBezTo>
                <a:cubicBezTo>
                  <a:pt x="13576" y="10662"/>
                  <a:pt x="13494" y="10630"/>
                  <a:pt x="13430" y="10573"/>
                </a:cubicBezTo>
                <a:cubicBezTo>
                  <a:pt x="13419" y="10562"/>
                  <a:pt x="13409" y="10552"/>
                  <a:pt x="13398" y="10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6"/>
          <p:cNvSpPr/>
          <p:nvPr/>
        </p:nvSpPr>
        <p:spPr>
          <a:xfrm>
            <a:off x="5349960" y="3268800"/>
            <a:ext cx="971640" cy="388800"/>
          </a:xfrm>
          <a:custGeom>
            <a:avLst/>
            <a:gdLst/>
            <a:ahLst/>
            <a:rect l="l" t="t" r="r" b="b"/>
            <a:pathLst>
              <a:path w="2700" h="1081">
                <a:moveTo>
                  <a:pt x="14859" y="9080"/>
                </a:moveTo>
                <a:cubicBezTo>
                  <a:pt x="15056" y="9080"/>
                  <a:pt x="15257" y="9057"/>
                  <a:pt x="15399" y="9144"/>
                </a:cubicBezTo>
                <a:cubicBezTo>
                  <a:pt x="15409" y="9144"/>
                  <a:pt x="15420" y="9144"/>
                  <a:pt x="15430" y="9144"/>
                </a:cubicBezTo>
                <a:cubicBezTo>
                  <a:pt x="15418" y="9182"/>
                  <a:pt x="15404" y="9197"/>
                  <a:pt x="15367" y="9239"/>
                </a:cubicBezTo>
                <a:cubicBezTo>
                  <a:pt x="15287" y="9328"/>
                  <a:pt x="15245" y="9335"/>
                  <a:pt x="15240" y="9462"/>
                </a:cubicBezTo>
                <a:cubicBezTo>
                  <a:pt x="15236" y="9573"/>
                  <a:pt x="15213" y="9671"/>
                  <a:pt x="15208" y="9779"/>
                </a:cubicBezTo>
                <a:cubicBezTo>
                  <a:pt x="15203" y="9895"/>
                  <a:pt x="15200" y="9987"/>
                  <a:pt x="15176" y="10096"/>
                </a:cubicBezTo>
                <a:cubicBezTo>
                  <a:pt x="15176" y="10128"/>
                  <a:pt x="15176" y="10139"/>
                  <a:pt x="15176" y="10160"/>
                </a:cubicBezTo>
              </a:path>
              <a:path w="2700" h="1081">
                <a:moveTo>
                  <a:pt x="15812" y="9366"/>
                </a:moveTo>
                <a:cubicBezTo>
                  <a:pt x="15788" y="9437"/>
                  <a:pt x="15798" y="9354"/>
                  <a:pt x="15780" y="9462"/>
                </a:cubicBezTo>
                <a:cubicBezTo>
                  <a:pt x="15793" y="9383"/>
                  <a:pt x="15814" y="9398"/>
                  <a:pt x="15780" y="9398"/>
                </a:cubicBezTo>
              </a:path>
              <a:path w="2700" h="1081">
                <a:moveTo>
                  <a:pt x="15653" y="9716"/>
                </a:moveTo>
                <a:cubicBezTo>
                  <a:pt x="15642" y="9716"/>
                  <a:pt x="15632" y="9716"/>
                  <a:pt x="15621" y="9716"/>
                </a:cubicBezTo>
                <a:cubicBezTo>
                  <a:pt x="15702" y="9716"/>
                  <a:pt x="15745" y="9707"/>
                  <a:pt x="15812" y="9684"/>
                </a:cubicBezTo>
                <a:cubicBezTo>
                  <a:pt x="15836" y="9676"/>
                  <a:pt x="15881" y="9684"/>
                  <a:pt x="15907" y="9684"/>
                </a:cubicBezTo>
              </a:path>
              <a:path w="2700" h="1081">
                <a:moveTo>
                  <a:pt x="15748" y="10065"/>
                </a:moveTo>
                <a:cubicBezTo>
                  <a:pt x="15748" y="10075"/>
                  <a:pt x="15748" y="10086"/>
                  <a:pt x="15748" y="10096"/>
                </a:cubicBezTo>
              </a:path>
              <a:path w="2700" h="1081">
                <a:moveTo>
                  <a:pt x="16256" y="9271"/>
                </a:moveTo>
                <a:cubicBezTo>
                  <a:pt x="16241" y="9345"/>
                  <a:pt x="16216" y="9419"/>
                  <a:pt x="16192" y="9493"/>
                </a:cubicBezTo>
                <a:cubicBezTo>
                  <a:pt x="16153" y="9615"/>
                  <a:pt x="16135" y="9747"/>
                  <a:pt x="16129" y="9874"/>
                </a:cubicBezTo>
                <a:cubicBezTo>
                  <a:pt x="16126" y="9946"/>
                  <a:pt x="16091" y="10110"/>
                  <a:pt x="16161" y="10065"/>
                </a:cubicBezTo>
              </a:path>
              <a:path w="2700" h="1081">
                <a:moveTo>
                  <a:pt x="16478" y="9334"/>
                </a:moveTo>
                <a:cubicBezTo>
                  <a:pt x="16401" y="9360"/>
                  <a:pt x="16446" y="9366"/>
                  <a:pt x="16415" y="9462"/>
                </a:cubicBezTo>
                <a:cubicBezTo>
                  <a:pt x="16376" y="9586"/>
                  <a:pt x="16325" y="9677"/>
                  <a:pt x="16320" y="9811"/>
                </a:cubicBezTo>
                <a:cubicBezTo>
                  <a:pt x="16316" y="9923"/>
                  <a:pt x="16342" y="9959"/>
                  <a:pt x="16415" y="10033"/>
                </a:cubicBezTo>
                <a:cubicBezTo>
                  <a:pt x="16482" y="10101"/>
                  <a:pt x="16520" y="10055"/>
                  <a:pt x="16574" y="10001"/>
                </a:cubicBezTo>
                <a:cubicBezTo>
                  <a:pt x="16633" y="9942"/>
                  <a:pt x="16703" y="9745"/>
                  <a:pt x="16700" y="9652"/>
                </a:cubicBezTo>
                <a:cubicBezTo>
                  <a:pt x="16698" y="9581"/>
                  <a:pt x="16668" y="9387"/>
                  <a:pt x="16605" y="9366"/>
                </a:cubicBezTo>
                <a:cubicBezTo>
                  <a:pt x="16603" y="9365"/>
                  <a:pt x="16424" y="9301"/>
                  <a:pt x="16446" y="9366"/>
                </a:cubicBezTo>
                <a:cubicBezTo>
                  <a:pt x="16457" y="9366"/>
                  <a:pt x="16467" y="9366"/>
                  <a:pt x="16478" y="9366"/>
                </a:cubicBezTo>
              </a:path>
              <a:path w="2700" h="1081">
                <a:moveTo>
                  <a:pt x="16891" y="9334"/>
                </a:moveTo>
                <a:cubicBezTo>
                  <a:pt x="16785" y="9380"/>
                  <a:pt x="16776" y="9409"/>
                  <a:pt x="16732" y="9525"/>
                </a:cubicBezTo>
                <a:cubicBezTo>
                  <a:pt x="16685" y="9649"/>
                  <a:pt x="16664" y="9747"/>
                  <a:pt x="16700" y="9874"/>
                </a:cubicBezTo>
                <a:cubicBezTo>
                  <a:pt x="16727" y="9969"/>
                  <a:pt x="16803" y="10028"/>
                  <a:pt x="16891" y="10033"/>
                </a:cubicBezTo>
                <a:cubicBezTo>
                  <a:pt x="17002" y="10040"/>
                  <a:pt x="17029" y="10003"/>
                  <a:pt x="17082" y="9906"/>
                </a:cubicBezTo>
                <a:cubicBezTo>
                  <a:pt x="17129" y="9820"/>
                  <a:pt x="17132" y="9656"/>
                  <a:pt x="17113" y="9557"/>
                </a:cubicBezTo>
                <a:cubicBezTo>
                  <a:pt x="17089" y="9428"/>
                  <a:pt x="17049" y="9376"/>
                  <a:pt x="16923" y="9366"/>
                </a:cubicBezTo>
                <a:cubicBezTo>
                  <a:pt x="16863" y="9361"/>
                  <a:pt x="16857" y="9346"/>
                  <a:pt x="16891" y="9398"/>
                </a:cubicBezTo>
              </a:path>
              <a:path w="2700" h="1081">
                <a:moveTo>
                  <a:pt x="17367" y="9557"/>
                </a:moveTo>
                <a:cubicBezTo>
                  <a:pt x="17420" y="9557"/>
                  <a:pt x="17473" y="9557"/>
                  <a:pt x="17526" y="9557"/>
                </a:cubicBezTo>
              </a:path>
              <a:path w="2700" h="1081">
                <a:moveTo>
                  <a:pt x="17336" y="9811"/>
                </a:moveTo>
                <a:cubicBezTo>
                  <a:pt x="17336" y="9821"/>
                  <a:pt x="17336" y="9832"/>
                  <a:pt x="17336" y="9842"/>
                </a:cubicBezTo>
                <a:cubicBezTo>
                  <a:pt x="17385" y="9855"/>
                  <a:pt x="17405" y="9874"/>
                  <a:pt x="17462" y="9874"/>
                </a:cubicBezTo>
                <a:cubicBezTo>
                  <a:pt x="17505" y="9874"/>
                  <a:pt x="17526" y="9874"/>
                  <a:pt x="17558" y="9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7"/>
          <p:cNvSpPr/>
          <p:nvPr/>
        </p:nvSpPr>
        <p:spPr>
          <a:xfrm>
            <a:off x="6458040" y="3314880"/>
            <a:ext cx="1566720" cy="366480"/>
          </a:xfrm>
          <a:custGeom>
            <a:avLst/>
            <a:gdLst/>
            <a:ahLst/>
            <a:rect l="l" t="t" r="r" b="b"/>
            <a:pathLst>
              <a:path w="4350" h="1017">
                <a:moveTo>
                  <a:pt x="17939" y="10065"/>
                </a:moveTo>
                <a:cubicBezTo>
                  <a:pt x="17939" y="10054"/>
                  <a:pt x="17939" y="10044"/>
                  <a:pt x="17939" y="10033"/>
                </a:cubicBezTo>
              </a:path>
              <a:path w="4350" h="1017">
                <a:moveTo>
                  <a:pt x="18383" y="9366"/>
                </a:moveTo>
                <a:cubicBezTo>
                  <a:pt x="18333" y="9366"/>
                  <a:pt x="18288" y="9351"/>
                  <a:pt x="18256" y="9398"/>
                </a:cubicBezTo>
                <a:cubicBezTo>
                  <a:pt x="18201" y="9477"/>
                  <a:pt x="18172" y="9596"/>
                  <a:pt x="18161" y="9684"/>
                </a:cubicBezTo>
                <a:cubicBezTo>
                  <a:pt x="18146" y="9807"/>
                  <a:pt x="18169" y="9920"/>
                  <a:pt x="18193" y="10033"/>
                </a:cubicBezTo>
                <a:cubicBezTo>
                  <a:pt x="18200" y="10067"/>
                  <a:pt x="18273" y="10142"/>
                  <a:pt x="18320" y="10128"/>
                </a:cubicBezTo>
                <a:cubicBezTo>
                  <a:pt x="18447" y="10091"/>
                  <a:pt x="18469" y="10022"/>
                  <a:pt x="18510" y="9906"/>
                </a:cubicBezTo>
                <a:cubicBezTo>
                  <a:pt x="18552" y="9785"/>
                  <a:pt x="18559" y="9674"/>
                  <a:pt x="18510" y="9557"/>
                </a:cubicBezTo>
                <a:cubicBezTo>
                  <a:pt x="18483" y="9494"/>
                  <a:pt x="18414" y="9397"/>
                  <a:pt x="18352" y="9366"/>
                </a:cubicBezTo>
                <a:cubicBezTo>
                  <a:pt x="18320" y="9366"/>
                  <a:pt x="18309" y="9366"/>
                  <a:pt x="18288" y="9366"/>
                </a:cubicBezTo>
              </a:path>
              <a:path w="4350" h="1017">
                <a:moveTo>
                  <a:pt x="18574" y="9398"/>
                </a:moveTo>
                <a:cubicBezTo>
                  <a:pt x="18623" y="9361"/>
                  <a:pt x="18639" y="9366"/>
                  <a:pt x="18701" y="9366"/>
                </a:cubicBezTo>
                <a:cubicBezTo>
                  <a:pt x="18786" y="9366"/>
                  <a:pt x="18870" y="9366"/>
                  <a:pt x="18955" y="9366"/>
                </a:cubicBezTo>
                <a:cubicBezTo>
                  <a:pt x="18955" y="9435"/>
                  <a:pt x="18945" y="9496"/>
                  <a:pt x="18923" y="9557"/>
                </a:cubicBezTo>
                <a:cubicBezTo>
                  <a:pt x="18897" y="9630"/>
                  <a:pt x="18884" y="9708"/>
                  <a:pt x="18860" y="9779"/>
                </a:cubicBezTo>
                <a:cubicBezTo>
                  <a:pt x="18826" y="9881"/>
                  <a:pt x="18810" y="9989"/>
                  <a:pt x="18796" y="10096"/>
                </a:cubicBezTo>
              </a:path>
              <a:path w="4350" h="1017">
                <a:moveTo>
                  <a:pt x="19240" y="9652"/>
                </a:moveTo>
                <a:cubicBezTo>
                  <a:pt x="19314" y="9652"/>
                  <a:pt x="19389" y="9652"/>
                  <a:pt x="19463" y="9652"/>
                </a:cubicBezTo>
              </a:path>
              <a:path w="4350" h="1017">
                <a:moveTo>
                  <a:pt x="19431" y="9462"/>
                </a:moveTo>
                <a:cubicBezTo>
                  <a:pt x="19461" y="9472"/>
                  <a:pt x="19492" y="9502"/>
                  <a:pt x="19526" y="9525"/>
                </a:cubicBezTo>
                <a:cubicBezTo>
                  <a:pt x="19587" y="9566"/>
                  <a:pt x="19607" y="9600"/>
                  <a:pt x="19685" y="9620"/>
                </a:cubicBezTo>
                <a:cubicBezTo>
                  <a:pt x="19696" y="9620"/>
                  <a:pt x="19706" y="9620"/>
                  <a:pt x="19717" y="9620"/>
                </a:cubicBezTo>
                <a:cubicBezTo>
                  <a:pt x="19670" y="9655"/>
                  <a:pt x="19605" y="9656"/>
                  <a:pt x="19558" y="9684"/>
                </a:cubicBezTo>
                <a:cubicBezTo>
                  <a:pt x="19543" y="9693"/>
                  <a:pt x="19432" y="9778"/>
                  <a:pt x="19431" y="9779"/>
                </a:cubicBezTo>
                <a:cubicBezTo>
                  <a:pt x="19431" y="9790"/>
                  <a:pt x="19431" y="9800"/>
                  <a:pt x="19431" y="9811"/>
                </a:cubicBezTo>
              </a:path>
              <a:path w="4350" h="1017">
                <a:moveTo>
                  <a:pt x="20130" y="9208"/>
                </a:moveTo>
                <a:cubicBezTo>
                  <a:pt x="20130" y="9317"/>
                  <a:pt x="20112" y="9385"/>
                  <a:pt x="20098" y="9493"/>
                </a:cubicBezTo>
                <a:cubicBezTo>
                  <a:pt x="20081" y="9623"/>
                  <a:pt x="20039" y="9744"/>
                  <a:pt x="20034" y="9874"/>
                </a:cubicBezTo>
                <a:cubicBezTo>
                  <a:pt x="20030" y="9990"/>
                  <a:pt x="20034" y="10108"/>
                  <a:pt x="20034" y="10224"/>
                </a:cubicBezTo>
              </a:path>
              <a:path w="4350" h="1017">
                <a:moveTo>
                  <a:pt x="20415" y="9747"/>
                </a:moveTo>
                <a:cubicBezTo>
                  <a:pt x="20477" y="9711"/>
                  <a:pt x="20591" y="9695"/>
                  <a:pt x="20669" y="9684"/>
                </a:cubicBezTo>
                <a:cubicBezTo>
                  <a:pt x="20733" y="9684"/>
                  <a:pt x="20754" y="9684"/>
                  <a:pt x="20796" y="9684"/>
                </a:cubicBezTo>
              </a:path>
              <a:path w="4350" h="1017">
                <a:moveTo>
                  <a:pt x="21018" y="10128"/>
                </a:moveTo>
                <a:lnTo>
                  <a:pt x="21018" y="10128"/>
                </a:lnTo>
              </a:path>
              <a:path w="4350" h="1017">
                <a:moveTo>
                  <a:pt x="21558" y="9366"/>
                </a:moveTo>
                <a:cubicBezTo>
                  <a:pt x="21510" y="9366"/>
                  <a:pt x="21426" y="9346"/>
                  <a:pt x="21400" y="9398"/>
                </a:cubicBezTo>
                <a:cubicBezTo>
                  <a:pt x="21343" y="9513"/>
                  <a:pt x="21308" y="9653"/>
                  <a:pt x="21304" y="9779"/>
                </a:cubicBezTo>
                <a:cubicBezTo>
                  <a:pt x="21300" y="9908"/>
                  <a:pt x="21291" y="10018"/>
                  <a:pt x="21368" y="10128"/>
                </a:cubicBezTo>
                <a:cubicBezTo>
                  <a:pt x="21424" y="10208"/>
                  <a:pt x="21515" y="10206"/>
                  <a:pt x="21590" y="10160"/>
                </a:cubicBezTo>
                <a:cubicBezTo>
                  <a:pt x="21692" y="10097"/>
                  <a:pt x="21741" y="9979"/>
                  <a:pt x="21780" y="9874"/>
                </a:cubicBezTo>
                <a:cubicBezTo>
                  <a:pt x="21828" y="9745"/>
                  <a:pt x="21807" y="9680"/>
                  <a:pt x="21749" y="9557"/>
                </a:cubicBezTo>
                <a:cubicBezTo>
                  <a:pt x="21726" y="9507"/>
                  <a:pt x="21670" y="9393"/>
                  <a:pt x="21622" y="9366"/>
                </a:cubicBezTo>
                <a:cubicBezTo>
                  <a:pt x="21611" y="9366"/>
                  <a:pt x="21601" y="9366"/>
                  <a:pt x="21590" y="9366"/>
                </a:cubicBezTo>
              </a:path>
              <a:path w="4350" h="1017">
                <a:moveTo>
                  <a:pt x="21780" y="9334"/>
                </a:moveTo>
                <a:cubicBezTo>
                  <a:pt x="21840" y="9379"/>
                  <a:pt x="21892" y="9366"/>
                  <a:pt x="21971" y="9366"/>
                </a:cubicBezTo>
                <a:cubicBezTo>
                  <a:pt x="22077" y="9366"/>
                  <a:pt x="22182" y="9366"/>
                  <a:pt x="22288" y="9366"/>
                </a:cubicBezTo>
                <a:cubicBezTo>
                  <a:pt x="22275" y="9434"/>
                  <a:pt x="22276" y="9522"/>
                  <a:pt x="22257" y="9588"/>
                </a:cubicBezTo>
                <a:cubicBezTo>
                  <a:pt x="22230" y="9685"/>
                  <a:pt x="22246" y="9777"/>
                  <a:pt x="22225" y="9874"/>
                </a:cubicBezTo>
                <a:cubicBezTo>
                  <a:pt x="22208" y="9951"/>
                  <a:pt x="22181" y="10031"/>
                  <a:pt x="22162" y="10096"/>
                </a:cubicBezTo>
                <a:cubicBezTo>
                  <a:pt x="22145" y="10155"/>
                  <a:pt x="22150" y="10157"/>
                  <a:pt x="22193" y="10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8"/>
          <p:cNvSpPr/>
          <p:nvPr/>
        </p:nvSpPr>
        <p:spPr>
          <a:xfrm>
            <a:off x="8161200" y="3451320"/>
            <a:ext cx="114480" cy="115920"/>
          </a:xfrm>
          <a:custGeom>
            <a:avLst/>
            <a:gdLst/>
            <a:ahLst/>
            <a:rect l="l" t="t" r="r" b="b"/>
            <a:pathLst>
              <a:path w="318" h="319">
                <a:moveTo>
                  <a:pt x="22670" y="9652"/>
                </a:moveTo>
                <a:cubicBezTo>
                  <a:pt x="22670" y="9641"/>
                  <a:pt x="22670" y="9631"/>
                  <a:pt x="22670" y="9620"/>
                </a:cubicBezTo>
                <a:cubicBezTo>
                  <a:pt x="22746" y="9620"/>
                  <a:pt x="22770" y="9607"/>
                  <a:pt x="22828" y="9588"/>
                </a:cubicBezTo>
                <a:cubicBezTo>
                  <a:pt x="22860" y="9588"/>
                  <a:pt x="22871" y="9588"/>
                  <a:pt x="22892" y="9588"/>
                </a:cubicBezTo>
              </a:path>
              <a:path w="318" h="319">
                <a:moveTo>
                  <a:pt x="22701" y="9874"/>
                </a:moveTo>
                <a:cubicBezTo>
                  <a:pt x="22701" y="9885"/>
                  <a:pt x="22701" y="9895"/>
                  <a:pt x="22701" y="9906"/>
                </a:cubicBezTo>
                <a:cubicBezTo>
                  <a:pt x="22772" y="9892"/>
                  <a:pt x="22816" y="9874"/>
                  <a:pt x="22892" y="9874"/>
                </a:cubicBezTo>
                <a:cubicBezTo>
                  <a:pt x="22937" y="9874"/>
                  <a:pt x="22959" y="9868"/>
                  <a:pt x="22987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9"/>
          <p:cNvSpPr/>
          <p:nvPr/>
        </p:nvSpPr>
        <p:spPr>
          <a:xfrm>
            <a:off x="8423280" y="3360600"/>
            <a:ext cx="434880" cy="43524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23432" y="10160"/>
                </a:moveTo>
                <a:cubicBezTo>
                  <a:pt x="23432" y="10105"/>
                  <a:pt x="23405" y="10183"/>
                  <a:pt x="23400" y="10192"/>
                </a:cubicBezTo>
                <a:cubicBezTo>
                  <a:pt x="23369" y="10254"/>
                  <a:pt x="23414" y="10264"/>
                  <a:pt x="23432" y="10192"/>
                </a:cubicBezTo>
              </a:path>
              <a:path w="1207" h="1208">
                <a:moveTo>
                  <a:pt x="24130" y="9462"/>
                </a:moveTo>
                <a:cubicBezTo>
                  <a:pt x="24118" y="9379"/>
                  <a:pt x="24097" y="9351"/>
                  <a:pt x="24003" y="9334"/>
                </a:cubicBezTo>
                <a:cubicBezTo>
                  <a:pt x="23905" y="9316"/>
                  <a:pt x="23831" y="9390"/>
                  <a:pt x="23781" y="9462"/>
                </a:cubicBezTo>
                <a:cubicBezTo>
                  <a:pt x="23713" y="9561"/>
                  <a:pt x="23717" y="9665"/>
                  <a:pt x="23717" y="9779"/>
                </a:cubicBezTo>
                <a:cubicBezTo>
                  <a:pt x="23717" y="9847"/>
                  <a:pt x="23785" y="9861"/>
                  <a:pt x="23844" y="9842"/>
                </a:cubicBezTo>
                <a:cubicBezTo>
                  <a:pt x="23938" y="9811"/>
                  <a:pt x="23979" y="9694"/>
                  <a:pt x="24035" y="9620"/>
                </a:cubicBezTo>
                <a:cubicBezTo>
                  <a:pt x="24073" y="9570"/>
                  <a:pt x="24059" y="9550"/>
                  <a:pt x="24098" y="9525"/>
                </a:cubicBezTo>
                <a:cubicBezTo>
                  <a:pt x="24081" y="9594"/>
                  <a:pt x="24064" y="9671"/>
                  <a:pt x="24035" y="9747"/>
                </a:cubicBezTo>
                <a:cubicBezTo>
                  <a:pt x="23998" y="9845"/>
                  <a:pt x="23975" y="9958"/>
                  <a:pt x="23971" y="10065"/>
                </a:cubicBezTo>
                <a:cubicBezTo>
                  <a:pt x="23970" y="10094"/>
                  <a:pt x="23971" y="10362"/>
                  <a:pt x="23971" y="10287"/>
                </a:cubicBezTo>
              </a:path>
              <a:path w="1207" h="1208">
                <a:moveTo>
                  <a:pt x="24289" y="9588"/>
                </a:moveTo>
                <a:cubicBezTo>
                  <a:pt x="24289" y="9525"/>
                  <a:pt x="24295" y="9442"/>
                  <a:pt x="24352" y="9398"/>
                </a:cubicBezTo>
                <a:cubicBezTo>
                  <a:pt x="24393" y="9367"/>
                  <a:pt x="24455" y="9366"/>
                  <a:pt x="24511" y="9366"/>
                </a:cubicBezTo>
                <a:cubicBezTo>
                  <a:pt x="24578" y="9366"/>
                  <a:pt x="24602" y="9433"/>
                  <a:pt x="24606" y="9493"/>
                </a:cubicBezTo>
                <a:cubicBezTo>
                  <a:pt x="24610" y="9556"/>
                  <a:pt x="24566" y="9644"/>
                  <a:pt x="24511" y="9684"/>
                </a:cubicBezTo>
                <a:cubicBezTo>
                  <a:pt x="24473" y="9711"/>
                  <a:pt x="24371" y="9783"/>
                  <a:pt x="24352" y="9811"/>
                </a:cubicBezTo>
                <a:cubicBezTo>
                  <a:pt x="24302" y="9883"/>
                  <a:pt x="24346" y="9813"/>
                  <a:pt x="24352" y="9811"/>
                </a:cubicBezTo>
                <a:cubicBezTo>
                  <a:pt x="24424" y="9792"/>
                  <a:pt x="24489" y="9833"/>
                  <a:pt x="24543" y="9874"/>
                </a:cubicBezTo>
                <a:cubicBezTo>
                  <a:pt x="24617" y="9930"/>
                  <a:pt x="24606" y="9979"/>
                  <a:pt x="24606" y="10065"/>
                </a:cubicBezTo>
                <a:cubicBezTo>
                  <a:pt x="24606" y="10180"/>
                  <a:pt x="24599" y="10225"/>
                  <a:pt x="24543" y="10319"/>
                </a:cubicBezTo>
                <a:cubicBezTo>
                  <a:pt x="24479" y="10426"/>
                  <a:pt x="24466" y="10452"/>
                  <a:pt x="24352" y="10509"/>
                </a:cubicBezTo>
                <a:cubicBezTo>
                  <a:pt x="24263" y="10554"/>
                  <a:pt x="24251" y="10543"/>
                  <a:pt x="24162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890640" y="3828960"/>
            <a:ext cx="3498840" cy="549360"/>
          </a:xfrm>
          <a:custGeom>
            <a:avLst/>
            <a:gdLst/>
            <a:ahLst/>
            <a:rect l="l" t="t" r="r" b="b"/>
            <a:pathLst>
              <a:path w="9717" h="1525">
                <a:moveTo>
                  <a:pt x="2635" y="10954"/>
                </a:moveTo>
                <a:cubicBezTo>
                  <a:pt x="2567" y="10931"/>
                  <a:pt x="2628" y="10925"/>
                  <a:pt x="2667" y="10890"/>
                </a:cubicBezTo>
                <a:cubicBezTo>
                  <a:pt x="2710" y="10851"/>
                  <a:pt x="2772" y="10778"/>
                  <a:pt x="2826" y="10763"/>
                </a:cubicBezTo>
                <a:cubicBezTo>
                  <a:pt x="2868" y="10752"/>
                  <a:pt x="2970" y="10710"/>
                  <a:pt x="3016" y="10732"/>
                </a:cubicBezTo>
                <a:cubicBezTo>
                  <a:pt x="3067" y="10757"/>
                  <a:pt x="3060" y="10878"/>
                  <a:pt x="3048" y="10922"/>
                </a:cubicBezTo>
                <a:cubicBezTo>
                  <a:pt x="3021" y="11018"/>
                  <a:pt x="2954" y="11112"/>
                  <a:pt x="2921" y="11208"/>
                </a:cubicBezTo>
                <a:cubicBezTo>
                  <a:pt x="2885" y="11310"/>
                  <a:pt x="2821" y="11465"/>
                  <a:pt x="2762" y="11557"/>
                </a:cubicBezTo>
                <a:cubicBezTo>
                  <a:pt x="2702" y="11651"/>
                  <a:pt x="2636" y="11731"/>
                  <a:pt x="2572" y="11811"/>
                </a:cubicBezTo>
                <a:cubicBezTo>
                  <a:pt x="2523" y="11871"/>
                  <a:pt x="2531" y="11888"/>
                  <a:pt x="2476" y="11906"/>
                </a:cubicBezTo>
                <a:cubicBezTo>
                  <a:pt x="2476" y="11843"/>
                  <a:pt x="2470" y="11805"/>
                  <a:pt x="2508" y="11748"/>
                </a:cubicBezTo>
                <a:cubicBezTo>
                  <a:pt x="2529" y="11717"/>
                  <a:pt x="2628" y="11602"/>
                  <a:pt x="2667" y="11620"/>
                </a:cubicBezTo>
                <a:cubicBezTo>
                  <a:pt x="2703" y="11636"/>
                  <a:pt x="2751" y="11716"/>
                  <a:pt x="2762" y="11748"/>
                </a:cubicBezTo>
                <a:cubicBezTo>
                  <a:pt x="2772" y="11776"/>
                  <a:pt x="2810" y="11892"/>
                  <a:pt x="2826" y="11906"/>
                </a:cubicBezTo>
                <a:cubicBezTo>
                  <a:pt x="2864" y="11937"/>
                  <a:pt x="2930" y="11938"/>
                  <a:pt x="2984" y="11938"/>
                </a:cubicBezTo>
                <a:cubicBezTo>
                  <a:pt x="3071" y="11938"/>
                  <a:pt x="3103" y="11927"/>
                  <a:pt x="3175" y="11874"/>
                </a:cubicBezTo>
                <a:cubicBezTo>
                  <a:pt x="3234" y="11830"/>
                  <a:pt x="3259" y="11807"/>
                  <a:pt x="3302" y="11748"/>
                </a:cubicBezTo>
              </a:path>
              <a:path w="9717" h="1525">
                <a:moveTo>
                  <a:pt x="3524" y="10827"/>
                </a:moveTo>
                <a:cubicBezTo>
                  <a:pt x="3524" y="10775"/>
                  <a:pt x="3512" y="10722"/>
                  <a:pt x="3461" y="10795"/>
                </a:cubicBezTo>
                <a:cubicBezTo>
                  <a:pt x="3398" y="10886"/>
                  <a:pt x="3363" y="11008"/>
                  <a:pt x="3334" y="11112"/>
                </a:cubicBezTo>
                <a:cubicBezTo>
                  <a:pt x="3292" y="11263"/>
                  <a:pt x="3241" y="11431"/>
                  <a:pt x="3270" y="11589"/>
                </a:cubicBezTo>
                <a:cubicBezTo>
                  <a:pt x="3289" y="11692"/>
                  <a:pt x="3352" y="11813"/>
                  <a:pt x="3461" y="11843"/>
                </a:cubicBezTo>
                <a:cubicBezTo>
                  <a:pt x="3566" y="11872"/>
                  <a:pt x="3631" y="11776"/>
                  <a:pt x="3683" y="11716"/>
                </a:cubicBezTo>
                <a:cubicBezTo>
                  <a:pt x="3779" y="11606"/>
                  <a:pt x="3803" y="11485"/>
                  <a:pt x="3778" y="11335"/>
                </a:cubicBezTo>
                <a:cubicBezTo>
                  <a:pt x="3754" y="11194"/>
                  <a:pt x="3710" y="11085"/>
                  <a:pt x="3651" y="10954"/>
                </a:cubicBezTo>
                <a:cubicBezTo>
                  <a:pt x="3618" y="10880"/>
                  <a:pt x="3614" y="10852"/>
                  <a:pt x="3556" y="10795"/>
                </a:cubicBezTo>
              </a:path>
              <a:path w="9717" h="1525">
                <a:moveTo>
                  <a:pt x="4000" y="10732"/>
                </a:moveTo>
                <a:cubicBezTo>
                  <a:pt x="4000" y="10824"/>
                  <a:pt x="3977" y="10897"/>
                  <a:pt x="3969" y="10986"/>
                </a:cubicBezTo>
                <a:cubicBezTo>
                  <a:pt x="3937" y="11323"/>
                  <a:pt x="3969" y="12277"/>
                  <a:pt x="3969" y="11938"/>
                </a:cubicBezTo>
              </a:path>
              <a:path w="9717" h="1525">
                <a:moveTo>
                  <a:pt x="4445" y="10700"/>
                </a:moveTo>
                <a:cubicBezTo>
                  <a:pt x="4461" y="10764"/>
                  <a:pt x="4477" y="10781"/>
                  <a:pt x="4477" y="10858"/>
                </a:cubicBezTo>
                <a:cubicBezTo>
                  <a:pt x="4477" y="11053"/>
                  <a:pt x="4461" y="11239"/>
                  <a:pt x="4445" y="11430"/>
                </a:cubicBezTo>
                <a:cubicBezTo>
                  <a:pt x="4430" y="11603"/>
                  <a:pt x="4423" y="11737"/>
                  <a:pt x="4445" y="11906"/>
                </a:cubicBezTo>
                <a:cubicBezTo>
                  <a:pt x="4445" y="11927"/>
                  <a:pt x="4445" y="11949"/>
                  <a:pt x="4445" y="11970"/>
                </a:cubicBezTo>
              </a:path>
              <a:path w="9717" h="1525">
                <a:moveTo>
                  <a:pt x="4794" y="11208"/>
                </a:moveTo>
                <a:cubicBezTo>
                  <a:pt x="4794" y="11190"/>
                  <a:pt x="4794" y="11197"/>
                  <a:pt x="4858" y="11176"/>
                </a:cubicBezTo>
                <a:cubicBezTo>
                  <a:pt x="5050" y="11112"/>
                  <a:pt x="5431" y="11161"/>
                  <a:pt x="5620" y="11208"/>
                </a:cubicBezTo>
                <a:cubicBezTo>
                  <a:pt x="5652" y="11208"/>
                  <a:pt x="5663" y="11208"/>
                  <a:pt x="5652" y="11176"/>
                </a:cubicBezTo>
              </a:path>
              <a:path w="9717" h="1525">
                <a:moveTo>
                  <a:pt x="4858" y="11525"/>
                </a:moveTo>
                <a:cubicBezTo>
                  <a:pt x="4773" y="11525"/>
                  <a:pt x="4906" y="11525"/>
                  <a:pt x="4921" y="11525"/>
                </a:cubicBezTo>
                <a:cubicBezTo>
                  <a:pt x="5076" y="11525"/>
                  <a:pt x="5220" y="11532"/>
                  <a:pt x="5366" y="11557"/>
                </a:cubicBezTo>
                <a:cubicBezTo>
                  <a:pt x="5447" y="11571"/>
                  <a:pt x="5521" y="11542"/>
                  <a:pt x="5556" y="11525"/>
                </a:cubicBezTo>
                <a:cubicBezTo>
                  <a:pt x="5588" y="11525"/>
                  <a:pt x="5598" y="11525"/>
                  <a:pt x="5588" y="11494"/>
                </a:cubicBezTo>
              </a:path>
              <a:path w="9717" h="1525">
                <a:moveTo>
                  <a:pt x="5461" y="10922"/>
                </a:moveTo>
                <a:cubicBezTo>
                  <a:pt x="5461" y="10889"/>
                  <a:pt x="5491" y="10907"/>
                  <a:pt x="5524" y="10954"/>
                </a:cubicBezTo>
                <a:cubicBezTo>
                  <a:pt x="5583" y="11040"/>
                  <a:pt x="5637" y="11072"/>
                  <a:pt x="5715" y="11144"/>
                </a:cubicBezTo>
                <a:cubicBezTo>
                  <a:pt x="5766" y="11191"/>
                  <a:pt x="5823" y="11221"/>
                  <a:pt x="5874" y="11271"/>
                </a:cubicBezTo>
                <a:cubicBezTo>
                  <a:pt x="5953" y="11349"/>
                  <a:pt x="5868" y="11327"/>
                  <a:pt x="5842" y="11366"/>
                </a:cubicBezTo>
                <a:cubicBezTo>
                  <a:pt x="5809" y="11416"/>
                  <a:pt x="5795" y="11419"/>
                  <a:pt x="5747" y="11462"/>
                </a:cubicBezTo>
                <a:cubicBezTo>
                  <a:pt x="5691" y="11512"/>
                  <a:pt x="5664" y="11562"/>
                  <a:pt x="5620" y="11620"/>
                </a:cubicBezTo>
                <a:cubicBezTo>
                  <a:pt x="5581" y="11672"/>
                  <a:pt x="5509" y="11700"/>
                  <a:pt x="5461" y="11748"/>
                </a:cubicBezTo>
                <a:cubicBezTo>
                  <a:pt x="5450" y="11758"/>
                  <a:pt x="5440" y="11769"/>
                  <a:pt x="5429" y="11779"/>
                </a:cubicBezTo>
              </a:path>
              <a:path w="9717" h="1525">
                <a:moveTo>
                  <a:pt x="6572" y="10986"/>
                </a:moveTo>
                <a:cubicBezTo>
                  <a:pt x="6562" y="10913"/>
                  <a:pt x="6516" y="10892"/>
                  <a:pt x="6509" y="10827"/>
                </a:cubicBezTo>
                <a:cubicBezTo>
                  <a:pt x="6505" y="10786"/>
                  <a:pt x="6496" y="10722"/>
                  <a:pt x="6540" y="10700"/>
                </a:cubicBezTo>
                <a:cubicBezTo>
                  <a:pt x="6588" y="10676"/>
                  <a:pt x="6635" y="10713"/>
                  <a:pt x="6668" y="10732"/>
                </a:cubicBezTo>
                <a:cubicBezTo>
                  <a:pt x="6779" y="10795"/>
                  <a:pt x="6740" y="10875"/>
                  <a:pt x="6731" y="10986"/>
                </a:cubicBezTo>
                <a:cubicBezTo>
                  <a:pt x="6718" y="11148"/>
                  <a:pt x="6691" y="11260"/>
                  <a:pt x="6604" y="11398"/>
                </a:cubicBezTo>
                <a:cubicBezTo>
                  <a:pt x="6535" y="11508"/>
                  <a:pt x="6469" y="11621"/>
                  <a:pt x="6382" y="11716"/>
                </a:cubicBezTo>
                <a:cubicBezTo>
                  <a:pt x="6343" y="11758"/>
                  <a:pt x="6322" y="11799"/>
                  <a:pt x="6286" y="11811"/>
                </a:cubicBezTo>
                <a:cubicBezTo>
                  <a:pt x="6299" y="11773"/>
                  <a:pt x="6313" y="11758"/>
                  <a:pt x="6350" y="11716"/>
                </a:cubicBezTo>
                <a:cubicBezTo>
                  <a:pt x="6389" y="11672"/>
                  <a:pt x="6422" y="11684"/>
                  <a:pt x="6477" y="11684"/>
                </a:cubicBezTo>
                <a:cubicBezTo>
                  <a:pt x="6529" y="11684"/>
                  <a:pt x="6579" y="11692"/>
                  <a:pt x="6604" y="11748"/>
                </a:cubicBezTo>
                <a:cubicBezTo>
                  <a:pt x="6619" y="11781"/>
                  <a:pt x="6626" y="11806"/>
                  <a:pt x="6668" y="11811"/>
                </a:cubicBezTo>
                <a:cubicBezTo>
                  <a:pt x="6733" y="11819"/>
                  <a:pt x="6750" y="11792"/>
                  <a:pt x="6794" y="11748"/>
                </a:cubicBezTo>
              </a:path>
              <a:path w="9717" h="1525">
                <a:moveTo>
                  <a:pt x="7461" y="10700"/>
                </a:moveTo>
                <a:cubicBezTo>
                  <a:pt x="7424" y="10756"/>
                  <a:pt x="7369" y="10729"/>
                  <a:pt x="7302" y="10763"/>
                </a:cubicBezTo>
                <a:cubicBezTo>
                  <a:pt x="7237" y="10796"/>
                  <a:pt x="7192" y="10795"/>
                  <a:pt x="7112" y="10795"/>
                </a:cubicBezTo>
                <a:cubicBezTo>
                  <a:pt x="7080" y="10795"/>
                  <a:pt x="7069" y="10795"/>
                  <a:pt x="7048" y="10795"/>
                </a:cubicBezTo>
                <a:cubicBezTo>
                  <a:pt x="7048" y="10740"/>
                  <a:pt x="7077" y="10801"/>
                  <a:pt x="7080" y="10827"/>
                </a:cubicBezTo>
                <a:cubicBezTo>
                  <a:pt x="7092" y="10923"/>
                  <a:pt x="7068" y="10994"/>
                  <a:pt x="7048" y="11081"/>
                </a:cubicBezTo>
                <a:cubicBezTo>
                  <a:pt x="7033" y="11146"/>
                  <a:pt x="7022" y="11207"/>
                  <a:pt x="7017" y="11271"/>
                </a:cubicBezTo>
                <a:cubicBezTo>
                  <a:pt x="7017" y="11282"/>
                  <a:pt x="7017" y="11292"/>
                  <a:pt x="7017" y="11303"/>
                </a:cubicBezTo>
                <a:cubicBezTo>
                  <a:pt x="7065" y="11286"/>
                  <a:pt x="7038" y="11256"/>
                  <a:pt x="7080" y="11208"/>
                </a:cubicBezTo>
                <a:cubicBezTo>
                  <a:pt x="7154" y="11125"/>
                  <a:pt x="7142" y="11115"/>
                  <a:pt x="7239" y="11081"/>
                </a:cubicBezTo>
                <a:cubicBezTo>
                  <a:pt x="7345" y="11043"/>
                  <a:pt x="7355" y="11059"/>
                  <a:pt x="7461" y="11112"/>
                </a:cubicBezTo>
                <a:cubicBezTo>
                  <a:pt x="7561" y="11162"/>
                  <a:pt x="7635" y="11285"/>
                  <a:pt x="7652" y="11398"/>
                </a:cubicBezTo>
                <a:cubicBezTo>
                  <a:pt x="7667" y="11493"/>
                  <a:pt x="7658" y="11599"/>
                  <a:pt x="7620" y="11684"/>
                </a:cubicBezTo>
                <a:cubicBezTo>
                  <a:pt x="7586" y="11760"/>
                  <a:pt x="7482" y="11824"/>
                  <a:pt x="7398" y="11843"/>
                </a:cubicBezTo>
                <a:cubicBezTo>
                  <a:pt x="7348" y="11854"/>
                  <a:pt x="7181" y="11816"/>
                  <a:pt x="7144" y="11779"/>
                </a:cubicBezTo>
                <a:cubicBezTo>
                  <a:pt x="7076" y="11712"/>
                  <a:pt x="7080" y="11611"/>
                  <a:pt x="7080" y="11525"/>
                </a:cubicBezTo>
              </a:path>
              <a:path w="9717" h="1525">
                <a:moveTo>
                  <a:pt x="7874" y="10827"/>
                </a:moveTo>
                <a:cubicBezTo>
                  <a:pt x="7833" y="10840"/>
                  <a:pt x="7802" y="10897"/>
                  <a:pt x="7779" y="10954"/>
                </a:cubicBezTo>
                <a:cubicBezTo>
                  <a:pt x="7724" y="11090"/>
                  <a:pt x="7665" y="11250"/>
                  <a:pt x="7684" y="11398"/>
                </a:cubicBezTo>
                <a:cubicBezTo>
                  <a:pt x="7696" y="11495"/>
                  <a:pt x="7736" y="11620"/>
                  <a:pt x="7810" y="11684"/>
                </a:cubicBezTo>
                <a:cubicBezTo>
                  <a:pt x="7881" y="11745"/>
                  <a:pt x="8022" y="11721"/>
                  <a:pt x="8096" y="11684"/>
                </a:cubicBezTo>
                <a:cubicBezTo>
                  <a:pt x="8182" y="11641"/>
                  <a:pt x="8244" y="11454"/>
                  <a:pt x="8255" y="11366"/>
                </a:cubicBezTo>
                <a:cubicBezTo>
                  <a:pt x="8271" y="11241"/>
                  <a:pt x="8230" y="11031"/>
                  <a:pt x="8160" y="10922"/>
                </a:cubicBezTo>
                <a:cubicBezTo>
                  <a:pt x="8100" y="10827"/>
                  <a:pt x="8049" y="10772"/>
                  <a:pt x="7938" y="10763"/>
                </a:cubicBezTo>
                <a:cubicBezTo>
                  <a:pt x="7844" y="10756"/>
                  <a:pt x="7876" y="10851"/>
                  <a:pt x="7906" y="10890"/>
                </a:cubicBezTo>
              </a:path>
              <a:path w="9717" h="1525">
                <a:moveTo>
                  <a:pt x="8446" y="10954"/>
                </a:moveTo>
                <a:cubicBezTo>
                  <a:pt x="8501" y="10926"/>
                  <a:pt x="8516" y="10921"/>
                  <a:pt x="8541" y="10890"/>
                </a:cubicBezTo>
                <a:cubicBezTo>
                  <a:pt x="8541" y="10854"/>
                  <a:pt x="8492" y="10892"/>
                  <a:pt x="8446" y="10954"/>
                </a:cubicBezTo>
                <a:cubicBezTo>
                  <a:pt x="8368" y="11058"/>
                  <a:pt x="8306" y="11168"/>
                  <a:pt x="8287" y="11303"/>
                </a:cubicBezTo>
                <a:cubicBezTo>
                  <a:pt x="8271" y="11418"/>
                  <a:pt x="8286" y="11584"/>
                  <a:pt x="8350" y="11684"/>
                </a:cubicBezTo>
                <a:cubicBezTo>
                  <a:pt x="8419" y="11791"/>
                  <a:pt x="8576" y="11862"/>
                  <a:pt x="8700" y="11843"/>
                </a:cubicBezTo>
                <a:cubicBezTo>
                  <a:pt x="8835" y="11823"/>
                  <a:pt x="8966" y="11752"/>
                  <a:pt x="9017" y="11620"/>
                </a:cubicBezTo>
                <a:cubicBezTo>
                  <a:pt x="9082" y="11451"/>
                  <a:pt x="9044" y="11323"/>
                  <a:pt x="8954" y="11176"/>
                </a:cubicBezTo>
                <a:cubicBezTo>
                  <a:pt x="8857" y="11017"/>
                  <a:pt x="8777" y="10984"/>
                  <a:pt x="8636" y="10922"/>
                </a:cubicBezTo>
                <a:cubicBezTo>
                  <a:pt x="8550" y="10884"/>
                  <a:pt x="8565" y="10902"/>
                  <a:pt x="8541" y="10986"/>
                </a:cubicBezTo>
              </a:path>
              <a:path w="9717" h="1525">
                <a:moveTo>
                  <a:pt x="9271" y="11366"/>
                </a:moveTo>
                <a:cubicBezTo>
                  <a:pt x="9255" y="11432"/>
                  <a:pt x="9242" y="11403"/>
                  <a:pt x="9271" y="11462"/>
                </a:cubicBezTo>
                <a:cubicBezTo>
                  <a:pt x="9334" y="11446"/>
                  <a:pt x="9334" y="11431"/>
                  <a:pt x="9334" y="11366"/>
                </a:cubicBezTo>
                <a:cubicBezTo>
                  <a:pt x="9334" y="11356"/>
                  <a:pt x="9334" y="11345"/>
                  <a:pt x="9334" y="11335"/>
                </a:cubicBezTo>
                <a:cubicBezTo>
                  <a:pt x="9283" y="11335"/>
                  <a:pt x="9233" y="11342"/>
                  <a:pt x="9208" y="11398"/>
                </a:cubicBezTo>
                <a:cubicBezTo>
                  <a:pt x="9191" y="11437"/>
                  <a:pt x="9233" y="11417"/>
                  <a:pt x="9271" y="11398"/>
                </a:cubicBezTo>
                <a:cubicBezTo>
                  <a:pt x="9299" y="11384"/>
                  <a:pt x="9338" y="11353"/>
                  <a:pt x="9271" y="11398"/>
                </a:cubicBezTo>
              </a:path>
              <a:path w="9717" h="1525">
                <a:moveTo>
                  <a:pt x="9620" y="12002"/>
                </a:moveTo>
                <a:cubicBezTo>
                  <a:pt x="9620" y="11946"/>
                  <a:pt x="9618" y="11951"/>
                  <a:pt x="9652" y="11906"/>
                </a:cubicBezTo>
                <a:cubicBezTo>
                  <a:pt x="9652" y="11963"/>
                  <a:pt x="9633" y="11983"/>
                  <a:pt x="9620" y="12033"/>
                </a:cubicBezTo>
                <a:cubicBezTo>
                  <a:pt x="9640" y="12026"/>
                  <a:pt x="9679" y="11981"/>
                  <a:pt x="9684" y="11970"/>
                </a:cubicBezTo>
                <a:cubicBezTo>
                  <a:pt x="9684" y="11959"/>
                  <a:pt x="9684" y="11949"/>
                  <a:pt x="9684" y="11938"/>
                </a:cubicBezTo>
              </a:path>
              <a:path w="9717" h="1525">
                <a:moveTo>
                  <a:pt x="10255" y="11430"/>
                </a:moveTo>
                <a:cubicBezTo>
                  <a:pt x="10295" y="11324"/>
                  <a:pt x="10298" y="11276"/>
                  <a:pt x="10287" y="11176"/>
                </a:cubicBezTo>
                <a:cubicBezTo>
                  <a:pt x="10277" y="11086"/>
                  <a:pt x="10277" y="10993"/>
                  <a:pt x="10192" y="10954"/>
                </a:cubicBezTo>
                <a:cubicBezTo>
                  <a:pt x="10143" y="10932"/>
                  <a:pt x="10084" y="10917"/>
                  <a:pt x="10033" y="10954"/>
                </a:cubicBezTo>
                <a:cubicBezTo>
                  <a:pt x="9957" y="11010"/>
                  <a:pt x="9889" y="11150"/>
                  <a:pt x="9874" y="11240"/>
                </a:cubicBezTo>
                <a:cubicBezTo>
                  <a:pt x="9866" y="11290"/>
                  <a:pt x="9872" y="11458"/>
                  <a:pt x="9906" y="11494"/>
                </a:cubicBezTo>
                <a:cubicBezTo>
                  <a:pt x="9948" y="11539"/>
                  <a:pt x="10093" y="11524"/>
                  <a:pt x="10128" y="11494"/>
                </a:cubicBezTo>
                <a:cubicBezTo>
                  <a:pt x="10200" y="11433"/>
                  <a:pt x="10231" y="11350"/>
                  <a:pt x="10287" y="11271"/>
                </a:cubicBezTo>
                <a:cubicBezTo>
                  <a:pt x="10319" y="11225"/>
                  <a:pt x="10319" y="11233"/>
                  <a:pt x="10319" y="11176"/>
                </a:cubicBezTo>
                <a:cubicBezTo>
                  <a:pt x="10319" y="11237"/>
                  <a:pt x="10306" y="11311"/>
                  <a:pt x="10287" y="11366"/>
                </a:cubicBezTo>
                <a:cubicBezTo>
                  <a:pt x="10254" y="11465"/>
                  <a:pt x="10229" y="11545"/>
                  <a:pt x="10224" y="11652"/>
                </a:cubicBezTo>
                <a:cubicBezTo>
                  <a:pt x="10217" y="11808"/>
                  <a:pt x="10229" y="11950"/>
                  <a:pt x="10192" y="12097"/>
                </a:cubicBezTo>
                <a:cubicBezTo>
                  <a:pt x="10177" y="12157"/>
                  <a:pt x="10192" y="12173"/>
                  <a:pt x="10192" y="12097"/>
                </a:cubicBezTo>
              </a:path>
              <a:path w="9717" h="1525">
                <a:moveTo>
                  <a:pt x="10478" y="11240"/>
                </a:moveTo>
                <a:cubicBezTo>
                  <a:pt x="10490" y="11153"/>
                  <a:pt x="10511" y="11144"/>
                  <a:pt x="10573" y="11081"/>
                </a:cubicBezTo>
                <a:cubicBezTo>
                  <a:pt x="10598" y="11056"/>
                  <a:pt x="10666" y="11001"/>
                  <a:pt x="10700" y="10986"/>
                </a:cubicBezTo>
                <a:cubicBezTo>
                  <a:pt x="10767" y="10957"/>
                  <a:pt x="10774" y="11018"/>
                  <a:pt x="10795" y="11049"/>
                </a:cubicBezTo>
                <a:cubicBezTo>
                  <a:pt x="10840" y="11116"/>
                  <a:pt x="10825" y="11165"/>
                  <a:pt x="10795" y="11240"/>
                </a:cubicBezTo>
                <a:cubicBezTo>
                  <a:pt x="10768" y="11306"/>
                  <a:pt x="10735" y="11340"/>
                  <a:pt x="10700" y="11366"/>
                </a:cubicBezTo>
                <a:cubicBezTo>
                  <a:pt x="10642" y="11410"/>
                  <a:pt x="10621" y="11398"/>
                  <a:pt x="10700" y="11398"/>
                </a:cubicBezTo>
                <a:cubicBezTo>
                  <a:pt x="10763" y="11398"/>
                  <a:pt x="10801" y="11392"/>
                  <a:pt x="10858" y="11430"/>
                </a:cubicBezTo>
                <a:cubicBezTo>
                  <a:pt x="10918" y="11470"/>
                  <a:pt x="10943" y="11554"/>
                  <a:pt x="10954" y="11620"/>
                </a:cubicBezTo>
                <a:cubicBezTo>
                  <a:pt x="10968" y="11704"/>
                  <a:pt x="10903" y="11776"/>
                  <a:pt x="10890" y="11843"/>
                </a:cubicBezTo>
                <a:cubicBezTo>
                  <a:pt x="10877" y="11906"/>
                  <a:pt x="10827" y="11987"/>
                  <a:pt x="10763" y="12033"/>
                </a:cubicBezTo>
                <a:cubicBezTo>
                  <a:pt x="10694" y="12082"/>
                  <a:pt x="10629" y="12076"/>
                  <a:pt x="10573" y="12065"/>
                </a:cubicBezTo>
                <a:cubicBezTo>
                  <a:pt x="10507" y="12052"/>
                  <a:pt x="10462" y="11976"/>
                  <a:pt x="10446" y="11906"/>
                </a:cubicBezTo>
                <a:cubicBezTo>
                  <a:pt x="10430" y="11835"/>
                  <a:pt x="10470" y="11797"/>
                  <a:pt x="10509" y="11748"/>
                </a:cubicBezTo>
              </a:path>
              <a:path w="9717" h="1525">
                <a:moveTo>
                  <a:pt x="11144" y="10732"/>
                </a:moveTo>
                <a:cubicBezTo>
                  <a:pt x="11144" y="10799"/>
                  <a:pt x="11129" y="10810"/>
                  <a:pt x="11081" y="10858"/>
                </a:cubicBezTo>
                <a:cubicBezTo>
                  <a:pt x="11054" y="10885"/>
                  <a:pt x="11037" y="10972"/>
                  <a:pt x="11017" y="10986"/>
                </a:cubicBezTo>
                <a:cubicBezTo>
                  <a:pt x="11007" y="10986"/>
                  <a:pt x="10996" y="10986"/>
                  <a:pt x="10986" y="10986"/>
                </a:cubicBezTo>
                <a:cubicBezTo>
                  <a:pt x="11075" y="10986"/>
                  <a:pt x="11134" y="10993"/>
                  <a:pt x="11208" y="11017"/>
                </a:cubicBezTo>
                <a:cubicBezTo>
                  <a:pt x="11232" y="11025"/>
                  <a:pt x="11277" y="11017"/>
                  <a:pt x="11303" y="11017"/>
                </a:cubicBezTo>
                <a:cubicBezTo>
                  <a:pt x="11303" y="10986"/>
                  <a:pt x="11303" y="10975"/>
                  <a:pt x="11303" y="10954"/>
                </a:cubicBezTo>
              </a:path>
              <a:path w="9717" h="1525">
                <a:moveTo>
                  <a:pt x="11303" y="10636"/>
                </a:moveTo>
                <a:cubicBezTo>
                  <a:pt x="11303" y="10706"/>
                  <a:pt x="11277" y="10756"/>
                  <a:pt x="11271" y="10827"/>
                </a:cubicBezTo>
                <a:cubicBezTo>
                  <a:pt x="11263" y="10925"/>
                  <a:pt x="11222" y="11016"/>
                  <a:pt x="11208" y="11112"/>
                </a:cubicBezTo>
                <a:cubicBezTo>
                  <a:pt x="11198" y="11183"/>
                  <a:pt x="11208" y="11263"/>
                  <a:pt x="11208" y="11335"/>
                </a:cubicBezTo>
              </a:path>
              <a:path w="9717" h="1525">
                <a:moveTo>
                  <a:pt x="11811" y="11271"/>
                </a:moveTo>
                <a:cubicBezTo>
                  <a:pt x="11927" y="11271"/>
                  <a:pt x="12044" y="11271"/>
                  <a:pt x="12160" y="11271"/>
                </a:cubicBezTo>
              </a:path>
              <a:path w="9717" h="1525">
                <a:moveTo>
                  <a:pt x="11748" y="11589"/>
                </a:moveTo>
                <a:cubicBezTo>
                  <a:pt x="11837" y="11622"/>
                  <a:pt x="11905" y="11620"/>
                  <a:pt x="12002" y="11620"/>
                </a:cubicBezTo>
                <a:cubicBezTo>
                  <a:pt x="12097" y="11620"/>
                  <a:pt x="12129" y="11620"/>
                  <a:pt x="12192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1"/>
          <p:cNvSpPr/>
          <p:nvPr/>
        </p:nvSpPr>
        <p:spPr>
          <a:xfrm>
            <a:off x="4765680" y="3908520"/>
            <a:ext cx="960480" cy="584280"/>
          </a:xfrm>
          <a:custGeom>
            <a:avLst/>
            <a:gdLst/>
            <a:ahLst/>
            <a:rect l="l" t="t" r="r" b="b"/>
            <a:pathLst>
              <a:path w="2668" h="1621">
                <a:moveTo>
                  <a:pt x="13398" y="10954"/>
                </a:moveTo>
                <a:cubicBezTo>
                  <a:pt x="13388" y="10943"/>
                  <a:pt x="13377" y="10933"/>
                  <a:pt x="13367" y="10922"/>
                </a:cubicBezTo>
                <a:cubicBezTo>
                  <a:pt x="13367" y="11024"/>
                  <a:pt x="13347" y="11113"/>
                  <a:pt x="13335" y="11208"/>
                </a:cubicBezTo>
                <a:cubicBezTo>
                  <a:pt x="13318" y="11347"/>
                  <a:pt x="13324" y="11487"/>
                  <a:pt x="13303" y="11620"/>
                </a:cubicBezTo>
                <a:cubicBezTo>
                  <a:pt x="13283" y="11746"/>
                  <a:pt x="13292" y="11880"/>
                  <a:pt x="13272" y="12002"/>
                </a:cubicBezTo>
                <a:cubicBezTo>
                  <a:pt x="13259" y="12082"/>
                  <a:pt x="13261" y="12150"/>
                  <a:pt x="13240" y="12192"/>
                </a:cubicBezTo>
                <a:cubicBezTo>
                  <a:pt x="13240" y="12228"/>
                  <a:pt x="13243" y="12236"/>
                  <a:pt x="13272" y="12192"/>
                </a:cubicBezTo>
              </a:path>
              <a:path w="2668" h="1621">
                <a:moveTo>
                  <a:pt x="13780" y="11906"/>
                </a:moveTo>
                <a:lnTo>
                  <a:pt x="13780" y="11906"/>
                </a:lnTo>
              </a:path>
              <a:path w="2668" h="1621">
                <a:moveTo>
                  <a:pt x="13780" y="11906"/>
                </a:moveTo>
                <a:lnTo>
                  <a:pt x="13780" y="11906"/>
                </a:lnTo>
                <a:lnTo>
                  <a:pt x="13780" y="11906"/>
                </a:lnTo>
              </a:path>
              <a:path w="2668" h="1621">
                <a:moveTo>
                  <a:pt x="13780" y="11906"/>
                </a:moveTo>
                <a:cubicBezTo>
                  <a:pt x="13780" y="11917"/>
                  <a:pt x="13780" y="11927"/>
                  <a:pt x="13780" y="11938"/>
                </a:cubicBezTo>
                <a:cubicBezTo>
                  <a:pt x="13780" y="11852"/>
                  <a:pt x="13780" y="11987"/>
                  <a:pt x="13780" y="12002"/>
                </a:cubicBezTo>
                <a:cubicBezTo>
                  <a:pt x="13780" y="12075"/>
                  <a:pt x="13759" y="12125"/>
                  <a:pt x="13748" y="12192"/>
                </a:cubicBezTo>
                <a:cubicBezTo>
                  <a:pt x="13738" y="12254"/>
                  <a:pt x="13750" y="12301"/>
                  <a:pt x="13716" y="12351"/>
                </a:cubicBezTo>
                <a:cubicBezTo>
                  <a:pt x="13683" y="12400"/>
                  <a:pt x="13680" y="12431"/>
                  <a:pt x="13621" y="12446"/>
                </a:cubicBezTo>
                <a:cubicBezTo>
                  <a:pt x="13621" y="12478"/>
                  <a:pt x="13621" y="12489"/>
                  <a:pt x="13589" y="12478"/>
                </a:cubicBezTo>
              </a:path>
              <a:path w="2668" h="1621">
                <a:moveTo>
                  <a:pt x="14605" y="10922"/>
                </a:moveTo>
                <a:cubicBezTo>
                  <a:pt x="14556" y="10873"/>
                  <a:pt x="14546" y="10858"/>
                  <a:pt x="14478" y="10858"/>
                </a:cubicBezTo>
                <a:cubicBezTo>
                  <a:pt x="14427" y="10858"/>
                  <a:pt x="14359" y="10866"/>
                  <a:pt x="14319" y="10890"/>
                </a:cubicBezTo>
                <a:cubicBezTo>
                  <a:pt x="14268" y="10921"/>
                  <a:pt x="14249" y="10979"/>
                  <a:pt x="14224" y="11017"/>
                </a:cubicBezTo>
                <a:cubicBezTo>
                  <a:pt x="14185" y="11075"/>
                  <a:pt x="14160" y="11070"/>
                  <a:pt x="14160" y="11144"/>
                </a:cubicBezTo>
                <a:cubicBezTo>
                  <a:pt x="14160" y="11203"/>
                  <a:pt x="14152" y="11226"/>
                  <a:pt x="14192" y="11271"/>
                </a:cubicBezTo>
                <a:cubicBezTo>
                  <a:pt x="14213" y="11295"/>
                  <a:pt x="14280" y="11354"/>
                  <a:pt x="14288" y="11366"/>
                </a:cubicBezTo>
                <a:cubicBezTo>
                  <a:pt x="14318" y="11411"/>
                  <a:pt x="14328" y="11479"/>
                  <a:pt x="14351" y="11525"/>
                </a:cubicBezTo>
                <a:cubicBezTo>
                  <a:pt x="14388" y="11598"/>
                  <a:pt x="14383" y="11659"/>
                  <a:pt x="14383" y="11748"/>
                </a:cubicBezTo>
                <a:cubicBezTo>
                  <a:pt x="14383" y="11822"/>
                  <a:pt x="14397" y="11881"/>
                  <a:pt x="14351" y="11938"/>
                </a:cubicBezTo>
                <a:cubicBezTo>
                  <a:pt x="14326" y="11969"/>
                  <a:pt x="14311" y="12033"/>
                  <a:pt x="14256" y="12002"/>
                </a:cubicBezTo>
                <a:cubicBezTo>
                  <a:pt x="14205" y="11974"/>
                  <a:pt x="14178" y="11917"/>
                  <a:pt x="14160" y="11874"/>
                </a:cubicBezTo>
                <a:cubicBezTo>
                  <a:pt x="14126" y="11793"/>
                  <a:pt x="14129" y="11742"/>
                  <a:pt x="14129" y="11652"/>
                </a:cubicBezTo>
                <a:cubicBezTo>
                  <a:pt x="14129" y="11567"/>
                  <a:pt x="14158" y="11475"/>
                  <a:pt x="14192" y="11398"/>
                </a:cubicBezTo>
                <a:cubicBezTo>
                  <a:pt x="14222" y="11332"/>
                  <a:pt x="14271" y="11262"/>
                  <a:pt x="14319" y="11208"/>
                </a:cubicBezTo>
                <a:cubicBezTo>
                  <a:pt x="14365" y="11156"/>
                  <a:pt x="14415" y="11096"/>
                  <a:pt x="14478" y="11081"/>
                </a:cubicBezTo>
              </a:path>
              <a:path w="2668" h="1621">
                <a:moveTo>
                  <a:pt x="14732" y="11049"/>
                </a:moveTo>
                <a:cubicBezTo>
                  <a:pt x="14822" y="11049"/>
                  <a:pt x="14879" y="11042"/>
                  <a:pt x="14954" y="11017"/>
                </a:cubicBezTo>
                <a:cubicBezTo>
                  <a:pt x="15039" y="10989"/>
                  <a:pt x="15170" y="11030"/>
                  <a:pt x="15208" y="11049"/>
                </a:cubicBezTo>
                <a:cubicBezTo>
                  <a:pt x="15277" y="11083"/>
                  <a:pt x="15221" y="11085"/>
                  <a:pt x="15208" y="11144"/>
                </a:cubicBezTo>
                <a:cubicBezTo>
                  <a:pt x="15193" y="11214"/>
                  <a:pt x="15191" y="11278"/>
                  <a:pt x="15145" y="11335"/>
                </a:cubicBezTo>
                <a:cubicBezTo>
                  <a:pt x="15110" y="11379"/>
                  <a:pt x="15085" y="11433"/>
                  <a:pt x="15081" y="11494"/>
                </a:cubicBezTo>
                <a:cubicBezTo>
                  <a:pt x="15075" y="11577"/>
                  <a:pt x="15037" y="11632"/>
                  <a:pt x="15018" y="11716"/>
                </a:cubicBezTo>
                <a:cubicBezTo>
                  <a:pt x="15003" y="11782"/>
                  <a:pt x="14991" y="11841"/>
                  <a:pt x="14986" y="11906"/>
                </a:cubicBezTo>
                <a:cubicBezTo>
                  <a:pt x="14980" y="11975"/>
                  <a:pt x="14986" y="11977"/>
                  <a:pt x="14986" y="11906"/>
                </a:cubicBezTo>
              </a:path>
              <a:path w="2668" h="1621">
                <a:moveTo>
                  <a:pt x="15430" y="11017"/>
                </a:moveTo>
                <a:cubicBezTo>
                  <a:pt x="15430" y="11132"/>
                  <a:pt x="15415" y="11224"/>
                  <a:pt x="15399" y="11335"/>
                </a:cubicBezTo>
                <a:cubicBezTo>
                  <a:pt x="15379" y="11476"/>
                  <a:pt x="15409" y="11616"/>
                  <a:pt x="15430" y="11748"/>
                </a:cubicBezTo>
                <a:cubicBezTo>
                  <a:pt x="15438" y="11800"/>
                  <a:pt x="15444" y="11907"/>
                  <a:pt x="15494" y="11938"/>
                </a:cubicBezTo>
                <a:cubicBezTo>
                  <a:pt x="15538" y="11965"/>
                  <a:pt x="15595" y="11944"/>
                  <a:pt x="15621" y="11938"/>
                </a:cubicBezTo>
                <a:cubicBezTo>
                  <a:pt x="15712" y="11918"/>
                  <a:pt x="15736" y="11893"/>
                  <a:pt x="15780" y="11811"/>
                </a:cubicBezTo>
                <a:cubicBezTo>
                  <a:pt x="15820" y="11736"/>
                  <a:pt x="15892" y="11609"/>
                  <a:pt x="15907" y="11525"/>
                </a:cubicBezTo>
                <a:cubicBezTo>
                  <a:pt x="15919" y="11459"/>
                  <a:pt x="15901" y="11327"/>
                  <a:pt x="15875" y="11271"/>
                </a:cubicBezTo>
                <a:cubicBezTo>
                  <a:pt x="15858" y="11234"/>
                  <a:pt x="15724" y="11153"/>
                  <a:pt x="15684" y="11144"/>
                </a:cubicBezTo>
                <a:cubicBezTo>
                  <a:pt x="15602" y="11124"/>
                  <a:pt x="15512" y="11131"/>
                  <a:pt x="15430" y="11112"/>
                </a:cubicBezTo>
                <a:cubicBezTo>
                  <a:pt x="15368" y="11098"/>
                  <a:pt x="15350" y="11129"/>
                  <a:pt x="15304" y="11144"/>
                </a:cubicBezTo>
                <a:cubicBezTo>
                  <a:pt x="15293" y="11144"/>
                  <a:pt x="15283" y="11144"/>
                  <a:pt x="15272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2"/>
          <p:cNvSpPr/>
          <p:nvPr/>
        </p:nvSpPr>
        <p:spPr>
          <a:xfrm>
            <a:off x="857160" y="4560840"/>
            <a:ext cx="2114640" cy="536760"/>
          </a:xfrm>
          <a:custGeom>
            <a:avLst/>
            <a:gdLst/>
            <a:ahLst/>
            <a:rect l="l" t="t" r="r" b="b"/>
            <a:pathLst>
              <a:path w="5875" h="1493">
                <a:moveTo>
                  <a:pt x="2381" y="13240"/>
                </a:moveTo>
                <a:cubicBezTo>
                  <a:pt x="2394" y="13202"/>
                  <a:pt x="2408" y="13186"/>
                  <a:pt x="2445" y="13144"/>
                </a:cubicBezTo>
                <a:cubicBezTo>
                  <a:pt x="2487" y="13097"/>
                  <a:pt x="2541" y="13033"/>
                  <a:pt x="2604" y="13018"/>
                </a:cubicBezTo>
                <a:cubicBezTo>
                  <a:pt x="2657" y="13006"/>
                  <a:pt x="2736" y="12967"/>
                  <a:pt x="2794" y="12986"/>
                </a:cubicBezTo>
                <a:cubicBezTo>
                  <a:pt x="2870" y="13012"/>
                  <a:pt x="2885" y="13070"/>
                  <a:pt x="2889" y="13144"/>
                </a:cubicBezTo>
                <a:cubicBezTo>
                  <a:pt x="2895" y="13242"/>
                  <a:pt x="2854" y="13367"/>
                  <a:pt x="2826" y="13462"/>
                </a:cubicBezTo>
                <a:cubicBezTo>
                  <a:pt x="2783" y="13604"/>
                  <a:pt x="2710" y="13724"/>
                  <a:pt x="2635" y="13843"/>
                </a:cubicBezTo>
                <a:cubicBezTo>
                  <a:pt x="2599" y="13900"/>
                  <a:pt x="2578" y="14003"/>
                  <a:pt x="2508" y="14034"/>
                </a:cubicBezTo>
                <a:cubicBezTo>
                  <a:pt x="2497" y="14034"/>
                  <a:pt x="2487" y="14034"/>
                  <a:pt x="2476" y="14034"/>
                </a:cubicBezTo>
                <a:cubicBezTo>
                  <a:pt x="2484" y="14001"/>
                  <a:pt x="2526" y="13945"/>
                  <a:pt x="2540" y="13938"/>
                </a:cubicBezTo>
                <a:cubicBezTo>
                  <a:pt x="2603" y="13907"/>
                  <a:pt x="2683" y="13954"/>
                  <a:pt x="2730" y="13970"/>
                </a:cubicBezTo>
                <a:cubicBezTo>
                  <a:pt x="2785" y="13988"/>
                  <a:pt x="2806" y="14042"/>
                  <a:pt x="2858" y="14065"/>
                </a:cubicBezTo>
                <a:cubicBezTo>
                  <a:pt x="2895" y="14081"/>
                  <a:pt x="2940" y="14122"/>
                  <a:pt x="2953" y="14129"/>
                </a:cubicBezTo>
                <a:cubicBezTo>
                  <a:pt x="3002" y="14154"/>
                  <a:pt x="2984" y="14086"/>
                  <a:pt x="2984" y="14065"/>
                </a:cubicBezTo>
              </a:path>
              <a:path w="5875" h="1493">
                <a:moveTo>
                  <a:pt x="3270" y="13113"/>
                </a:moveTo>
                <a:cubicBezTo>
                  <a:pt x="3243" y="13031"/>
                  <a:pt x="3200" y="13129"/>
                  <a:pt x="3175" y="13176"/>
                </a:cubicBezTo>
                <a:cubicBezTo>
                  <a:pt x="3105" y="13308"/>
                  <a:pt x="3038" y="13504"/>
                  <a:pt x="3016" y="13652"/>
                </a:cubicBezTo>
                <a:cubicBezTo>
                  <a:pt x="3004" y="13734"/>
                  <a:pt x="3006" y="13868"/>
                  <a:pt x="3048" y="13938"/>
                </a:cubicBezTo>
                <a:cubicBezTo>
                  <a:pt x="3086" y="14001"/>
                  <a:pt x="3191" y="13974"/>
                  <a:pt x="3238" y="13938"/>
                </a:cubicBezTo>
                <a:cubicBezTo>
                  <a:pt x="3342" y="13859"/>
                  <a:pt x="3383" y="13807"/>
                  <a:pt x="3429" y="13684"/>
                </a:cubicBezTo>
                <a:cubicBezTo>
                  <a:pt x="3485" y="13534"/>
                  <a:pt x="3482" y="13490"/>
                  <a:pt x="3461" y="13335"/>
                </a:cubicBezTo>
                <a:cubicBezTo>
                  <a:pt x="3450" y="13251"/>
                  <a:pt x="3426" y="13237"/>
                  <a:pt x="3366" y="13176"/>
                </a:cubicBezTo>
                <a:cubicBezTo>
                  <a:pt x="3337" y="13147"/>
                  <a:pt x="3331" y="13136"/>
                  <a:pt x="3302" y="13144"/>
                </a:cubicBezTo>
              </a:path>
              <a:path w="5875" h="1493">
                <a:moveTo>
                  <a:pt x="3683" y="13176"/>
                </a:moveTo>
                <a:cubicBezTo>
                  <a:pt x="3683" y="13382"/>
                  <a:pt x="3676" y="13584"/>
                  <a:pt x="3651" y="13780"/>
                </a:cubicBezTo>
                <a:cubicBezTo>
                  <a:pt x="3639" y="13879"/>
                  <a:pt x="3632" y="13969"/>
                  <a:pt x="3620" y="14065"/>
                </a:cubicBezTo>
              </a:path>
              <a:path w="5875" h="1493">
                <a:moveTo>
                  <a:pt x="3842" y="13303"/>
                </a:moveTo>
                <a:cubicBezTo>
                  <a:pt x="3875" y="13236"/>
                  <a:pt x="3903" y="13171"/>
                  <a:pt x="3937" y="13113"/>
                </a:cubicBezTo>
                <a:cubicBezTo>
                  <a:pt x="3966" y="13062"/>
                  <a:pt x="4033" y="13003"/>
                  <a:pt x="4096" y="12986"/>
                </a:cubicBezTo>
                <a:cubicBezTo>
                  <a:pt x="4163" y="12968"/>
                  <a:pt x="4240" y="13039"/>
                  <a:pt x="4286" y="13081"/>
                </a:cubicBezTo>
                <a:cubicBezTo>
                  <a:pt x="4340" y="13129"/>
                  <a:pt x="4313" y="13245"/>
                  <a:pt x="4286" y="13303"/>
                </a:cubicBezTo>
                <a:cubicBezTo>
                  <a:pt x="4259" y="13360"/>
                  <a:pt x="4159" y="13437"/>
                  <a:pt x="4128" y="13462"/>
                </a:cubicBezTo>
                <a:cubicBezTo>
                  <a:pt x="4099" y="13491"/>
                  <a:pt x="4093" y="13502"/>
                  <a:pt x="4064" y="13494"/>
                </a:cubicBezTo>
                <a:cubicBezTo>
                  <a:pt x="4139" y="13494"/>
                  <a:pt x="4195" y="13513"/>
                  <a:pt x="4254" y="13526"/>
                </a:cubicBezTo>
                <a:cubicBezTo>
                  <a:pt x="4352" y="13547"/>
                  <a:pt x="4353" y="13586"/>
                  <a:pt x="4382" y="13684"/>
                </a:cubicBezTo>
                <a:cubicBezTo>
                  <a:pt x="4412" y="13785"/>
                  <a:pt x="4439" y="13913"/>
                  <a:pt x="4350" y="14002"/>
                </a:cubicBezTo>
                <a:cubicBezTo>
                  <a:pt x="4291" y="14061"/>
                  <a:pt x="4202" y="14100"/>
                  <a:pt x="4128" y="14129"/>
                </a:cubicBezTo>
                <a:cubicBezTo>
                  <a:pt x="4053" y="14158"/>
                  <a:pt x="3977" y="14146"/>
                  <a:pt x="3905" y="14097"/>
                </a:cubicBezTo>
                <a:cubicBezTo>
                  <a:pt x="3862" y="14068"/>
                  <a:pt x="3815" y="14018"/>
                  <a:pt x="3810" y="13970"/>
                </a:cubicBezTo>
                <a:cubicBezTo>
                  <a:pt x="3810" y="13925"/>
                  <a:pt x="3816" y="13903"/>
                  <a:pt x="3842" y="13875"/>
                </a:cubicBezTo>
              </a:path>
              <a:path w="5875" h="1493">
                <a:moveTo>
                  <a:pt x="4762" y="13272"/>
                </a:moveTo>
                <a:cubicBezTo>
                  <a:pt x="4762" y="13232"/>
                  <a:pt x="4759" y="13272"/>
                  <a:pt x="4826" y="13272"/>
                </a:cubicBezTo>
                <a:cubicBezTo>
                  <a:pt x="5080" y="13272"/>
                  <a:pt x="5334" y="13272"/>
                  <a:pt x="5588" y="13272"/>
                </a:cubicBezTo>
              </a:path>
              <a:path w="5875" h="1493">
                <a:moveTo>
                  <a:pt x="4890" y="13684"/>
                </a:moveTo>
                <a:cubicBezTo>
                  <a:pt x="4804" y="13684"/>
                  <a:pt x="4939" y="13684"/>
                  <a:pt x="4953" y="13684"/>
                </a:cubicBezTo>
                <a:cubicBezTo>
                  <a:pt x="5128" y="13684"/>
                  <a:pt x="5291" y="13691"/>
                  <a:pt x="5461" y="13716"/>
                </a:cubicBezTo>
                <a:cubicBezTo>
                  <a:pt x="5535" y="13727"/>
                  <a:pt x="5612" y="13741"/>
                  <a:pt x="5683" y="13748"/>
                </a:cubicBezTo>
                <a:cubicBezTo>
                  <a:pt x="5715" y="13748"/>
                  <a:pt x="5726" y="13748"/>
                  <a:pt x="5747" y="13748"/>
                </a:cubicBezTo>
              </a:path>
              <a:path w="5875" h="1493">
                <a:moveTo>
                  <a:pt x="5398" y="13081"/>
                </a:moveTo>
                <a:cubicBezTo>
                  <a:pt x="5352" y="13104"/>
                  <a:pt x="5418" y="13133"/>
                  <a:pt x="5461" y="13176"/>
                </a:cubicBezTo>
                <a:cubicBezTo>
                  <a:pt x="5515" y="13230"/>
                  <a:pt x="5598" y="13292"/>
                  <a:pt x="5652" y="13335"/>
                </a:cubicBezTo>
                <a:cubicBezTo>
                  <a:pt x="5711" y="13382"/>
                  <a:pt x="5837" y="13427"/>
                  <a:pt x="5874" y="13494"/>
                </a:cubicBezTo>
                <a:cubicBezTo>
                  <a:pt x="5874" y="13530"/>
                  <a:pt x="5877" y="13544"/>
                  <a:pt x="5906" y="13557"/>
                </a:cubicBezTo>
                <a:cubicBezTo>
                  <a:pt x="5869" y="13569"/>
                  <a:pt x="5832" y="13610"/>
                  <a:pt x="5778" y="13621"/>
                </a:cubicBezTo>
                <a:cubicBezTo>
                  <a:pt x="5684" y="13640"/>
                  <a:pt x="5638" y="13667"/>
                  <a:pt x="5556" y="13716"/>
                </a:cubicBezTo>
                <a:cubicBezTo>
                  <a:pt x="5481" y="13761"/>
                  <a:pt x="5444" y="13799"/>
                  <a:pt x="5398" y="13875"/>
                </a:cubicBezTo>
                <a:cubicBezTo>
                  <a:pt x="5370" y="13930"/>
                  <a:pt x="5365" y="13945"/>
                  <a:pt x="5334" y="13970"/>
                </a:cubicBezTo>
              </a:path>
              <a:path w="5875" h="1493">
                <a:moveTo>
                  <a:pt x="6160" y="12890"/>
                </a:moveTo>
                <a:cubicBezTo>
                  <a:pt x="6160" y="12820"/>
                  <a:pt x="6176" y="12795"/>
                  <a:pt x="6191" y="12764"/>
                </a:cubicBezTo>
                <a:cubicBezTo>
                  <a:pt x="6204" y="12737"/>
                  <a:pt x="6243" y="12715"/>
                  <a:pt x="6286" y="12700"/>
                </a:cubicBezTo>
                <a:cubicBezTo>
                  <a:pt x="6334" y="12684"/>
                  <a:pt x="6381" y="12702"/>
                  <a:pt x="6414" y="12732"/>
                </a:cubicBezTo>
                <a:cubicBezTo>
                  <a:pt x="6464" y="12777"/>
                  <a:pt x="6504" y="12820"/>
                  <a:pt x="6509" y="12890"/>
                </a:cubicBezTo>
                <a:cubicBezTo>
                  <a:pt x="6517" y="13012"/>
                  <a:pt x="6487" y="13068"/>
                  <a:pt x="6445" y="13176"/>
                </a:cubicBezTo>
                <a:cubicBezTo>
                  <a:pt x="6403" y="13284"/>
                  <a:pt x="6328" y="13401"/>
                  <a:pt x="6255" y="13494"/>
                </a:cubicBezTo>
                <a:cubicBezTo>
                  <a:pt x="6195" y="13570"/>
                  <a:pt x="6101" y="13614"/>
                  <a:pt x="6032" y="13684"/>
                </a:cubicBezTo>
                <a:cubicBezTo>
                  <a:pt x="6004" y="13713"/>
                  <a:pt x="5994" y="13719"/>
                  <a:pt x="6001" y="13748"/>
                </a:cubicBezTo>
                <a:cubicBezTo>
                  <a:pt x="6049" y="13785"/>
                  <a:pt x="6066" y="13780"/>
                  <a:pt x="6128" y="13780"/>
                </a:cubicBezTo>
                <a:cubicBezTo>
                  <a:pt x="6225" y="13780"/>
                  <a:pt x="6291" y="13789"/>
                  <a:pt x="6382" y="13811"/>
                </a:cubicBezTo>
                <a:cubicBezTo>
                  <a:pt x="6415" y="13819"/>
                  <a:pt x="6496" y="13821"/>
                  <a:pt x="6509" y="13780"/>
                </a:cubicBezTo>
                <a:cubicBezTo>
                  <a:pt x="6509" y="13714"/>
                  <a:pt x="6510" y="13690"/>
                  <a:pt x="6540" y="13652"/>
                </a:cubicBezTo>
              </a:path>
              <a:path w="5875" h="1493">
                <a:moveTo>
                  <a:pt x="7048" y="12732"/>
                </a:moveTo>
                <a:cubicBezTo>
                  <a:pt x="7059" y="12721"/>
                  <a:pt x="7069" y="12711"/>
                  <a:pt x="7080" y="12700"/>
                </a:cubicBezTo>
                <a:cubicBezTo>
                  <a:pt x="6974" y="12700"/>
                  <a:pt x="6869" y="12700"/>
                  <a:pt x="6763" y="12700"/>
                </a:cubicBezTo>
                <a:cubicBezTo>
                  <a:pt x="6763" y="12765"/>
                  <a:pt x="6749" y="12775"/>
                  <a:pt x="6731" y="12827"/>
                </a:cubicBezTo>
                <a:cubicBezTo>
                  <a:pt x="6713" y="12879"/>
                  <a:pt x="6683" y="12934"/>
                  <a:pt x="6668" y="12986"/>
                </a:cubicBezTo>
                <a:cubicBezTo>
                  <a:pt x="6661" y="13011"/>
                  <a:pt x="6668" y="13054"/>
                  <a:pt x="6668" y="13081"/>
                </a:cubicBezTo>
                <a:cubicBezTo>
                  <a:pt x="6700" y="13070"/>
                  <a:pt x="6749" y="13040"/>
                  <a:pt x="6794" y="13018"/>
                </a:cubicBezTo>
                <a:cubicBezTo>
                  <a:pt x="6837" y="12997"/>
                  <a:pt x="6894" y="12956"/>
                  <a:pt x="6953" y="12986"/>
                </a:cubicBezTo>
                <a:cubicBezTo>
                  <a:pt x="7050" y="13035"/>
                  <a:pt x="7112" y="13159"/>
                  <a:pt x="7144" y="13240"/>
                </a:cubicBezTo>
                <a:cubicBezTo>
                  <a:pt x="7177" y="13324"/>
                  <a:pt x="7191" y="13407"/>
                  <a:pt x="7144" y="13494"/>
                </a:cubicBezTo>
                <a:cubicBezTo>
                  <a:pt x="7114" y="13549"/>
                  <a:pt x="7042" y="13585"/>
                  <a:pt x="6985" y="13589"/>
                </a:cubicBezTo>
                <a:cubicBezTo>
                  <a:pt x="6892" y="13595"/>
                  <a:pt x="6846" y="13578"/>
                  <a:pt x="6763" y="13557"/>
                </a:cubicBezTo>
                <a:cubicBezTo>
                  <a:pt x="6699" y="13541"/>
                  <a:pt x="6699" y="13527"/>
                  <a:pt x="6699" y="13462"/>
                </a:cubicBezTo>
                <a:cubicBezTo>
                  <a:pt x="6699" y="13407"/>
                  <a:pt x="6706" y="13375"/>
                  <a:pt x="6731" y="13335"/>
                </a:cubicBezTo>
              </a:path>
              <a:path w="5875" h="1493">
                <a:moveTo>
                  <a:pt x="7461" y="12827"/>
                </a:moveTo>
                <a:cubicBezTo>
                  <a:pt x="7477" y="12779"/>
                  <a:pt x="7490" y="12772"/>
                  <a:pt x="7430" y="12827"/>
                </a:cubicBezTo>
                <a:cubicBezTo>
                  <a:pt x="7361" y="12891"/>
                  <a:pt x="7259" y="13019"/>
                  <a:pt x="7239" y="13113"/>
                </a:cubicBezTo>
                <a:cubicBezTo>
                  <a:pt x="7218" y="13213"/>
                  <a:pt x="7216" y="13410"/>
                  <a:pt x="7271" y="13494"/>
                </a:cubicBezTo>
                <a:cubicBezTo>
                  <a:pt x="7319" y="13568"/>
                  <a:pt x="7427" y="13673"/>
                  <a:pt x="7525" y="13652"/>
                </a:cubicBezTo>
                <a:cubicBezTo>
                  <a:pt x="7651" y="13625"/>
                  <a:pt x="7702" y="13402"/>
                  <a:pt x="7715" y="13303"/>
                </a:cubicBezTo>
                <a:cubicBezTo>
                  <a:pt x="7729" y="13196"/>
                  <a:pt x="7741" y="12987"/>
                  <a:pt x="7684" y="12890"/>
                </a:cubicBezTo>
                <a:cubicBezTo>
                  <a:pt x="7650" y="12833"/>
                  <a:pt x="7554" y="12699"/>
                  <a:pt x="7493" y="12668"/>
                </a:cubicBezTo>
                <a:cubicBezTo>
                  <a:pt x="7461" y="12668"/>
                  <a:pt x="7451" y="12668"/>
                  <a:pt x="7430" y="12668"/>
                </a:cubicBezTo>
                <a:cubicBezTo>
                  <a:pt x="7382" y="12731"/>
                  <a:pt x="7395" y="12733"/>
                  <a:pt x="7430" y="12795"/>
                </a:cubicBezTo>
                <a:cubicBezTo>
                  <a:pt x="7440" y="12816"/>
                  <a:pt x="7451" y="12838"/>
                  <a:pt x="7461" y="12859"/>
                </a:cubicBezTo>
              </a:path>
              <a:path w="5875" h="1493">
                <a:moveTo>
                  <a:pt x="7969" y="12827"/>
                </a:moveTo>
                <a:cubicBezTo>
                  <a:pt x="7952" y="12774"/>
                  <a:pt x="7896" y="12786"/>
                  <a:pt x="7842" y="12827"/>
                </a:cubicBezTo>
                <a:cubicBezTo>
                  <a:pt x="7754" y="12894"/>
                  <a:pt x="7670" y="13002"/>
                  <a:pt x="7652" y="13113"/>
                </a:cubicBezTo>
                <a:cubicBezTo>
                  <a:pt x="7628" y="13259"/>
                  <a:pt x="7660" y="13408"/>
                  <a:pt x="7747" y="13526"/>
                </a:cubicBezTo>
                <a:cubicBezTo>
                  <a:pt x="7825" y="13633"/>
                  <a:pt x="7941" y="13705"/>
                  <a:pt x="8064" y="13652"/>
                </a:cubicBezTo>
                <a:cubicBezTo>
                  <a:pt x="8197" y="13595"/>
                  <a:pt x="8191" y="13354"/>
                  <a:pt x="8223" y="13240"/>
                </a:cubicBezTo>
                <a:cubicBezTo>
                  <a:pt x="8265" y="13090"/>
                  <a:pt x="8258" y="13000"/>
                  <a:pt x="8192" y="12859"/>
                </a:cubicBezTo>
                <a:cubicBezTo>
                  <a:pt x="8154" y="12778"/>
                  <a:pt x="8063" y="12729"/>
                  <a:pt x="7969" y="12764"/>
                </a:cubicBezTo>
                <a:cubicBezTo>
                  <a:pt x="7903" y="12789"/>
                  <a:pt x="7885" y="12846"/>
                  <a:pt x="7906" y="12922"/>
                </a:cubicBezTo>
                <a:cubicBezTo>
                  <a:pt x="7917" y="12943"/>
                  <a:pt x="7927" y="12965"/>
                  <a:pt x="7938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3"/>
          <p:cNvSpPr/>
          <p:nvPr/>
        </p:nvSpPr>
        <p:spPr>
          <a:xfrm>
            <a:off x="3176640" y="4514760"/>
            <a:ext cx="1098360" cy="446040"/>
          </a:xfrm>
          <a:custGeom>
            <a:avLst/>
            <a:gdLst/>
            <a:ahLst/>
            <a:rect l="l" t="t" r="r" b="b"/>
            <a:pathLst>
              <a:path w="3049" h="1240">
                <a:moveTo>
                  <a:pt x="8826" y="13018"/>
                </a:moveTo>
                <a:cubicBezTo>
                  <a:pt x="8826" y="13049"/>
                  <a:pt x="8826" y="13060"/>
                  <a:pt x="8826" y="13081"/>
                </a:cubicBezTo>
              </a:path>
              <a:path w="3049" h="1240">
                <a:moveTo>
                  <a:pt x="9144" y="13652"/>
                </a:moveTo>
                <a:cubicBezTo>
                  <a:pt x="9144" y="13602"/>
                  <a:pt x="9140" y="13650"/>
                  <a:pt x="9144" y="13652"/>
                </a:cubicBezTo>
                <a:cubicBezTo>
                  <a:pt x="9155" y="13652"/>
                  <a:pt x="9165" y="13652"/>
                  <a:pt x="9176" y="13652"/>
                </a:cubicBezTo>
              </a:path>
              <a:path w="3049" h="1240">
                <a:moveTo>
                  <a:pt x="9906" y="12795"/>
                </a:moveTo>
                <a:cubicBezTo>
                  <a:pt x="9896" y="12727"/>
                  <a:pt x="9877" y="12678"/>
                  <a:pt x="9811" y="12636"/>
                </a:cubicBezTo>
                <a:cubicBezTo>
                  <a:pt x="9738" y="12590"/>
                  <a:pt x="9632" y="12590"/>
                  <a:pt x="9557" y="12636"/>
                </a:cubicBezTo>
                <a:cubicBezTo>
                  <a:pt x="9483" y="12682"/>
                  <a:pt x="9435" y="12781"/>
                  <a:pt x="9430" y="12859"/>
                </a:cubicBezTo>
                <a:cubicBezTo>
                  <a:pt x="9425" y="12948"/>
                  <a:pt x="9502" y="12999"/>
                  <a:pt x="9588" y="13018"/>
                </a:cubicBezTo>
                <a:cubicBezTo>
                  <a:pt x="9663" y="13035"/>
                  <a:pt x="9764" y="13021"/>
                  <a:pt x="9811" y="12954"/>
                </a:cubicBezTo>
                <a:cubicBezTo>
                  <a:pt x="9840" y="12912"/>
                  <a:pt x="9901" y="12843"/>
                  <a:pt x="9906" y="12795"/>
                </a:cubicBezTo>
                <a:cubicBezTo>
                  <a:pt x="9906" y="12785"/>
                  <a:pt x="9906" y="12774"/>
                  <a:pt x="9906" y="12764"/>
                </a:cubicBezTo>
                <a:cubicBezTo>
                  <a:pt x="9849" y="12792"/>
                  <a:pt x="9820" y="12881"/>
                  <a:pt x="9811" y="12954"/>
                </a:cubicBezTo>
                <a:cubicBezTo>
                  <a:pt x="9796" y="13074"/>
                  <a:pt x="9779" y="13178"/>
                  <a:pt x="9779" y="13303"/>
                </a:cubicBezTo>
                <a:cubicBezTo>
                  <a:pt x="9779" y="13385"/>
                  <a:pt x="9770" y="13674"/>
                  <a:pt x="9779" y="13652"/>
                </a:cubicBezTo>
                <a:cubicBezTo>
                  <a:pt x="9790" y="13631"/>
                  <a:pt x="9800" y="13610"/>
                  <a:pt x="9811" y="13589"/>
                </a:cubicBezTo>
              </a:path>
              <a:path w="3049" h="1240">
                <a:moveTo>
                  <a:pt x="10096" y="12764"/>
                </a:moveTo>
                <a:cubicBezTo>
                  <a:pt x="10128" y="12764"/>
                  <a:pt x="10109" y="12741"/>
                  <a:pt x="10128" y="12795"/>
                </a:cubicBezTo>
                <a:cubicBezTo>
                  <a:pt x="10104" y="12819"/>
                  <a:pt x="10045" y="12914"/>
                  <a:pt x="10033" y="12922"/>
                </a:cubicBezTo>
                <a:cubicBezTo>
                  <a:pt x="10022" y="12922"/>
                  <a:pt x="10012" y="12922"/>
                  <a:pt x="10001" y="12922"/>
                </a:cubicBezTo>
                <a:cubicBezTo>
                  <a:pt x="10041" y="12909"/>
                  <a:pt x="10045" y="12881"/>
                  <a:pt x="10096" y="12859"/>
                </a:cubicBezTo>
                <a:cubicBezTo>
                  <a:pt x="10167" y="12829"/>
                  <a:pt x="10220" y="12783"/>
                  <a:pt x="10287" y="12764"/>
                </a:cubicBezTo>
                <a:cubicBezTo>
                  <a:pt x="10338" y="12749"/>
                  <a:pt x="10367" y="12783"/>
                  <a:pt x="10382" y="12827"/>
                </a:cubicBezTo>
                <a:cubicBezTo>
                  <a:pt x="10402" y="12886"/>
                  <a:pt x="10359" y="12912"/>
                  <a:pt x="10350" y="12954"/>
                </a:cubicBezTo>
                <a:cubicBezTo>
                  <a:pt x="10333" y="13035"/>
                  <a:pt x="10286" y="13068"/>
                  <a:pt x="10255" y="13144"/>
                </a:cubicBezTo>
                <a:cubicBezTo>
                  <a:pt x="10246" y="13166"/>
                  <a:pt x="10180" y="13208"/>
                  <a:pt x="10224" y="13176"/>
                </a:cubicBezTo>
                <a:cubicBezTo>
                  <a:pt x="10281" y="13134"/>
                  <a:pt x="10313" y="13130"/>
                  <a:pt x="10382" y="13176"/>
                </a:cubicBezTo>
                <a:cubicBezTo>
                  <a:pt x="10467" y="13233"/>
                  <a:pt x="10549" y="13331"/>
                  <a:pt x="10573" y="13430"/>
                </a:cubicBezTo>
                <a:cubicBezTo>
                  <a:pt x="10591" y="13504"/>
                  <a:pt x="10607" y="13585"/>
                  <a:pt x="10573" y="13652"/>
                </a:cubicBezTo>
                <a:cubicBezTo>
                  <a:pt x="10557" y="13684"/>
                  <a:pt x="10476" y="13741"/>
                  <a:pt x="10446" y="13748"/>
                </a:cubicBezTo>
                <a:cubicBezTo>
                  <a:pt x="10376" y="13763"/>
                  <a:pt x="10317" y="13761"/>
                  <a:pt x="10255" y="13780"/>
                </a:cubicBezTo>
                <a:cubicBezTo>
                  <a:pt x="10193" y="13799"/>
                  <a:pt x="10172" y="13765"/>
                  <a:pt x="10160" y="13716"/>
                </a:cubicBezTo>
              </a:path>
              <a:path w="3049" h="1240">
                <a:moveTo>
                  <a:pt x="10858" y="12573"/>
                </a:moveTo>
                <a:cubicBezTo>
                  <a:pt x="10858" y="12541"/>
                  <a:pt x="10858" y="12530"/>
                  <a:pt x="10890" y="12541"/>
                </a:cubicBezTo>
                <a:cubicBezTo>
                  <a:pt x="10877" y="12580"/>
                  <a:pt x="10837" y="12595"/>
                  <a:pt x="10795" y="12636"/>
                </a:cubicBezTo>
                <a:cubicBezTo>
                  <a:pt x="10743" y="12688"/>
                  <a:pt x="10685" y="12753"/>
                  <a:pt x="10668" y="12827"/>
                </a:cubicBezTo>
                <a:cubicBezTo>
                  <a:pt x="10651" y="12902"/>
                  <a:pt x="10674" y="13027"/>
                  <a:pt x="10732" y="13081"/>
                </a:cubicBezTo>
                <a:cubicBezTo>
                  <a:pt x="10760" y="13107"/>
                  <a:pt x="10882" y="13192"/>
                  <a:pt x="10922" y="13176"/>
                </a:cubicBezTo>
                <a:cubicBezTo>
                  <a:pt x="10985" y="13151"/>
                  <a:pt x="11002" y="13100"/>
                  <a:pt x="11049" y="13049"/>
                </a:cubicBezTo>
                <a:cubicBezTo>
                  <a:pt x="11096" y="12997"/>
                  <a:pt x="11083" y="12941"/>
                  <a:pt x="11049" y="12890"/>
                </a:cubicBezTo>
                <a:cubicBezTo>
                  <a:pt x="11013" y="12836"/>
                  <a:pt x="10981" y="12827"/>
                  <a:pt x="10922" y="12827"/>
                </a:cubicBezTo>
                <a:cubicBezTo>
                  <a:pt x="10883" y="12827"/>
                  <a:pt x="10863" y="12879"/>
                  <a:pt x="10858" y="12922"/>
                </a:cubicBezTo>
                <a:cubicBezTo>
                  <a:pt x="10850" y="12998"/>
                  <a:pt x="10871" y="13052"/>
                  <a:pt x="10890" y="13113"/>
                </a:cubicBezTo>
                <a:cubicBezTo>
                  <a:pt x="10890" y="13144"/>
                  <a:pt x="10890" y="13155"/>
                  <a:pt x="10922" y="13144"/>
                </a:cubicBezTo>
              </a:path>
              <a:path w="3049" h="1240">
                <a:moveTo>
                  <a:pt x="11525" y="13049"/>
                </a:moveTo>
                <a:cubicBezTo>
                  <a:pt x="11525" y="13039"/>
                  <a:pt x="11525" y="13028"/>
                  <a:pt x="11525" y="13018"/>
                </a:cubicBezTo>
                <a:cubicBezTo>
                  <a:pt x="11640" y="13018"/>
                  <a:pt x="11735" y="13024"/>
                  <a:pt x="11843" y="13049"/>
                </a:cubicBezTo>
                <a:cubicBezTo>
                  <a:pt x="11853" y="13049"/>
                  <a:pt x="11864" y="13049"/>
                  <a:pt x="11874" y="13049"/>
                </a:cubicBezTo>
              </a:path>
              <a:path w="3049" h="1240">
                <a:moveTo>
                  <a:pt x="11494" y="13335"/>
                </a:moveTo>
                <a:cubicBezTo>
                  <a:pt x="11559" y="13375"/>
                  <a:pt x="11665" y="13383"/>
                  <a:pt x="11748" y="13367"/>
                </a:cubicBezTo>
                <a:cubicBezTo>
                  <a:pt x="11780" y="13356"/>
                  <a:pt x="11811" y="13346"/>
                  <a:pt x="11843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4"/>
          <p:cNvSpPr/>
          <p:nvPr/>
        </p:nvSpPr>
        <p:spPr>
          <a:xfrm>
            <a:off x="4595760" y="4560840"/>
            <a:ext cx="914400" cy="492120"/>
          </a:xfrm>
          <a:custGeom>
            <a:avLst/>
            <a:gdLst/>
            <a:ahLst/>
            <a:rect l="l" t="t" r="r" b="b"/>
            <a:pathLst>
              <a:path w="2541" h="1367">
                <a:moveTo>
                  <a:pt x="12890" y="12668"/>
                </a:moveTo>
                <a:cubicBezTo>
                  <a:pt x="12890" y="12801"/>
                  <a:pt x="12873" y="12921"/>
                  <a:pt x="12859" y="13049"/>
                </a:cubicBezTo>
                <a:cubicBezTo>
                  <a:pt x="12845" y="13175"/>
                  <a:pt x="12841" y="13306"/>
                  <a:pt x="12827" y="13430"/>
                </a:cubicBezTo>
                <a:cubicBezTo>
                  <a:pt x="12816" y="13529"/>
                  <a:pt x="12802" y="13621"/>
                  <a:pt x="12795" y="13716"/>
                </a:cubicBezTo>
                <a:cubicBezTo>
                  <a:pt x="12791" y="13774"/>
                  <a:pt x="12764" y="13815"/>
                  <a:pt x="12764" y="13875"/>
                </a:cubicBezTo>
              </a:path>
              <a:path w="2541" h="1367">
                <a:moveTo>
                  <a:pt x="13208" y="13335"/>
                </a:moveTo>
                <a:cubicBezTo>
                  <a:pt x="13208" y="13568"/>
                  <a:pt x="13208" y="13801"/>
                  <a:pt x="13208" y="14034"/>
                </a:cubicBezTo>
              </a:path>
              <a:path w="2541" h="1367">
                <a:moveTo>
                  <a:pt x="13652" y="12732"/>
                </a:moveTo>
                <a:cubicBezTo>
                  <a:pt x="13652" y="12831"/>
                  <a:pt x="13639" y="12923"/>
                  <a:pt x="13621" y="13018"/>
                </a:cubicBezTo>
                <a:cubicBezTo>
                  <a:pt x="13588" y="13188"/>
                  <a:pt x="13557" y="13320"/>
                  <a:pt x="13557" y="13494"/>
                </a:cubicBezTo>
                <a:cubicBezTo>
                  <a:pt x="13557" y="13572"/>
                  <a:pt x="13549" y="13656"/>
                  <a:pt x="13589" y="13716"/>
                </a:cubicBezTo>
                <a:cubicBezTo>
                  <a:pt x="13616" y="13756"/>
                  <a:pt x="13703" y="13764"/>
                  <a:pt x="13748" y="13748"/>
                </a:cubicBezTo>
                <a:cubicBezTo>
                  <a:pt x="13841" y="13714"/>
                  <a:pt x="13865" y="13609"/>
                  <a:pt x="13906" y="13526"/>
                </a:cubicBezTo>
                <a:cubicBezTo>
                  <a:pt x="13956" y="13425"/>
                  <a:pt x="13996" y="13320"/>
                  <a:pt x="14002" y="13208"/>
                </a:cubicBezTo>
                <a:cubicBezTo>
                  <a:pt x="14006" y="13130"/>
                  <a:pt x="13986" y="13113"/>
                  <a:pt x="13970" y="13049"/>
                </a:cubicBezTo>
                <a:cubicBezTo>
                  <a:pt x="13901" y="13066"/>
                  <a:pt x="13880" y="13079"/>
                  <a:pt x="13843" y="13144"/>
                </a:cubicBezTo>
                <a:cubicBezTo>
                  <a:pt x="13782" y="13253"/>
                  <a:pt x="13763" y="13370"/>
                  <a:pt x="13748" y="13494"/>
                </a:cubicBezTo>
                <a:cubicBezTo>
                  <a:pt x="13735" y="13601"/>
                  <a:pt x="13721" y="13657"/>
                  <a:pt x="13748" y="13748"/>
                </a:cubicBezTo>
                <a:cubicBezTo>
                  <a:pt x="13769" y="13819"/>
                  <a:pt x="13744" y="13816"/>
                  <a:pt x="13811" y="13748"/>
                </a:cubicBezTo>
              </a:path>
              <a:path w="2541" h="1367">
                <a:moveTo>
                  <a:pt x="14446" y="12668"/>
                </a:moveTo>
                <a:cubicBezTo>
                  <a:pt x="14446" y="12758"/>
                  <a:pt x="14490" y="12829"/>
                  <a:pt x="14478" y="12922"/>
                </a:cubicBezTo>
                <a:cubicBezTo>
                  <a:pt x="14455" y="13101"/>
                  <a:pt x="14432" y="13283"/>
                  <a:pt x="14414" y="13462"/>
                </a:cubicBezTo>
                <a:cubicBezTo>
                  <a:pt x="14404" y="13569"/>
                  <a:pt x="14420" y="13660"/>
                  <a:pt x="14446" y="13748"/>
                </a:cubicBezTo>
                <a:cubicBezTo>
                  <a:pt x="14446" y="13759"/>
                  <a:pt x="14446" y="13769"/>
                  <a:pt x="14446" y="13780"/>
                </a:cubicBezTo>
              </a:path>
              <a:path w="2541" h="1367">
                <a:moveTo>
                  <a:pt x="14796" y="12732"/>
                </a:moveTo>
                <a:cubicBezTo>
                  <a:pt x="14875" y="12732"/>
                  <a:pt x="14911" y="12745"/>
                  <a:pt x="14986" y="12764"/>
                </a:cubicBezTo>
                <a:cubicBezTo>
                  <a:pt x="15024" y="12774"/>
                  <a:pt x="15091" y="12732"/>
                  <a:pt x="15145" y="12732"/>
                </a:cubicBezTo>
                <a:cubicBezTo>
                  <a:pt x="15198" y="12732"/>
                  <a:pt x="15251" y="12732"/>
                  <a:pt x="15304" y="12732"/>
                </a:cubicBezTo>
                <a:cubicBezTo>
                  <a:pt x="15304" y="12798"/>
                  <a:pt x="15286" y="12859"/>
                  <a:pt x="15272" y="12922"/>
                </a:cubicBezTo>
                <a:cubicBezTo>
                  <a:pt x="15234" y="13097"/>
                  <a:pt x="15203" y="13255"/>
                  <a:pt x="15176" y="13430"/>
                </a:cubicBezTo>
                <a:cubicBezTo>
                  <a:pt x="15145" y="13633"/>
                  <a:pt x="15112" y="13832"/>
                  <a:pt x="15081" y="14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15"/>
          <p:cNvSpPr/>
          <p:nvPr/>
        </p:nvSpPr>
        <p:spPr>
          <a:xfrm>
            <a:off x="4640400" y="5108400"/>
            <a:ext cx="1166760" cy="687600"/>
          </a:xfrm>
          <a:custGeom>
            <a:avLst/>
            <a:gdLst/>
            <a:ahLst/>
            <a:rect l="l" t="t" r="r" b="b"/>
            <a:pathLst>
              <a:path w="3240" h="1906">
                <a:moveTo>
                  <a:pt x="13906" y="14859"/>
                </a:moveTo>
                <a:cubicBezTo>
                  <a:pt x="13937" y="14828"/>
                  <a:pt x="13968" y="14796"/>
                  <a:pt x="14002" y="14732"/>
                </a:cubicBezTo>
                <a:cubicBezTo>
                  <a:pt x="14056" y="14631"/>
                  <a:pt x="14073" y="14607"/>
                  <a:pt x="14160" y="14542"/>
                </a:cubicBezTo>
                <a:cubicBezTo>
                  <a:pt x="14208" y="14506"/>
                  <a:pt x="14263" y="14486"/>
                  <a:pt x="14319" y="14542"/>
                </a:cubicBezTo>
                <a:cubicBezTo>
                  <a:pt x="14364" y="14587"/>
                  <a:pt x="14351" y="14702"/>
                  <a:pt x="14351" y="14764"/>
                </a:cubicBezTo>
                <a:cubicBezTo>
                  <a:pt x="14351" y="14918"/>
                  <a:pt x="14320" y="15089"/>
                  <a:pt x="14288" y="15240"/>
                </a:cubicBezTo>
                <a:cubicBezTo>
                  <a:pt x="14254" y="15400"/>
                  <a:pt x="14209" y="15560"/>
                  <a:pt x="14160" y="15716"/>
                </a:cubicBezTo>
                <a:cubicBezTo>
                  <a:pt x="14130" y="15812"/>
                  <a:pt x="14109" y="15905"/>
                  <a:pt x="14097" y="16002"/>
                </a:cubicBezTo>
                <a:cubicBezTo>
                  <a:pt x="14120" y="15956"/>
                  <a:pt x="14116" y="15964"/>
                  <a:pt x="14160" y="15938"/>
                </a:cubicBezTo>
                <a:cubicBezTo>
                  <a:pt x="14197" y="15916"/>
                  <a:pt x="14268" y="15892"/>
                  <a:pt x="14319" y="15907"/>
                </a:cubicBezTo>
                <a:cubicBezTo>
                  <a:pt x="14371" y="15923"/>
                  <a:pt x="14429" y="15972"/>
                  <a:pt x="14478" y="16002"/>
                </a:cubicBezTo>
                <a:cubicBezTo>
                  <a:pt x="14508" y="16020"/>
                  <a:pt x="14562" y="16044"/>
                  <a:pt x="14605" y="16034"/>
                </a:cubicBezTo>
                <a:cubicBezTo>
                  <a:pt x="14641" y="16034"/>
                  <a:pt x="14655" y="16031"/>
                  <a:pt x="14668" y="16002"/>
                </a:cubicBezTo>
              </a:path>
              <a:path w="3240" h="1906">
                <a:moveTo>
                  <a:pt x="15240" y="14446"/>
                </a:moveTo>
                <a:cubicBezTo>
                  <a:pt x="15272" y="14414"/>
                  <a:pt x="15282" y="14404"/>
                  <a:pt x="15304" y="14383"/>
                </a:cubicBezTo>
                <a:cubicBezTo>
                  <a:pt x="15242" y="14392"/>
                  <a:pt x="15251" y="14391"/>
                  <a:pt x="15208" y="14414"/>
                </a:cubicBezTo>
                <a:cubicBezTo>
                  <a:pt x="15162" y="14438"/>
                  <a:pt x="15061" y="14498"/>
                  <a:pt x="15018" y="14510"/>
                </a:cubicBezTo>
                <a:cubicBezTo>
                  <a:pt x="14949" y="14529"/>
                  <a:pt x="14867" y="14558"/>
                  <a:pt x="14796" y="14573"/>
                </a:cubicBezTo>
                <a:cubicBezTo>
                  <a:pt x="14745" y="14584"/>
                  <a:pt x="14714" y="14588"/>
                  <a:pt x="14668" y="14605"/>
                </a:cubicBezTo>
                <a:cubicBezTo>
                  <a:pt x="14709" y="14674"/>
                  <a:pt x="14678" y="14685"/>
                  <a:pt x="14700" y="14764"/>
                </a:cubicBezTo>
                <a:cubicBezTo>
                  <a:pt x="14718" y="14828"/>
                  <a:pt x="14715" y="14892"/>
                  <a:pt x="14732" y="14954"/>
                </a:cubicBezTo>
                <a:cubicBezTo>
                  <a:pt x="14747" y="15007"/>
                  <a:pt x="14712" y="15067"/>
                  <a:pt x="14764" y="15050"/>
                </a:cubicBezTo>
                <a:cubicBezTo>
                  <a:pt x="14815" y="15033"/>
                  <a:pt x="14817" y="14978"/>
                  <a:pt x="14859" y="14922"/>
                </a:cubicBezTo>
                <a:cubicBezTo>
                  <a:pt x="14906" y="14860"/>
                  <a:pt x="14943" y="14830"/>
                  <a:pt x="15018" y="14827"/>
                </a:cubicBezTo>
                <a:cubicBezTo>
                  <a:pt x="15081" y="14824"/>
                  <a:pt x="15190" y="14809"/>
                  <a:pt x="15240" y="14859"/>
                </a:cubicBezTo>
                <a:cubicBezTo>
                  <a:pt x="15330" y="14948"/>
                  <a:pt x="15363" y="15127"/>
                  <a:pt x="15367" y="15240"/>
                </a:cubicBezTo>
                <a:cubicBezTo>
                  <a:pt x="15371" y="15346"/>
                  <a:pt x="15346" y="15463"/>
                  <a:pt x="15304" y="15558"/>
                </a:cubicBezTo>
                <a:cubicBezTo>
                  <a:pt x="15275" y="15624"/>
                  <a:pt x="15240" y="15707"/>
                  <a:pt x="15176" y="15748"/>
                </a:cubicBezTo>
                <a:cubicBezTo>
                  <a:pt x="15112" y="15790"/>
                  <a:pt x="15054" y="15816"/>
                  <a:pt x="14986" y="15843"/>
                </a:cubicBezTo>
                <a:cubicBezTo>
                  <a:pt x="14944" y="15791"/>
                  <a:pt x="14925" y="15754"/>
                  <a:pt x="14922" y="15684"/>
                </a:cubicBezTo>
                <a:cubicBezTo>
                  <a:pt x="14922" y="15652"/>
                  <a:pt x="14922" y="15621"/>
                  <a:pt x="14922" y="15589"/>
                </a:cubicBezTo>
              </a:path>
              <a:path w="3240" h="1906">
                <a:moveTo>
                  <a:pt x="15462" y="14605"/>
                </a:moveTo>
                <a:cubicBezTo>
                  <a:pt x="15516" y="14578"/>
                  <a:pt x="15499" y="14578"/>
                  <a:pt x="15589" y="14573"/>
                </a:cubicBezTo>
                <a:cubicBezTo>
                  <a:pt x="15657" y="14569"/>
                  <a:pt x="15665" y="14561"/>
                  <a:pt x="15716" y="14510"/>
                </a:cubicBezTo>
                <a:cubicBezTo>
                  <a:pt x="15750" y="14476"/>
                  <a:pt x="15800" y="14426"/>
                  <a:pt x="15843" y="14414"/>
                </a:cubicBezTo>
                <a:cubicBezTo>
                  <a:pt x="15875" y="14414"/>
                  <a:pt x="15886" y="14414"/>
                  <a:pt x="15907" y="14414"/>
                </a:cubicBezTo>
                <a:cubicBezTo>
                  <a:pt x="15907" y="14508"/>
                  <a:pt x="15889" y="14582"/>
                  <a:pt x="15875" y="14668"/>
                </a:cubicBezTo>
                <a:cubicBezTo>
                  <a:pt x="15860" y="14758"/>
                  <a:pt x="15850" y="14838"/>
                  <a:pt x="15812" y="14922"/>
                </a:cubicBezTo>
                <a:cubicBezTo>
                  <a:pt x="15789" y="14974"/>
                  <a:pt x="15775" y="14991"/>
                  <a:pt x="15748" y="15018"/>
                </a:cubicBezTo>
                <a:cubicBezTo>
                  <a:pt x="15755" y="14970"/>
                  <a:pt x="15756" y="14930"/>
                  <a:pt x="15780" y="14891"/>
                </a:cubicBezTo>
                <a:cubicBezTo>
                  <a:pt x="15803" y="14854"/>
                  <a:pt x="15870" y="14835"/>
                  <a:pt x="15907" y="14827"/>
                </a:cubicBezTo>
                <a:cubicBezTo>
                  <a:pt x="15970" y="14813"/>
                  <a:pt x="15993" y="14851"/>
                  <a:pt x="16034" y="14891"/>
                </a:cubicBezTo>
                <a:cubicBezTo>
                  <a:pt x="16086" y="14942"/>
                  <a:pt x="16121" y="15043"/>
                  <a:pt x="16129" y="15113"/>
                </a:cubicBezTo>
                <a:cubicBezTo>
                  <a:pt x="16145" y="15262"/>
                  <a:pt x="16113" y="15358"/>
                  <a:pt x="16066" y="15494"/>
                </a:cubicBezTo>
                <a:cubicBezTo>
                  <a:pt x="16024" y="15614"/>
                  <a:pt x="15987" y="15741"/>
                  <a:pt x="15907" y="15843"/>
                </a:cubicBezTo>
                <a:cubicBezTo>
                  <a:pt x="15848" y="15918"/>
                  <a:pt x="15750" y="16012"/>
                  <a:pt x="15653" y="16034"/>
                </a:cubicBezTo>
                <a:cubicBezTo>
                  <a:pt x="15586" y="16049"/>
                  <a:pt x="15544" y="16032"/>
                  <a:pt x="15494" y="16002"/>
                </a:cubicBezTo>
              </a:path>
              <a:path w="3240" h="1906">
                <a:moveTo>
                  <a:pt x="13589" y="14383"/>
                </a:moveTo>
                <a:cubicBezTo>
                  <a:pt x="13555" y="14375"/>
                  <a:pt x="13503" y="14328"/>
                  <a:pt x="13462" y="14351"/>
                </a:cubicBezTo>
                <a:cubicBezTo>
                  <a:pt x="13409" y="14380"/>
                  <a:pt x="13367" y="14425"/>
                  <a:pt x="13303" y="14446"/>
                </a:cubicBezTo>
                <a:cubicBezTo>
                  <a:pt x="13263" y="14460"/>
                  <a:pt x="13198" y="14494"/>
                  <a:pt x="13176" y="14542"/>
                </a:cubicBezTo>
                <a:cubicBezTo>
                  <a:pt x="13158" y="14582"/>
                  <a:pt x="13149" y="14600"/>
                  <a:pt x="13113" y="14637"/>
                </a:cubicBezTo>
                <a:cubicBezTo>
                  <a:pt x="13159" y="14648"/>
                  <a:pt x="13228" y="14670"/>
                  <a:pt x="13272" y="14700"/>
                </a:cubicBezTo>
                <a:cubicBezTo>
                  <a:pt x="13322" y="14734"/>
                  <a:pt x="13341" y="14788"/>
                  <a:pt x="13367" y="14827"/>
                </a:cubicBezTo>
                <a:cubicBezTo>
                  <a:pt x="13408" y="14889"/>
                  <a:pt x="13398" y="14941"/>
                  <a:pt x="13398" y="15018"/>
                </a:cubicBezTo>
                <a:cubicBezTo>
                  <a:pt x="13398" y="15137"/>
                  <a:pt x="13359" y="15209"/>
                  <a:pt x="13303" y="15304"/>
                </a:cubicBezTo>
                <a:cubicBezTo>
                  <a:pt x="13280" y="15343"/>
                  <a:pt x="13229" y="15447"/>
                  <a:pt x="13176" y="15462"/>
                </a:cubicBezTo>
                <a:cubicBezTo>
                  <a:pt x="13119" y="15478"/>
                  <a:pt x="13057" y="15465"/>
                  <a:pt x="13018" y="15430"/>
                </a:cubicBezTo>
                <a:cubicBezTo>
                  <a:pt x="12929" y="15352"/>
                  <a:pt x="12902" y="15325"/>
                  <a:pt x="12890" y="15208"/>
                </a:cubicBezTo>
              </a:path>
              <a:path w="3240" h="1906">
                <a:moveTo>
                  <a:pt x="13018" y="14351"/>
                </a:moveTo>
                <a:cubicBezTo>
                  <a:pt x="13036" y="14425"/>
                  <a:pt x="13100" y="14486"/>
                  <a:pt x="13113" y="14573"/>
                </a:cubicBezTo>
                <a:cubicBezTo>
                  <a:pt x="13135" y="14713"/>
                  <a:pt x="13140" y="14876"/>
                  <a:pt x="13144" y="15018"/>
                </a:cubicBezTo>
                <a:cubicBezTo>
                  <a:pt x="13149" y="15180"/>
                  <a:pt x="13176" y="15330"/>
                  <a:pt x="13176" y="15494"/>
                </a:cubicBezTo>
                <a:cubicBezTo>
                  <a:pt x="13176" y="15571"/>
                  <a:pt x="13199" y="15640"/>
                  <a:pt x="13208" y="15716"/>
                </a:cubicBezTo>
              </a:path>
              <a:path w="3240" h="1906">
                <a:moveTo>
                  <a:pt x="13303" y="14192"/>
                </a:moveTo>
                <a:cubicBezTo>
                  <a:pt x="13303" y="14552"/>
                  <a:pt x="13282" y="14916"/>
                  <a:pt x="13335" y="15272"/>
                </a:cubicBezTo>
                <a:cubicBezTo>
                  <a:pt x="13377" y="15551"/>
                  <a:pt x="13425" y="15824"/>
                  <a:pt x="13494" y="16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16"/>
          <p:cNvSpPr/>
          <p:nvPr/>
        </p:nvSpPr>
        <p:spPr>
          <a:xfrm>
            <a:off x="4114800" y="5040360"/>
            <a:ext cx="1863720" cy="103320"/>
          </a:xfrm>
          <a:custGeom>
            <a:avLst/>
            <a:gdLst/>
            <a:ahLst/>
            <a:rect l="l" t="t" r="r" b="b"/>
            <a:pathLst>
              <a:path w="5176" h="287">
                <a:moveTo>
                  <a:pt x="11462" y="14256"/>
                </a:moveTo>
                <a:cubicBezTo>
                  <a:pt x="11504" y="14277"/>
                  <a:pt x="11479" y="14283"/>
                  <a:pt x="11525" y="14288"/>
                </a:cubicBezTo>
                <a:cubicBezTo>
                  <a:pt x="11636" y="14300"/>
                  <a:pt x="11733" y="14260"/>
                  <a:pt x="11843" y="14256"/>
                </a:cubicBezTo>
                <a:cubicBezTo>
                  <a:pt x="12028" y="14249"/>
                  <a:pt x="12202" y="14272"/>
                  <a:pt x="12382" y="14288"/>
                </a:cubicBezTo>
                <a:cubicBezTo>
                  <a:pt x="12729" y="14318"/>
                  <a:pt x="13086" y="14278"/>
                  <a:pt x="13430" y="14256"/>
                </a:cubicBezTo>
                <a:cubicBezTo>
                  <a:pt x="13677" y="14240"/>
                  <a:pt x="13914" y="14197"/>
                  <a:pt x="14160" y="14160"/>
                </a:cubicBezTo>
                <a:cubicBezTo>
                  <a:pt x="14446" y="14117"/>
                  <a:pt x="14732" y="14079"/>
                  <a:pt x="15018" y="14034"/>
                </a:cubicBezTo>
                <a:cubicBezTo>
                  <a:pt x="15264" y="13995"/>
                  <a:pt x="15531" y="13978"/>
                  <a:pt x="15780" y="14002"/>
                </a:cubicBezTo>
                <a:cubicBezTo>
                  <a:pt x="16003" y="14024"/>
                  <a:pt x="16238" y="14113"/>
                  <a:pt x="16446" y="14192"/>
                </a:cubicBezTo>
                <a:cubicBezTo>
                  <a:pt x="16499" y="14213"/>
                  <a:pt x="16552" y="14235"/>
                  <a:pt x="1660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amar is breeding hopping ants in an ant farm.  Hopping ants quadruple every 3 months.  If Jamar initially had 10 ants, how many did he have after 3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4"/>
          <p:cNvSpPr/>
          <p:nvPr/>
        </p:nvSpPr>
        <p:spPr>
          <a:xfrm>
            <a:off x="1635120" y="2593800"/>
            <a:ext cx="1440000" cy="858960"/>
          </a:xfrm>
          <a:custGeom>
            <a:avLst/>
            <a:gdLst/>
            <a:ahLst/>
            <a:rect l="l" t="t" r="r" b="b"/>
            <a:pathLst>
              <a:path w="4002" h="2382">
                <a:moveTo>
                  <a:pt x="4826" y="7874"/>
                </a:moveTo>
                <a:cubicBezTo>
                  <a:pt x="4826" y="7976"/>
                  <a:pt x="4805" y="8062"/>
                  <a:pt x="4794" y="8160"/>
                </a:cubicBezTo>
                <a:cubicBezTo>
                  <a:pt x="4776" y="8320"/>
                  <a:pt x="4766" y="8478"/>
                  <a:pt x="4731" y="8636"/>
                </a:cubicBezTo>
                <a:cubicBezTo>
                  <a:pt x="4699" y="8780"/>
                  <a:pt x="4622" y="8935"/>
                  <a:pt x="4604" y="9080"/>
                </a:cubicBezTo>
                <a:cubicBezTo>
                  <a:pt x="4591" y="9185"/>
                  <a:pt x="4547" y="9298"/>
                  <a:pt x="4540" y="9398"/>
                </a:cubicBezTo>
                <a:cubicBezTo>
                  <a:pt x="4531" y="9535"/>
                  <a:pt x="4571" y="9407"/>
                  <a:pt x="4604" y="9366"/>
                </a:cubicBezTo>
              </a:path>
              <a:path w="4002" h="2382">
                <a:moveTo>
                  <a:pt x="5239" y="7938"/>
                </a:moveTo>
                <a:cubicBezTo>
                  <a:pt x="5195" y="8009"/>
                  <a:pt x="5144" y="8138"/>
                  <a:pt x="5112" y="8223"/>
                </a:cubicBezTo>
                <a:cubicBezTo>
                  <a:pt x="5053" y="8380"/>
                  <a:pt x="5029" y="8692"/>
                  <a:pt x="5048" y="8858"/>
                </a:cubicBezTo>
                <a:cubicBezTo>
                  <a:pt x="5066" y="9016"/>
                  <a:pt x="5139" y="9186"/>
                  <a:pt x="5239" y="9303"/>
                </a:cubicBezTo>
                <a:cubicBezTo>
                  <a:pt x="5349" y="9431"/>
                  <a:pt x="5434" y="9440"/>
                  <a:pt x="5556" y="9398"/>
                </a:cubicBezTo>
                <a:cubicBezTo>
                  <a:pt x="5741" y="9334"/>
                  <a:pt x="5767" y="9268"/>
                  <a:pt x="5842" y="9080"/>
                </a:cubicBezTo>
                <a:cubicBezTo>
                  <a:pt x="5903" y="8925"/>
                  <a:pt x="5898" y="8698"/>
                  <a:pt x="5842" y="8541"/>
                </a:cubicBezTo>
                <a:cubicBezTo>
                  <a:pt x="5787" y="8385"/>
                  <a:pt x="5618" y="8202"/>
                  <a:pt x="5493" y="8096"/>
                </a:cubicBezTo>
                <a:cubicBezTo>
                  <a:pt x="5391" y="8009"/>
                  <a:pt x="5278" y="7945"/>
                  <a:pt x="5144" y="7938"/>
                </a:cubicBezTo>
                <a:cubicBezTo>
                  <a:pt x="5070" y="7938"/>
                  <a:pt x="5048" y="7948"/>
                  <a:pt x="5080" y="8033"/>
                </a:cubicBezTo>
              </a:path>
              <a:path w="4002" h="2382">
                <a:moveTo>
                  <a:pt x="6191" y="8668"/>
                </a:moveTo>
                <a:cubicBezTo>
                  <a:pt x="6202" y="8679"/>
                  <a:pt x="6212" y="8689"/>
                  <a:pt x="6223" y="8700"/>
                </a:cubicBezTo>
              </a:path>
              <a:path w="4002" h="2382">
                <a:moveTo>
                  <a:pt x="6826" y="7779"/>
                </a:moveTo>
                <a:cubicBezTo>
                  <a:pt x="6826" y="7864"/>
                  <a:pt x="6814" y="7952"/>
                  <a:pt x="6794" y="8033"/>
                </a:cubicBezTo>
                <a:cubicBezTo>
                  <a:pt x="6760" y="8171"/>
                  <a:pt x="6748" y="8309"/>
                  <a:pt x="6699" y="8446"/>
                </a:cubicBezTo>
                <a:cubicBezTo>
                  <a:pt x="6670" y="8526"/>
                  <a:pt x="6645" y="8616"/>
                  <a:pt x="6636" y="8700"/>
                </a:cubicBezTo>
                <a:cubicBezTo>
                  <a:pt x="6636" y="8745"/>
                  <a:pt x="6630" y="8767"/>
                  <a:pt x="6604" y="8795"/>
                </a:cubicBezTo>
                <a:cubicBezTo>
                  <a:pt x="6684" y="8795"/>
                  <a:pt x="6719" y="8769"/>
                  <a:pt x="6794" y="8763"/>
                </a:cubicBezTo>
                <a:cubicBezTo>
                  <a:pt x="6885" y="8755"/>
                  <a:pt x="6972" y="8746"/>
                  <a:pt x="7048" y="8731"/>
                </a:cubicBezTo>
                <a:cubicBezTo>
                  <a:pt x="7161" y="8708"/>
                  <a:pt x="7306" y="8773"/>
                  <a:pt x="7398" y="8700"/>
                </a:cubicBezTo>
                <a:cubicBezTo>
                  <a:pt x="7436" y="8662"/>
                  <a:pt x="7451" y="8643"/>
                  <a:pt x="7461" y="8604"/>
                </a:cubicBezTo>
              </a:path>
              <a:path w="4002" h="2382">
                <a:moveTo>
                  <a:pt x="7334" y="7715"/>
                </a:moveTo>
                <a:cubicBezTo>
                  <a:pt x="7334" y="7810"/>
                  <a:pt x="7319" y="7909"/>
                  <a:pt x="7302" y="8001"/>
                </a:cubicBezTo>
                <a:cubicBezTo>
                  <a:pt x="7268" y="8187"/>
                  <a:pt x="7252" y="8384"/>
                  <a:pt x="7239" y="8572"/>
                </a:cubicBezTo>
                <a:cubicBezTo>
                  <a:pt x="7223" y="8805"/>
                  <a:pt x="7223" y="9039"/>
                  <a:pt x="7207" y="9271"/>
                </a:cubicBezTo>
                <a:cubicBezTo>
                  <a:pt x="7207" y="9420"/>
                  <a:pt x="7203" y="9484"/>
                  <a:pt x="7176" y="9588"/>
                </a:cubicBezTo>
              </a:path>
              <a:path w="4002" h="2382">
                <a:moveTo>
                  <a:pt x="7810" y="7207"/>
                </a:moveTo>
                <a:cubicBezTo>
                  <a:pt x="7785" y="7220"/>
                  <a:pt x="7810" y="7263"/>
                  <a:pt x="7810" y="7334"/>
                </a:cubicBezTo>
                <a:cubicBezTo>
                  <a:pt x="7810" y="7580"/>
                  <a:pt x="7815" y="7828"/>
                  <a:pt x="7779" y="8064"/>
                </a:cubicBezTo>
                <a:cubicBezTo>
                  <a:pt x="7771" y="8114"/>
                  <a:pt x="7779" y="8172"/>
                  <a:pt x="7779" y="8223"/>
                </a:cubicBezTo>
              </a:path>
              <a:path w="4002" h="2382">
                <a:moveTo>
                  <a:pt x="7969" y="7588"/>
                </a:moveTo>
                <a:cubicBezTo>
                  <a:pt x="7969" y="7501"/>
                  <a:pt x="7982" y="7441"/>
                  <a:pt x="8033" y="7366"/>
                </a:cubicBezTo>
                <a:cubicBezTo>
                  <a:pt x="8067" y="7316"/>
                  <a:pt x="8126" y="7265"/>
                  <a:pt x="8160" y="7239"/>
                </a:cubicBezTo>
                <a:cubicBezTo>
                  <a:pt x="8189" y="7210"/>
                  <a:pt x="8195" y="7200"/>
                  <a:pt x="8223" y="7207"/>
                </a:cubicBezTo>
                <a:cubicBezTo>
                  <a:pt x="8305" y="7308"/>
                  <a:pt x="8270" y="7319"/>
                  <a:pt x="8255" y="7430"/>
                </a:cubicBezTo>
                <a:cubicBezTo>
                  <a:pt x="8238" y="7559"/>
                  <a:pt x="8206" y="7656"/>
                  <a:pt x="8160" y="7779"/>
                </a:cubicBezTo>
                <a:cubicBezTo>
                  <a:pt x="8127" y="7866"/>
                  <a:pt x="8107" y="7961"/>
                  <a:pt x="8064" y="8033"/>
                </a:cubicBezTo>
                <a:cubicBezTo>
                  <a:pt x="8072" y="8001"/>
                  <a:pt x="8106" y="7915"/>
                  <a:pt x="8160" y="7938"/>
                </a:cubicBezTo>
                <a:cubicBezTo>
                  <a:pt x="8237" y="7971"/>
                  <a:pt x="8229" y="8043"/>
                  <a:pt x="8255" y="8096"/>
                </a:cubicBezTo>
                <a:cubicBezTo>
                  <a:pt x="8266" y="8107"/>
                  <a:pt x="8276" y="8117"/>
                  <a:pt x="8287" y="8128"/>
                </a:cubicBezTo>
                <a:cubicBezTo>
                  <a:pt x="8380" y="8128"/>
                  <a:pt x="8368" y="8076"/>
                  <a:pt x="8414" y="8001"/>
                </a:cubicBezTo>
                <a:cubicBezTo>
                  <a:pt x="8473" y="7903"/>
                  <a:pt x="8505" y="7823"/>
                  <a:pt x="8541" y="7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5"/>
          <p:cNvSpPr/>
          <p:nvPr/>
        </p:nvSpPr>
        <p:spPr>
          <a:xfrm>
            <a:off x="2011320" y="3817800"/>
            <a:ext cx="2778120" cy="1121040"/>
          </a:xfrm>
          <a:custGeom>
            <a:avLst/>
            <a:gdLst/>
            <a:ahLst/>
            <a:rect l="l" t="t" r="r" b="b"/>
            <a:pathLst>
              <a:path w="7716" h="3113">
                <a:moveTo>
                  <a:pt x="5810" y="10604"/>
                </a:moveTo>
                <a:cubicBezTo>
                  <a:pt x="5810" y="10747"/>
                  <a:pt x="5791" y="10880"/>
                  <a:pt x="5778" y="11017"/>
                </a:cubicBezTo>
                <a:cubicBezTo>
                  <a:pt x="5760" y="11209"/>
                  <a:pt x="5750" y="11398"/>
                  <a:pt x="5715" y="11589"/>
                </a:cubicBezTo>
                <a:cubicBezTo>
                  <a:pt x="5682" y="11767"/>
                  <a:pt x="5654" y="11953"/>
                  <a:pt x="5620" y="12128"/>
                </a:cubicBezTo>
                <a:cubicBezTo>
                  <a:pt x="5600" y="12229"/>
                  <a:pt x="5588" y="12310"/>
                  <a:pt x="5588" y="12414"/>
                </a:cubicBezTo>
                <a:cubicBezTo>
                  <a:pt x="5588" y="12521"/>
                  <a:pt x="5611" y="12448"/>
                  <a:pt x="5620" y="12382"/>
                </a:cubicBezTo>
              </a:path>
              <a:path w="7716" h="3113">
                <a:moveTo>
                  <a:pt x="6382" y="10700"/>
                </a:moveTo>
                <a:cubicBezTo>
                  <a:pt x="6349" y="10766"/>
                  <a:pt x="6289" y="10849"/>
                  <a:pt x="6255" y="10922"/>
                </a:cubicBezTo>
                <a:cubicBezTo>
                  <a:pt x="6192" y="11057"/>
                  <a:pt x="6174" y="11221"/>
                  <a:pt x="6160" y="11366"/>
                </a:cubicBezTo>
                <a:cubicBezTo>
                  <a:pt x="6145" y="11527"/>
                  <a:pt x="6128" y="11679"/>
                  <a:pt x="6128" y="11843"/>
                </a:cubicBezTo>
                <a:cubicBezTo>
                  <a:pt x="6128" y="11990"/>
                  <a:pt x="6127" y="12090"/>
                  <a:pt x="6191" y="12224"/>
                </a:cubicBezTo>
                <a:cubicBezTo>
                  <a:pt x="6222" y="12290"/>
                  <a:pt x="6256" y="12402"/>
                  <a:pt x="6318" y="12446"/>
                </a:cubicBezTo>
                <a:cubicBezTo>
                  <a:pt x="6392" y="12499"/>
                  <a:pt x="6435" y="12479"/>
                  <a:pt x="6509" y="12446"/>
                </a:cubicBezTo>
                <a:cubicBezTo>
                  <a:pt x="6621" y="12396"/>
                  <a:pt x="6672" y="12295"/>
                  <a:pt x="6731" y="12192"/>
                </a:cubicBezTo>
                <a:cubicBezTo>
                  <a:pt x="6774" y="12116"/>
                  <a:pt x="6810" y="12027"/>
                  <a:pt x="6794" y="11938"/>
                </a:cubicBezTo>
                <a:cubicBezTo>
                  <a:pt x="6783" y="11874"/>
                  <a:pt x="6698" y="11794"/>
                  <a:pt x="6636" y="11779"/>
                </a:cubicBezTo>
                <a:cubicBezTo>
                  <a:pt x="6574" y="11764"/>
                  <a:pt x="6492" y="11838"/>
                  <a:pt x="6445" y="11874"/>
                </a:cubicBezTo>
                <a:cubicBezTo>
                  <a:pt x="6369" y="11931"/>
                  <a:pt x="6375" y="12022"/>
                  <a:pt x="6350" y="12097"/>
                </a:cubicBezTo>
                <a:cubicBezTo>
                  <a:pt x="6319" y="12188"/>
                  <a:pt x="6318" y="12253"/>
                  <a:pt x="6318" y="12351"/>
                </a:cubicBezTo>
                <a:cubicBezTo>
                  <a:pt x="6318" y="12434"/>
                  <a:pt x="6344" y="12454"/>
                  <a:pt x="6414" y="12478"/>
                </a:cubicBezTo>
                <a:cubicBezTo>
                  <a:pt x="6424" y="12478"/>
                  <a:pt x="6435" y="12478"/>
                  <a:pt x="6445" y="12478"/>
                </a:cubicBezTo>
              </a:path>
              <a:path w="7716" h="3113">
                <a:moveTo>
                  <a:pt x="7144" y="10858"/>
                </a:moveTo>
                <a:cubicBezTo>
                  <a:pt x="7187" y="10839"/>
                  <a:pt x="7251" y="10806"/>
                  <a:pt x="7302" y="10795"/>
                </a:cubicBezTo>
                <a:cubicBezTo>
                  <a:pt x="7388" y="10776"/>
                  <a:pt x="7500" y="10768"/>
                  <a:pt x="7588" y="10763"/>
                </a:cubicBezTo>
                <a:cubicBezTo>
                  <a:pt x="7681" y="10758"/>
                  <a:pt x="7758" y="10757"/>
                  <a:pt x="7842" y="10795"/>
                </a:cubicBezTo>
                <a:cubicBezTo>
                  <a:pt x="7915" y="10828"/>
                  <a:pt x="7902" y="10835"/>
                  <a:pt x="7906" y="10922"/>
                </a:cubicBezTo>
                <a:cubicBezTo>
                  <a:pt x="7911" y="11020"/>
                  <a:pt x="7870" y="11145"/>
                  <a:pt x="7842" y="11240"/>
                </a:cubicBezTo>
                <a:cubicBezTo>
                  <a:pt x="7799" y="11383"/>
                  <a:pt x="7727" y="11510"/>
                  <a:pt x="7684" y="11652"/>
                </a:cubicBezTo>
                <a:cubicBezTo>
                  <a:pt x="7638" y="11803"/>
                  <a:pt x="7625" y="11947"/>
                  <a:pt x="7588" y="12097"/>
                </a:cubicBezTo>
                <a:cubicBezTo>
                  <a:pt x="7564" y="12196"/>
                  <a:pt x="7541" y="12326"/>
                  <a:pt x="7525" y="12414"/>
                </a:cubicBezTo>
                <a:cubicBezTo>
                  <a:pt x="7502" y="12542"/>
                  <a:pt x="7550" y="12456"/>
                  <a:pt x="7588" y="12446"/>
                </a:cubicBezTo>
              </a:path>
              <a:path w="7716" h="3113">
                <a:moveTo>
                  <a:pt x="8128" y="10827"/>
                </a:moveTo>
                <a:cubicBezTo>
                  <a:pt x="8231" y="10827"/>
                  <a:pt x="8318" y="10811"/>
                  <a:pt x="8414" y="10795"/>
                </a:cubicBezTo>
                <a:cubicBezTo>
                  <a:pt x="8510" y="10779"/>
                  <a:pt x="8582" y="10813"/>
                  <a:pt x="8668" y="10827"/>
                </a:cubicBezTo>
                <a:cubicBezTo>
                  <a:pt x="8713" y="10835"/>
                  <a:pt x="8835" y="10798"/>
                  <a:pt x="8858" y="10858"/>
                </a:cubicBezTo>
                <a:cubicBezTo>
                  <a:pt x="8872" y="10896"/>
                  <a:pt x="8837" y="10987"/>
                  <a:pt x="8826" y="11017"/>
                </a:cubicBezTo>
                <a:cubicBezTo>
                  <a:pt x="8789" y="11124"/>
                  <a:pt x="8769" y="11224"/>
                  <a:pt x="8731" y="11335"/>
                </a:cubicBezTo>
                <a:cubicBezTo>
                  <a:pt x="8687" y="11464"/>
                  <a:pt x="8620" y="11614"/>
                  <a:pt x="8604" y="11748"/>
                </a:cubicBezTo>
                <a:cubicBezTo>
                  <a:pt x="8586" y="11892"/>
                  <a:pt x="8530" y="12019"/>
                  <a:pt x="8509" y="12160"/>
                </a:cubicBezTo>
                <a:cubicBezTo>
                  <a:pt x="8499" y="12226"/>
                  <a:pt x="8459" y="12419"/>
                  <a:pt x="8477" y="12478"/>
                </a:cubicBezTo>
                <a:cubicBezTo>
                  <a:pt x="8498" y="12546"/>
                  <a:pt x="8520" y="12526"/>
                  <a:pt x="8572" y="12541"/>
                </a:cubicBezTo>
              </a:path>
              <a:path w="7716" h="3113">
                <a:moveTo>
                  <a:pt x="9239" y="11176"/>
                </a:moveTo>
                <a:cubicBezTo>
                  <a:pt x="9264" y="11094"/>
                  <a:pt x="9281" y="11025"/>
                  <a:pt x="9334" y="10954"/>
                </a:cubicBezTo>
                <a:cubicBezTo>
                  <a:pt x="9367" y="10910"/>
                  <a:pt x="9378" y="10861"/>
                  <a:pt x="9430" y="10827"/>
                </a:cubicBezTo>
                <a:cubicBezTo>
                  <a:pt x="9459" y="10809"/>
                  <a:pt x="9515" y="10785"/>
                  <a:pt x="9557" y="10795"/>
                </a:cubicBezTo>
                <a:cubicBezTo>
                  <a:pt x="9607" y="10807"/>
                  <a:pt x="9670" y="10869"/>
                  <a:pt x="9684" y="10922"/>
                </a:cubicBezTo>
                <a:cubicBezTo>
                  <a:pt x="9726" y="11079"/>
                  <a:pt x="9669" y="11278"/>
                  <a:pt x="9652" y="11430"/>
                </a:cubicBezTo>
                <a:cubicBezTo>
                  <a:pt x="9636" y="11573"/>
                  <a:pt x="9602" y="11704"/>
                  <a:pt x="9557" y="11843"/>
                </a:cubicBezTo>
                <a:cubicBezTo>
                  <a:pt x="9516" y="11972"/>
                  <a:pt x="9460" y="12073"/>
                  <a:pt x="9398" y="12192"/>
                </a:cubicBezTo>
                <a:cubicBezTo>
                  <a:pt x="9350" y="12283"/>
                  <a:pt x="9300" y="12365"/>
                  <a:pt x="9239" y="12446"/>
                </a:cubicBezTo>
                <a:cubicBezTo>
                  <a:pt x="9214" y="12479"/>
                  <a:pt x="9148" y="12563"/>
                  <a:pt x="9144" y="12573"/>
                </a:cubicBezTo>
                <a:cubicBezTo>
                  <a:pt x="9144" y="12584"/>
                  <a:pt x="9144" y="12594"/>
                  <a:pt x="9144" y="12605"/>
                </a:cubicBezTo>
                <a:cubicBezTo>
                  <a:pt x="9202" y="12633"/>
                  <a:pt x="9164" y="12614"/>
                  <a:pt x="9239" y="12605"/>
                </a:cubicBezTo>
                <a:cubicBezTo>
                  <a:pt x="9321" y="12596"/>
                  <a:pt x="9348" y="12559"/>
                  <a:pt x="9430" y="12541"/>
                </a:cubicBezTo>
                <a:cubicBezTo>
                  <a:pt x="9500" y="12525"/>
                  <a:pt x="9566" y="12544"/>
                  <a:pt x="9620" y="12573"/>
                </a:cubicBezTo>
                <a:cubicBezTo>
                  <a:pt x="9646" y="12587"/>
                  <a:pt x="9828" y="12669"/>
                  <a:pt x="9842" y="12668"/>
                </a:cubicBezTo>
                <a:cubicBezTo>
                  <a:pt x="9887" y="12665"/>
                  <a:pt x="9928" y="12629"/>
                  <a:pt x="9970" y="12605"/>
                </a:cubicBezTo>
              </a:path>
              <a:path w="7716" h="3113">
                <a:moveTo>
                  <a:pt x="6572" y="10827"/>
                </a:moveTo>
                <a:cubicBezTo>
                  <a:pt x="6623" y="10839"/>
                  <a:pt x="6653" y="10874"/>
                  <a:pt x="6699" y="10890"/>
                </a:cubicBezTo>
                <a:cubicBezTo>
                  <a:pt x="6755" y="10909"/>
                  <a:pt x="6830" y="10917"/>
                  <a:pt x="6890" y="10922"/>
                </a:cubicBezTo>
                <a:cubicBezTo>
                  <a:pt x="6967" y="10928"/>
                  <a:pt x="7007" y="10948"/>
                  <a:pt x="7080" y="10954"/>
                </a:cubicBezTo>
                <a:cubicBezTo>
                  <a:pt x="7114" y="10957"/>
                  <a:pt x="7172" y="10967"/>
                  <a:pt x="7176" y="10986"/>
                </a:cubicBezTo>
                <a:cubicBezTo>
                  <a:pt x="7195" y="11087"/>
                  <a:pt x="7158" y="11176"/>
                  <a:pt x="7144" y="11271"/>
                </a:cubicBezTo>
                <a:cubicBezTo>
                  <a:pt x="7128" y="11383"/>
                  <a:pt x="7097" y="11479"/>
                  <a:pt x="7080" y="11589"/>
                </a:cubicBezTo>
                <a:cubicBezTo>
                  <a:pt x="7058" y="11733"/>
                  <a:pt x="7031" y="11888"/>
                  <a:pt x="7017" y="12033"/>
                </a:cubicBezTo>
                <a:cubicBezTo>
                  <a:pt x="7007" y="12137"/>
                  <a:pt x="7017" y="12246"/>
                  <a:pt x="7017" y="12351"/>
                </a:cubicBezTo>
              </a:path>
              <a:path w="7716" h="3113">
                <a:moveTo>
                  <a:pt x="10604" y="10954"/>
                </a:moveTo>
                <a:cubicBezTo>
                  <a:pt x="10628" y="11025"/>
                  <a:pt x="10627" y="11055"/>
                  <a:pt x="10604" y="11144"/>
                </a:cubicBezTo>
                <a:cubicBezTo>
                  <a:pt x="10566" y="11291"/>
                  <a:pt x="10493" y="11436"/>
                  <a:pt x="10478" y="11589"/>
                </a:cubicBezTo>
                <a:cubicBezTo>
                  <a:pt x="10459" y="11790"/>
                  <a:pt x="10446" y="11989"/>
                  <a:pt x="10446" y="12192"/>
                </a:cubicBezTo>
                <a:cubicBezTo>
                  <a:pt x="10446" y="12376"/>
                  <a:pt x="10385" y="12695"/>
                  <a:pt x="10478" y="12859"/>
                </a:cubicBezTo>
                <a:cubicBezTo>
                  <a:pt x="10516" y="12926"/>
                  <a:pt x="10505" y="12854"/>
                  <a:pt x="10541" y="12827"/>
                </a:cubicBezTo>
              </a:path>
              <a:path w="7716" h="3113">
                <a:moveTo>
                  <a:pt x="11303" y="10986"/>
                </a:moveTo>
                <a:cubicBezTo>
                  <a:pt x="11294" y="11047"/>
                  <a:pt x="11287" y="11084"/>
                  <a:pt x="11271" y="11144"/>
                </a:cubicBezTo>
                <a:cubicBezTo>
                  <a:pt x="11237" y="11273"/>
                  <a:pt x="11162" y="11393"/>
                  <a:pt x="11144" y="11525"/>
                </a:cubicBezTo>
                <a:cubicBezTo>
                  <a:pt x="11116" y="11729"/>
                  <a:pt x="11081" y="11920"/>
                  <a:pt x="11081" y="12128"/>
                </a:cubicBezTo>
                <a:cubicBezTo>
                  <a:pt x="11081" y="12316"/>
                  <a:pt x="11103" y="12405"/>
                  <a:pt x="11176" y="12573"/>
                </a:cubicBezTo>
                <a:cubicBezTo>
                  <a:pt x="11232" y="12702"/>
                  <a:pt x="11293" y="12770"/>
                  <a:pt x="11430" y="12827"/>
                </a:cubicBezTo>
                <a:cubicBezTo>
                  <a:pt x="11524" y="12866"/>
                  <a:pt x="11658" y="12888"/>
                  <a:pt x="11748" y="12827"/>
                </a:cubicBezTo>
                <a:cubicBezTo>
                  <a:pt x="11845" y="12761"/>
                  <a:pt x="11914" y="12695"/>
                  <a:pt x="11938" y="12573"/>
                </a:cubicBezTo>
                <a:cubicBezTo>
                  <a:pt x="11954" y="12488"/>
                  <a:pt x="11934" y="12324"/>
                  <a:pt x="11874" y="12256"/>
                </a:cubicBezTo>
                <a:cubicBezTo>
                  <a:pt x="11824" y="12198"/>
                  <a:pt x="11725" y="12145"/>
                  <a:pt x="11652" y="12128"/>
                </a:cubicBezTo>
                <a:cubicBezTo>
                  <a:pt x="11522" y="12097"/>
                  <a:pt x="11475" y="12231"/>
                  <a:pt x="11430" y="12319"/>
                </a:cubicBezTo>
                <a:cubicBezTo>
                  <a:pt x="11371" y="12435"/>
                  <a:pt x="11366" y="12505"/>
                  <a:pt x="11366" y="12636"/>
                </a:cubicBezTo>
                <a:cubicBezTo>
                  <a:pt x="11366" y="12732"/>
                  <a:pt x="11362" y="12785"/>
                  <a:pt x="11430" y="12859"/>
                </a:cubicBezTo>
                <a:cubicBezTo>
                  <a:pt x="11475" y="12909"/>
                  <a:pt x="11492" y="12882"/>
                  <a:pt x="11557" y="12890"/>
                </a:cubicBezTo>
              </a:path>
              <a:path w="7716" h="3113">
                <a:moveTo>
                  <a:pt x="12700" y="11271"/>
                </a:moveTo>
                <a:cubicBezTo>
                  <a:pt x="12658" y="11251"/>
                  <a:pt x="12673" y="11235"/>
                  <a:pt x="12605" y="11303"/>
                </a:cubicBezTo>
                <a:cubicBezTo>
                  <a:pt x="12518" y="11390"/>
                  <a:pt x="12466" y="11481"/>
                  <a:pt x="12414" y="11589"/>
                </a:cubicBezTo>
                <a:cubicBezTo>
                  <a:pt x="12339" y="11744"/>
                  <a:pt x="12319" y="11833"/>
                  <a:pt x="12319" y="12002"/>
                </a:cubicBezTo>
                <a:cubicBezTo>
                  <a:pt x="12319" y="12137"/>
                  <a:pt x="12350" y="12291"/>
                  <a:pt x="12414" y="12414"/>
                </a:cubicBezTo>
                <a:cubicBezTo>
                  <a:pt x="12472" y="12526"/>
                  <a:pt x="12575" y="12638"/>
                  <a:pt x="12700" y="12668"/>
                </a:cubicBezTo>
                <a:cubicBezTo>
                  <a:pt x="12797" y="12691"/>
                  <a:pt x="12938" y="12664"/>
                  <a:pt x="13018" y="12605"/>
                </a:cubicBezTo>
                <a:cubicBezTo>
                  <a:pt x="13121" y="12529"/>
                  <a:pt x="13189" y="12400"/>
                  <a:pt x="13240" y="12287"/>
                </a:cubicBezTo>
                <a:cubicBezTo>
                  <a:pt x="13303" y="12146"/>
                  <a:pt x="13327" y="11963"/>
                  <a:pt x="13303" y="11811"/>
                </a:cubicBezTo>
                <a:cubicBezTo>
                  <a:pt x="13282" y="11680"/>
                  <a:pt x="13186" y="11513"/>
                  <a:pt x="13081" y="11430"/>
                </a:cubicBezTo>
                <a:cubicBezTo>
                  <a:pt x="13043" y="11400"/>
                  <a:pt x="12914" y="11331"/>
                  <a:pt x="12859" y="11366"/>
                </a:cubicBezTo>
                <a:cubicBezTo>
                  <a:pt x="12827" y="11430"/>
                  <a:pt x="12816" y="11451"/>
                  <a:pt x="12795" y="11494"/>
                </a:cubicBezTo>
              </a:path>
              <a:path w="7716" h="3113">
                <a:moveTo>
                  <a:pt x="10128" y="12446"/>
                </a:moveTo>
                <a:cubicBezTo>
                  <a:pt x="10143" y="12505"/>
                  <a:pt x="10142" y="12572"/>
                  <a:pt x="10160" y="12636"/>
                </a:cubicBezTo>
                <a:cubicBezTo>
                  <a:pt x="10194" y="12757"/>
                  <a:pt x="10220" y="12857"/>
                  <a:pt x="10224" y="12986"/>
                </a:cubicBezTo>
                <a:cubicBezTo>
                  <a:pt x="10229" y="13130"/>
                  <a:pt x="10206" y="13232"/>
                  <a:pt x="10160" y="13367"/>
                </a:cubicBezTo>
                <a:cubicBezTo>
                  <a:pt x="10112" y="13509"/>
                  <a:pt x="10025" y="13522"/>
                  <a:pt x="9938" y="13621"/>
                </a:cubicBezTo>
                <a:cubicBezTo>
                  <a:pt x="9885" y="13682"/>
                  <a:pt x="9841" y="13710"/>
                  <a:pt x="9747" y="13716"/>
                </a:cubicBezTo>
                <a:cubicBezTo>
                  <a:pt x="9683" y="13720"/>
                  <a:pt x="9636" y="13733"/>
                  <a:pt x="9620" y="13684"/>
                </a:cubicBezTo>
              </a:path>
              <a:path w="7716" h="3113">
                <a:moveTo>
                  <a:pt x="7207" y="12128"/>
                </a:moveTo>
                <a:cubicBezTo>
                  <a:pt x="7246" y="12193"/>
                  <a:pt x="7246" y="12248"/>
                  <a:pt x="7271" y="12319"/>
                </a:cubicBezTo>
                <a:cubicBezTo>
                  <a:pt x="7308" y="12426"/>
                  <a:pt x="7302" y="12521"/>
                  <a:pt x="7302" y="12636"/>
                </a:cubicBezTo>
                <a:cubicBezTo>
                  <a:pt x="7302" y="12770"/>
                  <a:pt x="7309" y="12889"/>
                  <a:pt x="7271" y="13018"/>
                </a:cubicBezTo>
                <a:cubicBezTo>
                  <a:pt x="7232" y="13149"/>
                  <a:pt x="7170" y="13224"/>
                  <a:pt x="7112" y="13335"/>
                </a:cubicBezTo>
                <a:cubicBezTo>
                  <a:pt x="7055" y="13443"/>
                  <a:pt x="7033" y="13498"/>
                  <a:pt x="6922" y="13557"/>
                </a:cubicBezTo>
                <a:cubicBezTo>
                  <a:pt x="6874" y="13582"/>
                  <a:pt x="6800" y="13624"/>
                  <a:pt x="6763" y="13652"/>
                </a:cubicBezTo>
                <a:cubicBezTo>
                  <a:pt x="6687" y="13709"/>
                  <a:pt x="6737" y="13671"/>
                  <a:pt x="6699" y="13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5108400" y="4091040"/>
            <a:ext cx="1041480" cy="458640"/>
          </a:xfrm>
          <a:custGeom>
            <a:avLst/>
            <a:gdLst/>
            <a:ahLst/>
            <a:rect l="l" t="t" r="r" b="b"/>
            <a:pathLst>
              <a:path w="2891" h="1271">
                <a:moveTo>
                  <a:pt x="14827" y="11874"/>
                </a:moveTo>
                <a:cubicBezTo>
                  <a:pt x="14797" y="11804"/>
                  <a:pt x="14800" y="11744"/>
                  <a:pt x="14764" y="11684"/>
                </a:cubicBezTo>
                <a:cubicBezTo>
                  <a:pt x="14704" y="11684"/>
                  <a:pt x="14658" y="11675"/>
                  <a:pt x="14605" y="11716"/>
                </a:cubicBezTo>
                <a:cubicBezTo>
                  <a:pt x="14496" y="11800"/>
                  <a:pt x="14426" y="11952"/>
                  <a:pt x="14351" y="12065"/>
                </a:cubicBezTo>
                <a:cubicBezTo>
                  <a:pt x="14260" y="12202"/>
                  <a:pt x="14199" y="12315"/>
                  <a:pt x="14192" y="12478"/>
                </a:cubicBezTo>
                <a:cubicBezTo>
                  <a:pt x="14189" y="12535"/>
                  <a:pt x="14240" y="12640"/>
                  <a:pt x="14319" y="12636"/>
                </a:cubicBezTo>
                <a:cubicBezTo>
                  <a:pt x="14427" y="12630"/>
                  <a:pt x="14556" y="12457"/>
                  <a:pt x="14605" y="12382"/>
                </a:cubicBezTo>
                <a:cubicBezTo>
                  <a:pt x="14678" y="12271"/>
                  <a:pt x="14787" y="12096"/>
                  <a:pt x="14827" y="11970"/>
                </a:cubicBezTo>
                <a:cubicBezTo>
                  <a:pt x="14853" y="11887"/>
                  <a:pt x="14843" y="11859"/>
                  <a:pt x="14827" y="11811"/>
                </a:cubicBezTo>
                <a:cubicBezTo>
                  <a:pt x="14809" y="11906"/>
                  <a:pt x="14768" y="11963"/>
                  <a:pt x="14764" y="12065"/>
                </a:cubicBezTo>
                <a:cubicBezTo>
                  <a:pt x="14759" y="12193"/>
                  <a:pt x="14737" y="12257"/>
                  <a:pt x="14764" y="12382"/>
                </a:cubicBezTo>
                <a:cubicBezTo>
                  <a:pt x="14773" y="12426"/>
                  <a:pt x="14789" y="12517"/>
                  <a:pt x="14859" y="12478"/>
                </a:cubicBezTo>
                <a:cubicBezTo>
                  <a:pt x="14897" y="12440"/>
                  <a:pt x="14912" y="12421"/>
                  <a:pt x="14922" y="12382"/>
                </a:cubicBezTo>
              </a:path>
              <a:path w="2891" h="1271">
                <a:moveTo>
                  <a:pt x="15208" y="11779"/>
                </a:moveTo>
                <a:cubicBezTo>
                  <a:pt x="15208" y="12012"/>
                  <a:pt x="15208" y="12647"/>
                  <a:pt x="15208" y="12414"/>
                </a:cubicBezTo>
                <a:cubicBezTo>
                  <a:pt x="15208" y="12309"/>
                  <a:pt x="15214" y="12230"/>
                  <a:pt x="15240" y="12128"/>
                </a:cubicBezTo>
                <a:cubicBezTo>
                  <a:pt x="15276" y="11986"/>
                  <a:pt x="15318" y="11822"/>
                  <a:pt x="15430" y="11716"/>
                </a:cubicBezTo>
                <a:cubicBezTo>
                  <a:pt x="15470" y="11679"/>
                  <a:pt x="15562" y="11627"/>
                  <a:pt x="15621" y="11652"/>
                </a:cubicBezTo>
                <a:cubicBezTo>
                  <a:pt x="15703" y="11686"/>
                  <a:pt x="15713" y="11839"/>
                  <a:pt x="15716" y="11906"/>
                </a:cubicBezTo>
                <a:cubicBezTo>
                  <a:pt x="15721" y="12037"/>
                  <a:pt x="15748" y="12153"/>
                  <a:pt x="15748" y="12287"/>
                </a:cubicBezTo>
                <a:cubicBezTo>
                  <a:pt x="15748" y="12364"/>
                  <a:pt x="15772" y="12475"/>
                  <a:pt x="15812" y="12541"/>
                </a:cubicBezTo>
                <a:cubicBezTo>
                  <a:pt x="15832" y="12574"/>
                  <a:pt x="15936" y="12597"/>
                  <a:pt x="15970" y="12573"/>
                </a:cubicBezTo>
                <a:cubicBezTo>
                  <a:pt x="16099" y="12482"/>
                  <a:pt x="16089" y="12331"/>
                  <a:pt x="16097" y="12192"/>
                </a:cubicBezTo>
              </a:path>
              <a:path w="2891" h="1271">
                <a:moveTo>
                  <a:pt x="16224" y="11398"/>
                </a:moveTo>
                <a:cubicBezTo>
                  <a:pt x="16213" y="11387"/>
                  <a:pt x="16203" y="11377"/>
                  <a:pt x="16192" y="11366"/>
                </a:cubicBezTo>
                <a:cubicBezTo>
                  <a:pt x="16192" y="11592"/>
                  <a:pt x="16209" y="11810"/>
                  <a:pt x="16224" y="12033"/>
                </a:cubicBezTo>
                <a:cubicBezTo>
                  <a:pt x="16236" y="12207"/>
                  <a:pt x="16266" y="12371"/>
                  <a:pt x="16288" y="12541"/>
                </a:cubicBezTo>
                <a:cubicBezTo>
                  <a:pt x="16288" y="12562"/>
                  <a:pt x="16288" y="12584"/>
                  <a:pt x="16288" y="12605"/>
                </a:cubicBezTo>
              </a:path>
              <a:path w="2891" h="1271">
                <a:moveTo>
                  <a:pt x="15970" y="11970"/>
                </a:moveTo>
                <a:cubicBezTo>
                  <a:pt x="16004" y="11919"/>
                  <a:pt x="16109" y="11909"/>
                  <a:pt x="16192" y="11906"/>
                </a:cubicBezTo>
                <a:cubicBezTo>
                  <a:pt x="16323" y="11902"/>
                  <a:pt x="16415" y="11912"/>
                  <a:pt x="16542" y="11938"/>
                </a:cubicBezTo>
              </a:path>
              <a:path w="2891" h="1271">
                <a:moveTo>
                  <a:pt x="17050" y="11779"/>
                </a:moveTo>
                <a:cubicBezTo>
                  <a:pt x="17050" y="11730"/>
                  <a:pt x="17042" y="11696"/>
                  <a:pt x="16986" y="11684"/>
                </a:cubicBezTo>
                <a:cubicBezTo>
                  <a:pt x="16907" y="11667"/>
                  <a:pt x="16759" y="11668"/>
                  <a:pt x="16700" y="11716"/>
                </a:cubicBezTo>
                <a:cubicBezTo>
                  <a:pt x="16644" y="11761"/>
                  <a:pt x="16661" y="11852"/>
                  <a:pt x="16700" y="11906"/>
                </a:cubicBezTo>
                <a:cubicBezTo>
                  <a:pt x="16770" y="12003"/>
                  <a:pt x="16876" y="12101"/>
                  <a:pt x="16954" y="12192"/>
                </a:cubicBezTo>
                <a:cubicBezTo>
                  <a:pt x="17012" y="12260"/>
                  <a:pt x="17105" y="12377"/>
                  <a:pt x="17082" y="12478"/>
                </a:cubicBezTo>
                <a:cubicBezTo>
                  <a:pt x="17059" y="12580"/>
                  <a:pt x="16995" y="12580"/>
                  <a:pt x="16923" y="12605"/>
                </a:cubicBezTo>
                <a:cubicBezTo>
                  <a:pt x="16842" y="12633"/>
                  <a:pt x="16788" y="12636"/>
                  <a:pt x="16700" y="12636"/>
                </a:cubicBezTo>
                <a:cubicBezTo>
                  <a:pt x="16690" y="12636"/>
                  <a:pt x="16679" y="12636"/>
                  <a:pt x="16669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5851440" y="2422440"/>
            <a:ext cx="2617920" cy="1327320"/>
          </a:xfrm>
          <a:custGeom>
            <a:avLst/>
            <a:gdLst/>
            <a:ahLst/>
            <a:rect l="l" t="t" r="r" b="b"/>
            <a:pathLst>
              <a:path w="7272" h="3684">
                <a:moveTo>
                  <a:pt x="16320" y="6763"/>
                </a:moveTo>
                <a:cubicBezTo>
                  <a:pt x="16351" y="6742"/>
                  <a:pt x="16390" y="6780"/>
                  <a:pt x="16383" y="6858"/>
                </a:cubicBezTo>
                <a:cubicBezTo>
                  <a:pt x="16369" y="7013"/>
                  <a:pt x="16333" y="7177"/>
                  <a:pt x="16320" y="7334"/>
                </a:cubicBezTo>
                <a:cubicBezTo>
                  <a:pt x="16305" y="7513"/>
                  <a:pt x="16294" y="7695"/>
                  <a:pt x="16288" y="7874"/>
                </a:cubicBezTo>
                <a:cubicBezTo>
                  <a:pt x="16284" y="7996"/>
                  <a:pt x="16265" y="8104"/>
                  <a:pt x="16256" y="8223"/>
                </a:cubicBezTo>
                <a:cubicBezTo>
                  <a:pt x="16255" y="8234"/>
                  <a:pt x="16256" y="8340"/>
                  <a:pt x="16256" y="8255"/>
                </a:cubicBezTo>
              </a:path>
              <a:path w="7272" h="3684">
                <a:moveTo>
                  <a:pt x="16510" y="7239"/>
                </a:moveTo>
                <a:cubicBezTo>
                  <a:pt x="16553" y="7137"/>
                  <a:pt x="16600" y="7011"/>
                  <a:pt x="16669" y="6922"/>
                </a:cubicBezTo>
                <a:cubicBezTo>
                  <a:pt x="16692" y="6892"/>
                  <a:pt x="16819" y="6760"/>
                  <a:pt x="16859" y="6763"/>
                </a:cubicBezTo>
                <a:cubicBezTo>
                  <a:pt x="16917" y="6767"/>
                  <a:pt x="16972" y="6832"/>
                  <a:pt x="16986" y="6890"/>
                </a:cubicBezTo>
                <a:cubicBezTo>
                  <a:pt x="17014" y="7009"/>
                  <a:pt x="16991" y="7188"/>
                  <a:pt x="16954" y="7302"/>
                </a:cubicBezTo>
                <a:cubicBezTo>
                  <a:pt x="16892" y="7493"/>
                  <a:pt x="16824" y="7682"/>
                  <a:pt x="16764" y="7874"/>
                </a:cubicBezTo>
                <a:cubicBezTo>
                  <a:pt x="16734" y="7970"/>
                  <a:pt x="16700" y="8065"/>
                  <a:pt x="16669" y="8160"/>
                </a:cubicBezTo>
                <a:cubicBezTo>
                  <a:pt x="16689" y="8098"/>
                  <a:pt x="16672" y="8092"/>
                  <a:pt x="16700" y="8033"/>
                </a:cubicBezTo>
                <a:cubicBezTo>
                  <a:pt x="16721" y="7987"/>
                  <a:pt x="16765" y="7987"/>
                  <a:pt x="16796" y="7969"/>
                </a:cubicBezTo>
                <a:cubicBezTo>
                  <a:pt x="16808" y="7981"/>
                  <a:pt x="16901" y="8086"/>
                  <a:pt x="16923" y="8096"/>
                </a:cubicBezTo>
                <a:cubicBezTo>
                  <a:pt x="16973" y="8118"/>
                  <a:pt x="17056" y="8148"/>
                  <a:pt x="17113" y="8160"/>
                </a:cubicBezTo>
                <a:cubicBezTo>
                  <a:pt x="17260" y="8190"/>
                  <a:pt x="17276" y="8053"/>
                  <a:pt x="17336" y="7969"/>
                </a:cubicBezTo>
                <a:cubicBezTo>
                  <a:pt x="17412" y="7863"/>
                  <a:pt x="17430" y="7784"/>
                  <a:pt x="17462" y="7652"/>
                </a:cubicBezTo>
              </a:path>
              <a:path w="7272" h="3684">
                <a:moveTo>
                  <a:pt x="16637" y="9144"/>
                </a:moveTo>
                <a:cubicBezTo>
                  <a:pt x="16662" y="9110"/>
                  <a:pt x="16718" y="9073"/>
                  <a:pt x="16764" y="9017"/>
                </a:cubicBezTo>
                <a:cubicBezTo>
                  <a:pt x="16865" y="8895"/>
                  <a:pt x="16970" y="8784"/>
                  <a:pt x="17082" y="8668"/>
                </a:cubicBezTo>
                <a:cubicBezTo>
                  <a:pt x="17241" y="8504"/>
                  <a:pt x="17394" y="8352"/>
                  <a:pt x="17558" y="8192"/>
                </a:cubicBezTo>
                <a:cubicBezTo>
                  <a:pt x="17710" y="8044"/>
                  <a:pt x="17877" y="7920"/>
                  <a:pt x="18034" y="7779"/>
                </a:cubicBezTo>
                <a:cubicBezTo>
                  <a:pt x="18118" y="7703"/>
                  <a:pt x="18195" y="7648"/>
                  <a:pt x="18288" y="7588"/>
                </a:cubicBezTo>
              </a:path>
              <a:path w="7272" h="3684">
                <a:moveTo>
                  <a:pt x="17685" y="8826"/>
                </a:moveTo>
                <a:cubicBezTo>
                  <a:pt x="17685" y="8759"/>
                  <a:pt x="17710" y="8736"/>
                  <a:pt x="17716" y="8668"/>
                </a:cubicBezTo>
                <a:cubicBezTo>
                  <a:pt x="17720" y="8620"/>
                  <a:pt x="17772" y="8508"/>
                  <a:pt x="17812" y="8477"/>
                </a:cubicBezTo>
                <a:cubicBezTo>
                  <a:pt x="17839" y="8456"/>
                  <a:pt x="17958" y="8487"/>
                  <a:pt x="17970" y="8509"/>
                </a:cubicBezTo>
                <a:cubicBezTo>
                  <a:pt x="18021" y="8604"/>
                  <a:pt x="17982" y="8704"/>
                  <a:pt x="17970" y="8795"/>
                </a:cubicBezTo>
                <a:cubicBezTo>
                  <a:pt x="17955" y="8912"/>
                  <a:pt x="17928" y="8973"/>
                  <a:pt x="17875" y="9080"/>
                </a:cubicBezTo>
                <a:cubicBezTo>
                  <a:pt x="17850" y="9132"/>
                  <a:pt x="17852" y="9154"/>
                  <a:pt x="17812" y="9144"/>
                </a:cubicBezTo>
                <a:cubicBezTo>
                  <a:pt x="17867" y="9061"/>
                  <a:pt x="17867" y="9080"/>
                  <a:pt x="17970" y="9080"/>
                </a:cubicBezTo>
                <a:cubicBezTo>
                  <a:pt x="18016" y="9080"/>
                  <a:pt x="18088" y="9251"/>
                  <a:pt x="18098" y="9303"/>
                </a:cubicBezTo>
                <a:cubicBezTo>
                  <a:pt x="18121" y="9415"/>
                  <a:pt x="18098" y="9546"/>
                  <a:pt x="18066" y="9652"/>
                </a:cubicBezTo>
                <a:cubicBezTo>
                  <a:pt x="18031" y="9768"/>
                  <a:pt x="17973" y="9877"/>
                  <a:pt x="17844" y="9906"/>
                </a:cubicBezTo>
                <a:cubicBezTo>
                  <a:pt x="17708" y="9937"/>
                  <a:pt x="17656" y="9853"/>
                  <a:pt x="17590" y="9747"/>
                </a:cubicBezTo>
                <a:cubicBezTo>
                  <a:pt x="17549" y="9681"/>
                  <a:pt x="17558" y="9631"/>
                  <a:pt x="17558" y="9557"/>
                </a:cubicBezTo>
              </a:path>
              <a:path w="7272" h="3684">
                <a:moveTo>
                  <a:pt x="18606" y="8890"/>
                </a:moveTo>
                <a:cubicBezTo>
                  <a:pt x="18646" y="8880"/>
                  <a:pt x="18691" y="8873"/>
                  <a:pt x="18732" y="8858"/>
                </a:cubicBezTo>
                <a:cubicBezTo>
                  <a:pt x="18815" y="8828"/>
                  <a:pt x="18867" y="8826"/>
                  <a:pt x="18955" y="8826"/>
                </a:cubicBezTo>
                <a:cubicBezTo>
                  <a:pt x="18965" y="8826"/>
                  <a:pt x="18976" y="8826"/>
                  <a:pt x="18986" y="8826"/>
                </a:cubicBezTo>
              </a:path>
              <a:path w="7272" h="3684">
                <a:moveTo>
                  <a:pt x="18669" y="9366"/>
                </a:moveTo>
                <a:cubicBezTo>
                  <a:pt x="18744" y="9423"/>
                  <a:pt x="18725" y="9381"/>
                  <a:pt x="18796" y="9366"/>
                </a:cubicBezTo>
                <a:cubicBezTo>
                  <a:pt x="18862" y="9352"/>
                  <a:pt x="18951" y="9366"/>
                  <a:pt x="19018" y="9366"/>
                </a:cubicBezTo>
              </a:path>
              <a:path w="7272" h="3684">
                <a:moveTo>
                  <a:pt x="19336" y="8382"/>
                </a:moveTo>
                <a:cubicBezTo>
                  <a:pt x="19359" y="8499"/>
                  <a:pt x="19349" y="8548"/>
                  <a:pt x="19336" y="8668"/>
                </a:cubicBezTo>
                <a:cubicBezTo>
                  <a:pt x="19316" y="8850"/>
                  <a:pt x="19332" y="9033"/>
                  <a:pt x="19304" y="9208"/>
                </a:cubicBezTo>
                <a:cubicBezTo>
                  <a:pt x="19286" y="9322"/>
                  <a:pt x="19289" y="9291"/>
                  <a:pt x="19336" y="9239"/>
                </a:cubicBezTo>
                <a:cubicBezTo>
                  <a:pt x="19365" y="9206"/>
                  <a:pt x="19422" y="9181"/>
                  <a:pt x="19463" y="9176"/>
                </a:cubicBezTo>
                <a:cubicBezTo>
                  <a:pt x="19559" y="9165"/>
                  <a:pt x="19569" y="9212"/>
                  <a:pt x="19653" y="9239"/>
                </a:cubicBezTo>
                <a:cubicBezTo>
                  <a:pt x="19669" y="9244"/>
                  <a:pt x="19806" y="9304"/>
                  <a:pt x="19812" y="9303"/>
                </a:cubicBezTo>
                <a:cubicBezTo>
                  <a:pt x="19875" y="9289"/>
                  <a:pt x="19905" y="9191"/>
                  <a:pt x="19907" y="9144"/>
                </a:cubicBezTo>
                <a:cubicBezTo>
                  <a:pt x="19907" y="9038"/>
                  <a:pt x="19907" y="8996"/>
                  <a:pt x="19907" y="8922"/>
                </a:cubicBezTo>
              </a:path>
              <a:path w="7272" h="3684">
                <a:moveTo>
                  <a:pt x="19748" y="8128"/>
                </a:moveTo>
                <a:cubicBezTo>
                  <a:pt x="19731" y="8290"/>
                  <a:pt x="19739" y="8407"/>
                  <a:pt x="19748" y="8572"/>
                </a:cubicBezTo>
                <a:cubicBezTo>
                  <a:pt x="19769" y="8953"/>
                  <a:pt x="19800" y="9337"/>
                  <a:pt x="19844" y="9716"/>
                </a:cubicBezTo>
                <a:cubicBezTo>
                  <a:pt x="19872" y="9953"/>
                  <a:pt x="19876" y="10176"/>
                  <a:pt x="19876" y="10414"/>
                </a:cubicBezTo>
              </a:path>
              <a:path w="7272" h="3684">
                <a:moveTo>
                  <a:pt x="20161" y="9208"/>
                </a:moveTo>
                <a:lnTo>
                  <a:pt x="20161" y="9208"/>
                </a:lnTo>
              </a:path>
              <a:path w="7272" h="3684">
                <a:moveTo>
                  <a:pt x="20161" y="9208"/>
                </a:moveTo>
                <a:cubicBezTo>
                  <a:pt x="20161" y="9229"/>
                  <a:pt x="20161" y="9250"/>
                  <a:pt x="20161" y="9271"/>
                </a:cubicBezTo>
              </a:path>
              <a:path w="7272" h="3684">
                <a:moveTo>
                  <a:pt x="20161" y="9271"/>
                </a:moveTo>
                <a:cubicBezTo>
                  <a:pt x="20209" y="9255"/>
                  <a:pt x="20193" y="9233"/>
                  <a:pt x="20193" y="9176"/>
                </a:cubicBezTo>
                <a:cubicBezTo>
                  <a:pt x="20193" y="9165"/>
                  <a:pt x="20193" y="9155"/>
                  <a:pt x="20193" y="9144"/>
                </a:cubicBezTo>
                <a:cubicBezTo>
                  <a:pt x="20145" y="9160"/>
                  <a:pt x="20161" y="9182"/>
                  <a:pt x="20161" y="9239"/>
                </a:cubicBezTo>
                <a:cubicBezTo>
                  <a:pt x="20161" y="9271"/>
                  <a:pt x="20161" y="9302"/>
                  <a:pt x="20161" y="9334"/>
                </a:cubicBezTo>
              </a:path>
              <a:path w="7272" h="3684">
                <a:moveTo>
                  <a:pt x="20638" y="8763"/>
                </a:moveTo>
                <a:cubicBezTo>
                  <a:pt x="20663" y="8712"/>
                  <a:pt x="20701" y="8658"/>
                  <a:pt x="20733" y="8604"/>
                </a:cubicBezTo>
                <a:cubicBezTo>
                  <a:pt x="20791" y="8506"/>
                  <a:pt x="20811" y="8493"/>
                  <a:pt x="20892" y="8446"/>
                </a:cubicBezTo>
                <a:cubicBezTo>
                  <a:pt x="20961" y="8406"/>
                  <a:pt x="20980" y="8469"/>
                  <a:pt x="21018" y="8541"/>
                </a:cubicBezTo>
                <a:cubicBezTo>
                  <a:pt x="21071" y="8640"/>
                  <a:pt x="21070" y="8811"/>
                  <a:pt x="21050" y="8922"/>
                </a:cubicBezTo>
                <a:cubicBezTo>
                  <a:pt x="21031" y="9029"/>
                  <a:pt x="20943" y="9202"/>
                  <a:pt x="20892" y="9303"/>
                </a:cubicBezTo>
                <a:cubicBezTo>
                  <a:pt x="20860" y="9334"/>
                  <a:pt x="20849" y="9345"/>
                  <a:pt x="20828" y="9366"/>
                </a:cubicBezTo>
                <a:cubicBezTo>
                  <a:pt x="20846" y="9335"/>
                  <a:pt x="20874" y="9253"/>
                  <a:pt x="20923" y="9239"/>
                </a:cubicBezTo>
                <a:cubicBezTo>
                  <a:pt x="21009" y="9214"/>
                  <a:pt x="21035" y="9212"/>
                  <a:pt x="21114" y="9271"/>
                </a:cubicBezTo>
                <a:cubicBezTo>
                  <a:pt x="21214" y="9346"/>
                  <a:pt x="21190" y="9483"/>
                  <a:pt x="21209" y="9588"/>
                </a:cubicBezTo>
                <a:cubicBezTo>
                  <a:pt x="21244" y="9779"/>
                  <a:pt x="21203" y="9893"/>
                  <a:pt x="21146" y="10065"/>
                </a:cubicBezTo>
                <a:cubicBezTo>
                  <a:pt x="21118" y="10149"/>
                  <a:pt x="21096" y="10314"/>
                  <a:pt x="20987" y="10350"/>
                </a:cubicBezTo>
                <a:cubicBezTo>
                  <a:pt x="20909" y="10376"/>
                  <a:pt x="20829" y="10319"/>
                  <a:pt x="20764" y="10287"/>
                </a:cubicBezTo>
              </a:path>
              <a:path w="7272" h="3684">
                <a:moveTo>
                  <a:pt x="21526" y="9334"/>
                </a:moveTo>
                <a:cubicBezTo>
                  <a:pt x="21473" y="9334"/>
                  <a:pt x="21571" y="9349"/>
                  <a:pt x="21622" y="9334"/>
                </a:cubicBezTo>
                <a:cubicBezTo>
                  <a:pt x="21717" y="9307"/>
                  <a:pt x="21815" y="9328"/>
                  <a:pt x="21908" y="9303"/>
                </a:cubicBezTo>
                <a:cubicBezTo>
                  <a:pt x="21973" y="9286"/>
                  <a:pt x="21972" y="9271"/>
                  <a:pt x="22034" y="9271"/>
                </a:cubicBezTo>
              </a:path>
              <a:path w="7272" h="3684">
                <a:moveTo>
                  <a:pt x="21558" y="9747"/>
                </a:moveTo>
                <a:cubicBezTo>
                  <a:pt x="21652" y="9747"/>
                  <a:pt x="21726" y="9754"/>
                  <a:pt x="21812" y="9716"/>
                </a:cubicBezTo>
                <a:cubicBezTo>
                  <a:pt x="21898" y="9678"/>
                  <a:pt x="21982" y="9631"/>
                  <a:pt x="22066" y="9588"/>
                </a:cubicBezTo>
              </a:path>
              <a:path w="7272" h="3684">
                <a:moveTo>
                  <a:pt x="22511" y="8446"/>
                </a:moveTo>
                <a:cubicBezTo>
                  <a:pt x="22459" y="8463"/>
                  <a:pt x="22479" y="8507"/>
                  <a:pt x="22479" y="8572"/>
                </a:cubicBezTo>
                <a:cubicBezTo>
                  <a:pt x="22479" y="8742"/>
                  <a:pt x="22447" y="8907"/>
                  <a:pt x="22447" y="9080"/>
                </a:cubicBezTo>
                <a:cubicBezTo>
                  <a:pt x="22447" y="9440"/>
                  <a:pt x="22447" y="9800"/>
                  <a:pt x="22447" y="10160"/>
                </a:cubicBezTo>
              </a:path>
              <a:path w="7272" h="3684">
                <a:moveTo>
                  <a:pt x="22670" y="9017"/>
                </a:moveTo>
                <a:cubicBezTo>
                  <a:pt x="22704" y="8913"/>
                  <a:pt x="22735" y="8760"/>
                  <a:pt x="22796" y="8668"/>
                </a:cubicBezTo>
                <a:cubicBezTo>
                  <a:pt x="22839" y="8603"/>
                  <a:pt x="22898" y="8533"/>
                  <a:pt x="22955" y="8477"/>
                </a:cubicBezTo>
                <a:cubicBezTo>
                  <a:pt x="22966" y="8467"/>
                  <a:pt x="22976" y="8456"/>
                  <a:pt x="22987" y="8446"/>
                </a:cubicBezTo>
                <a:cubicBezTo>
                  <a:pt x="23054" y="8512"/>
                  <a:pt x="23069" y="8566"/>
                  <a:pt x="23050" y="8668"/>
                </a:cubicBezTo>
                <a:cubicBezTo>
                  <a:pt x="23018" y="8837"/>
                  <a:pt x="22994" y="9005"/>
                  <a:pt x="22955" y="9176"/>
                </a:cubicBezTo>
                <a:cubicBezTo>
                  <a:pt x="22916" y="9347"/>
                  <a:pt x="22892" y="9515"/>
                  <a:pt x="22860" y="9684"/>
                </a:cubicBezTo>
                <a:cubicBezTo>
                  <a:pt x="22842" y="9777"/>
                  <a:pt x="22834" y="9918"/>
                  <a:pt x="22796" y="10001"/>
                </a:cubicBezTo>
                <a:cubicBezTo>
                  <a:pt x="22769" y="10060"/>
                  <a:pt x="22796" y="10022"/>
                  <a:pt x="22796" y="10033"/>
                </a:cubicBezTo>
                <a:cubicBezTo>
                  <a:pt x="22796" y="9961"/>
                  <a:pt x="22785" y="9928"/>
                  <a:pt x="22828" y="9874"/>
                </a:cubicBezTo>
                <a:cubicBezTo>
                  <a:pt x="22856" y="9840"/>
                  <a:pt x="22911" y="9828"/>
                  <a:pt x="22955" y="9842"/>
                </a:cubicBezTo>
                <a:cubicBezTo>
                  <a:pt x="23022" y="9863"/>
                  <a:pt x="23072" y="9952"/>
                  <a:pt x="23146" y="9970"/>
                </a:cubicBezTo>
                <a:cubicBezTo>
                  <a:pt x="23211" y="9986"/>
                  <a:pt x="23323" y="9954"/>
                  <a:pt x="23368" y="9906"/>
                </a:cubicBezTo>
                <a:cubicBezTo>
                  <a:pt x="23452" y="9815"/>
                  <a:pt x="23489" y="9637"/>
                  <a:pt x="23527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25:29Z</dcterms:created>
  <dc:creator>Sharon Fieldman</dc:creator>
  <dc:description/>
  <dc:language>en-US</dc:language>
  <cp:lastModifiedBy>njamison</cp:lastModifiedBy>
  <dcterms:modified xsi:type="dcterms:W3CDTF">2011-05-25T16:01:31Z</dcterms:modified>
  <cp:revision>12</cp:revision>
  <dc:subject/>
  <dc:title>Goal 4.04: Exponential Functions</dc:title>
</cp:coreProperties>
</file>